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0.png" ContentType="image/png"/>
  <Override PartName="/ppt/media/image9.png" ContentType="image/png"/>
  <Override PartName="/ppt/media/image13.png" ContentType="image/png"/>
  <Override PartName="/ppt/media/image7.wmf" ContentType="image/x-wmf"/>
  <Override PartName="/ppt/media/image6.png" ContentType="image/png"/>
  <Override PartName="/ppt/media/image11.gif" ContentType="image/gif"/>
  <Override PartName="/ppt/media/image19.gif" ContentType="image/gif"/>
  <Override PartName="/ppt/media/image17.gif" ContentType="image/gif"/>
  <Override PartName="/ppt/media/image3.png" ContentType="image/png"/>
  <Override PartName="/ppt/media/image16.gif" ContentType="image/gif"/>
  <Override PartName="/ppt/media/image14.jpeg" ContentType="image/jpeg"/>
  <Override PartName="/ppt/media/image1.wmf" ContentType="image/x-wmf"/>
  <Override PartName="/ppt/media/image2.png" ContentType="image/png"/>
  <Override PartName="/ppt/media/image20.png" ContentType="image/png"/>
  <Override PartName="/ppt/media/image15.gif" ContentType="image/gif"/>
  <Override PartName="/ppt/media/image4.png" ContentType="image/png"/>
  <Override PartName="/ppt/media/image8.jpeg" ContentType="image/jpeg"/>
  <Override PartName="/ppt/media/image18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907588" cy="6858000"/>
  <p:notesSz cx="6858000" cy="9555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BDCD-7A85-463C-9841-F4A2D7DA0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77D3-52AC-48A9-AAF7-E4B70287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6E50-D51B-4EF6-992E-FEE6EEA6B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E09F-5E3B-4481-83F6-195E8D89E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269E-925A-4691-BDF6-4F6D1730A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7CDC-8BFE-423A-B790-430823CE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81EC-55DD-479F-B797-0706B6A7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1BA0-B9C4-4DA0-B27D-6F9EDFF3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48A8-4C5C-42D1-9B77-E30E3AFC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42680" y="4568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21CE-86B9-4170-8B7F-1BE6B64B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B015-1362-41C3-B781-62C1E382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3AAE-0D9C-412F-98DE-9D97327C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E940-C735-44A8-87F5-210EE117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2BE3-21F9-4FBC-B3B6-C0FB82A6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C5FB-6D8F-430D-8C31-4D6E367C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9E6F-217B-4CE0-856A-4AC9F4C7E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4AFE-CD42-44F3-98B6-3082011B1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7F3D-D9FE-476C-97F7-70737532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D8B7-AA31-4DC0-B4B2-4E00E411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EBF6-F34E-4C4F-AE41-1F8D0D4E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4568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A3E9-C9E5-42A2-B160-EF256AC5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CB61-BDEF-4880-B7A0-20CFE69A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C25B-DE4E-49A9-9FDF-D5BCA572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8578-9412-41DA-B4CD-C6384A66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6000"/>
          </a:bodyPr>
          <a:p>
            <a:pPr marL="344520" indent="-344520">
              <a:spcBef>
                <a:spcPts val="825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  <a:p>
            <a:pPr lvl="1" marL="746640" indent="-286200">
              <a:spcBef>
                <a:spcPts val="825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9120" indent="-230040">
              <a:spcBef>
                <a:spcPts val="825"/>
              </a:spcBef>
              <a:buClr>
                <a:srgbClr val="333333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9200" indent="-230040">
              <a:spcBef>
                <a:spcPts val="825"/>
              </a:spcBef>
              <a:buClr>
                <a:srgbClr val="333333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  <a:p>
            <a:pPr lvl="4" marL="2069280" indent="-229680">
              <a:spcBef>
                <a:spcPts val="825"/>
              </a:spcBef>
              <a:buClr>
                <a:srgbClr val="333333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  <a:p>
            <a:pPr lvl="5" marL="2069280" indent="-229680">
              <a:spcBef>
                <a:spcPts val="825"/>
              </a:spcBef>
              <a:buClr>
                <a:srgbClr val="333333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  <a:p>
            <a:pPr lvl="6" marL="2069280" indent="-229680">
              <a:spcBef>
                <a:spcPts val="825"/>
              </a:spcBef>
              <a:buClr>
                <a:srgbClr val="333333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500" spc="-1" strike="noStrike">
                <a:solidFill>
                  <a:srgbClr val="578963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578963"/>
                </a:solidFill>
                <a:latin typeface="Times New Roman"/>
                <a:ea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ar-SA" sz="1500" spc="-1" strike="noStrike">
                <a:solidFill>
                  <a:srgbClr val="578963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ar-SA" sz="1500" spc="-1" strike="noStrike">
                <a:solidFill>
                  <a:srgbClr val="578963"/>
                </a:solidFill>
                <a:latin typeface="Times New Roman"/>
                <a:ea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ar-SA" sz="1500" spc="-1" strike="noStrike">
                <a:solidFill>
                  <a:srgbClr val="578963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849C8A7-4900-4459-9BFD-CF1415FBDAC1}" type="slidenum">
              <a:rPr b="0" lang="ar-SA" sz="1500" spc="-1" strike="noStrike">
                <a:solidFill>
                  <a:srgbClr val="578963"/>
                </a:solidFill>
                <a:latin typeface="Times New Roman"/>
                <a:ea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7720" y="3340080"/>
            <a:ext cx="829152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500" spc="-1" strike="noStrike">
                <a:solidFill>
                  <a:srgbClr val="578963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578963"/>
                </a:solidFill>
                <a:latin typeface="Times New Roman"/>
                <a:ea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ar-SA" sz="1500" spc="-1" strike="noStrike">
                <a:solidFill>
                  <a:srgbClr val="578963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ar-SA" sz="1500" spc="-1" strike="noStrike">
                <a:solidFill>
                  <a:srgbClr val="578963"/>
                </a:solidFill>
                <a:latin typeface="Times New Roman"/>
                <a:ea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ar-SA" sz="1500" spc="-1" strike="noStrike">
                <a:solidFill>
                  <a:srgbClr val="578963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93564DE-ED61-49FD-9723-1A528417F3A7}" type="slidenum">
              <a:rPr b="0" lang="ar-SA" sz="1500" spc="-1" strike="noStrike">
                <a:solidFill>
                  <a:srgbClr val="578963"/>
                </a:solidFill>
                <a:latin typeface="Times New Roman"/>
                <a:ea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gi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2.gif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5.gif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6.gif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7.gif"/><Relationship Id="rId9" Type="http://schemas.openxmlformats.org/officeDocument/2006/relationships/image" Target="../media/image18.wmf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9.gif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 flipH="1" rot="10800000">
            <a:off x="2641680" y="172800"/>
            <a:ext cx="4292640" cy="1503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42120" y="5300640"/>
            <a:ext cx="4228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d31527"/>
                </a:solidFill>
                <a:latin typeface="Times New Roman"/>
                <a:cs typeface="Simplified Arabic"/>
              </a:rPr>
              <a:t>صلاح صالح معمار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81080"/>
            <a:ext cx="9906120" cy="533520"/>
          </a:xfrm>
          <a:prstGeom prst="rect">
            <a:avLst/>
          </a:prstGeom>
          <a:solidFill>
            <a:srgbClr val="d3152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201200">
            <a:off x="8928360" y="518400"/>
            <a:ext cx="1968480" cy="93780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66"/>
                </a:solidFill>
                <a:latin typeface="Arial"/>
                <a:cs typeface="Simplified Arabic"/>
              </a:rPr>
              <a:t>العدد الثالث عشر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4800">
            <a:off x="-710640" y="723240"/>
            <a:ext cx="1968480" cy="531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66"/>
                </a:solidFill>
                <a:latin typeface="Arial"/>
                <a:cs typeface="Simplified Arabic"/>
              </a:rPr>
              <a:t>يناير  </a:t>
            </a:r>
            <a:r>
              <a:rPr b="1" lang="ar-SA" sz="2000" spc="-1" strike="noStrike">
                <a:solidFill>
                  <a:srgbClr val="000066"/>
                </a:solidFill>
                <a:latin typeface="Arial"/>
                <a:ea typeface="Simplified Arabic"/>
              </a:rPr>
              <a:t>2003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20840" y="1614960"/>
            <a:ext cx="701676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Arial"/>
                <a:cs typeface="Simplified Arabic"/>
              </a:rPr>
              <a:t>ترحب بكم في الدورة التدريبية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346880" y="76320"/>
            <a:ext cx="1155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Simplified Arabic"/>
              </a:rPr>
              <a:t>مجلة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Simplified Arabic"/>
              <a:ea typeface="Simplified Arabic"/>
            </a:endParaRPr>
          </a:p>
        </p:txBody>
      </p:sp>
      <p:sp>
        <p:nvSpPr>
          <p:cNvPr id="89" name=""/>
          <p:cNvSpPr/>
          <p:nvPr/>
        </p:nvSpPr>
        <p:spPr>
          <a:xfrm>
            <a:off x="914040" y="3645000"/>
            <a:ext cx="79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d31527"/>
                </a:solidFill>
                <a:latin typeface="Thunderbird"/>
                <a:cs typeface="Simplified Arabic"/>
              </a:rPr>
              <a:t>فن التعامل مع الناس والتأثير فيهم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257480" y="304920"/>
            <a:ext cx="7429320" cy="761760"/>
          </a:xfrm>
          <a:prstGeom prst="plus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مداخل السهلة إلى العقول والقلوب</a:t>
            </a:r>
            <a:endParaRPr b="0" lang="en-US" sz="35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8991720" y="335268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9058320" y="48672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377120" y="163188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4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1555920"/>
            <a:ext cx="4005360" cy="79200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ابحث عن العوامل المشتركة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06560" y="3044880"/>
            <a:ext cx="789120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دائما يوجد نقاط يتفق عليها الجميع ،انطلق منها ولا</a:t>
            </a:r>
            <a:r>
              <a:rPr b="1" lang="ar-SA" sz="32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تركز على نقاط الاختلا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4735440"/>
            <a:ext cx="7891200" cy="10998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Simplified Arabic"/>
                <a:cs typeface="Simplified Arabic"/>
              </a:rPr>
              <a:t>لا تتحدث عن مصلحتك وتحدث عن المصلحة المشتركة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1706400" y="1447920"/>
            <a:ext cx="1646280" cy="12459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 rot="10800000">
            <a:off x="9229680" y="5105160"/>
            <a:ext cx="7632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500"/>
                            </p:stCondLst>
                            <p:childTnLst>
                              <p:par>
                                <p:cTn id="3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3500"/>
                            </p:stCondLst>
                            <p:childTnLst>
                              <p:par>
                                <p:cTn id="4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4" dur="84376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304920"/>
            <a:ext cx="7429320" cy="761760"/>
          </a:xfrm>
          <a:prstGeom prst="plus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مداخل السهلة إلى العقول والقلوب</a:t>
            </a:r>
            <a:endParaRPr b="0" lang="en-US" sz="35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8991720" y="3051000"/>
            <a:ext cx="314280" cy="3146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9058320" y="424656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7453440" y="147960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5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1403280"/>
            <a:ext cx="4005000" cy="79236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الإعجاب والثناء الصادق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06560" y="2743200"/>
            <a:ext cx="7891200" cy="10083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مهما كان الشخص سيئاً لا بد من وجود خصلة تستحق الإعجاب والثناء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4114800"/>
            <a:ext cx="7891200" cy="10083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Simplified Arabic"/>
                <a:cs typeface="Simplified Arabic"/>
              </a:rPr>
              <a:t>ابحث في الشخص الآخر عن الجانب الإيجابي وكن مسرفاً في الثناء والشكر</a:t>
            </a:r>
            <a:r>
              <a:rPr b="1" lang="ar-SA" sz="3000" spc="-1" strike="noStrike">
                <a:solidFill>
                  <a:srgbClr val="000066"/>
                </a:solidFill>
                <a:latin typeface="Simplified Arabic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9058320" y="56754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990720" y="5543640"/>
            <a:ext cx="7891200" cy="10083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Simplified Arabic"/>
                <a:cs typeface="Simplified Arabic"/>
              </a:rPr>
              <a:t>افعل ذلك بصدق حتى لا يتحول الأمر إلى نفاق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6"/>
          <a:stretch/>
        </p:blipFill>
        <p:spPr>
          <a:xfrm flipH="1" rot="10800000">
            <a:off x="9229680" y="448452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3000"/>
                            </p:stCondLst>
                            <p:childTnLst>
                              <p:par>
                                <p:cTn id="4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4000"/>
                            </p:stCondLst>
                            <p:childTnLst>
                              <p:par>
                                <p:cTn id="4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4500"/>
                            </p:stCondLst>
                            <p:childTnLst>
                              <p:par>
                                <p:cTn id="4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9" dur="120033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257480" y="304920"/>
            <a:ext cx="7429320" cy="761760"/>
          </a:xfrm>
          <a:prstGeom prst="plus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مداخل السهلة إلى العقول والقلوب</a:t>
            </a:r>
            <a:endParaRPr b="0" lang="en-US" sz="35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8991720" y="28195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9058320" y="441972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7453440" y="155592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6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48120" y="1479600"/>
            <a:ext cx="4005000" cy="79200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خاطب الدوافع النبيلة</a:t>
            </a:r>
            <a:r>
              <a:rPr b="1" lang="ar-SA" sz="30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06560" y="2743200"/>
            <a:ext cx="7891200" cy="91764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2700" spc="-1" strike="noStrike">
                <a:solidFill>
                  <a:srgbClr val="000066"/>
                </a:solidFill>
                <a:latin typeface="Arial"/>
                <a:cs typeface="Simplified Arabic"/>
              </a:rPr>
              <a:t>قد تختفي الدوافع النبيلة تحت أنقاض الطمع والمصالح لكنها لا تنعدم</a:t>
            </a:r>
            <a:endParaRPr b="0" lang="en-US" sz="2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4114800"/>
            <a:ext cx="7891200" cy="10083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Simplified Arabic"/>
                <a:cs typeface="Simplified Arabic"/>
              </a:rPr>
              <a:t>خاطب الجوانب الإنسانية في الشخص وسوف يفاجئك بأكثر مما تتوقع</a:t>
            </a:r>
            <a:r>
              <a:rPr b="1" lang="ar-SA" sz="3000" spc="-1" strike="noStrike">
                <a:solidFill>
                  <a:srgbClr val="000066"/>
                </a:solidFill>
                <a:latin typeface="Simplified Arabic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9058320" y="562932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990720" y="5543640"/>
            <a:ext cx="7891200" cy="10083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Simplified Arabic"/>
                <a:cs typeface="Simplified Arabic"/>
              </a:rPr>
              <a:t>لن تنجح إذا لم تفعل ذلك بصدق وإخلاص فمن السهل اكتشاف التزييف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 flipH="1" rot="10800000">
            <a:off x="9229680" y="4657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77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7" dur="770" fill="hold"/>
                                        <p:tgtEl>
                                          <p:spTgt spid="2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9" dur="77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1" dur="77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4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4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77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5" dur="770" fill="hold"/>
                                        <p:tgtEl>
                                          <p:spTgt spid="2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7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9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4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500"/>
                            </p:stCondLst>
                            <p:childTnLst>
                              <p:par>
                                <p:cTn id="5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0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3000"/>
                            </p:stCondLst>
                            <p:childTnLst>
                              <p:par>
                                <p:cTn id="5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9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3500"/>
                            </p:stCondLst>
                            <p:childTnLst>
                              <p:par>
                                <p:cTn id="5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4000"/>
                            </p:stCondLst>
                            <p:childTnLst>
                              <p:par>
                                <p:cTn id="5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4500"/>
                            </p:stCondLst>
                            <p:childTnLst>
                              <p:par>
                                <p:cTn id="5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6" dur="164990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257480" y="304920"/>
            <a:ext cx="7429320" cy="761760"/>
          </a:xfrm>
          <a:prstGeom prst="plus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مداخل السهلة إلى العقول والقلوب</a:t>
            </a:r>
            <a:endParaRPr b="0" lang="en-US" sz="35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8991720" y="341964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9058320" y="49212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7453440" y="163188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7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8120" y="1555920"/>
            <a:ext cx="4005000" cy="79200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احفظ أسماء من تقابلهم</a:t>
            </a:r>
            <a:r>
              <a:rPr b="1" lang="ar-SA" sz="30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6320" y="3289320"/>
            <a:ext cx="8118720" cy="9471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حب الأسماء إلينا هو اسم الشخص الذي نراه كلما نظرنا في المرآ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4616280"/>
            <a:ext cx="811836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حفظ الاسم وكرر استخدامه أثناء الحديث سوف يعاملك الشخص الآخر بمنتهى المود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7"/>
          <a:stretch/>
        </p:blipFill>
        <p:spPr>
          <a:xfrm flipH="1" rot="10800000">
            <a:off x="9058320" y="361944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500"/>
                            </p:stCondLst>
                            <p:childTnLst>
                              <p:par>
                                <p:cTn id="5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9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3000"/>
                            </p:stCondLst>
                            <p:childTnLst>
                              <p:par>
                                <p:cTn id="5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3500"/>
                            </p:stCondLst>
                            <p:childTnLst>
                              <p:par>
                                <p:cTn id="5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2" dur="74711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257480" y="304920"/>
            <a:ext cx="7429320" cy="761760"/>
          </a:xfrm>
          <a:prstGeom prst="plus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مداخل السهلة إلى العقول والقلوب</a:t>
            </a:r>
            <a:endParaRPr b="0" lang="en-US" sz="35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9058320" y="37339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9058320" y="450072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453440" y="137160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8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219320"/>
            <a:ext cx="4005000" cy="79200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حافظ على الابتسامة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5195880"/>
            <a:ext cx="8118360" cy="947160"/>
          </a:xfrm>
          <a:prstGeom prst="rect">
            <a:avLst/>
          </a:prstGeom>
          <a:solidFill>
            <a:srgbClr val="e818e8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ابتسامة جميلة حين تربح لكنها أجمل حين تخسر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6019920"/>
            <a:ext cx="8118360" cy="947160"/>
          </a:xfrm>
          <a:prstGeom prst="rect">
            <a:avLst/>
          </a:prstGeom>
          <a:solidFill>
            <a:srgbClr val="e818e8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ابتسامة جميلة حين تأخذ لكنها أجمل حين تعطي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9058320" y="519588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9067680" y="60865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2373480" cy="28065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762120" y="3672000"/>
            <a:ext cx="8118360" cy="947160"/>
          </a:xfrm>
          <a:prstGeom prst="rect">
            <a:avLst/>
          </a:prstGeom>
          <a:solidFill>
            <a:srgbClr val="e818e8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ابتسامة علامة صامتة يفهم منها الآخرون أنك تحبهم وتحترمه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4419720"/>
            <a:ext cx="8118360" cy="947160"/>
          </a:xfrm>
          <a:prstGeom prst="rect">
            <a:avLst/>
          </a:prstGeom>
          <a:solidFill>
            <a:srgbClr val="e818e8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ابتسامة جميلة حين تفرح لكنها أجمل حين تحزن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8"/>
          <a:stretch/>
        </p:blipFill>
        <p:spPr>
          <a:xfrm flipH="1" rot="10800000">
            <a:off x="9220320" y="6324480"/>
            <a:ext cx="7596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500"/>
                            </p:stCondLst>
                            <p:childTnLst>
                              <p:par>
                                <p:cTn id="6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2000"/>
                            </p:stCondLst>
                            <p:childTnLst>
                              <p:par>
                                <p:cTn id="6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500"/>
                            </p:stCondLst>
                            <p:childTnLst>
                              <p:par>
                                <p:cTn id="6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3000"/>
                            </p:stCondLst>
                            <p:childTnLst>
                              <p:par>
                                <p:cTn id="6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3500"/>
                            </p:stCondLst>
                            <p:childTnLst>
                              <p:par>
                                <p:cTn id="6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4000"/>
                            </p:stCondLst>
                            <p:childTnLst>
                              <p:par>
                                <p:cTn id="6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4500"/>
                            </p:stCondLst>
                            <p:childTnLst>
                              <p:par>
                                <p:cTn id="6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61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500"/>
                            </p:stCondLst>
                            <p:childTnLst>
                              <p:par>
                                <p:cTn id="6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0" dur="78446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1249200" y="228600"/>
            <a:ext cx="7513560" cy="1023480"/>
            <a:chOff x="1249200" y="228600"/>
            <a:chExt cx="7513560" cy="1023480"/>
          </a:xfrm>
        </p:grpSpPr>
        <p:sp>
          <p:nvSpPr>
            <p:cNvPr id="238" name=""/>
            <p:cNvSpPr/>
            <p:nvPr/>
          </p:nvSpPr>
          <p:spPr>
            <a:xfrm>
              <a:off x="1249200" y="228600"/>
              <a:ext cx="7513560" cy="83988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839880"/>
                <a:gd name="textAreaBottom" fmla="*/ 73008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fefefe"/>
                </a:gs>
                <a:gs pos="100000">
                  <a:srgbClr val="003399"/>
                </a:gs>
              </a:gsLst>
              <a:lin ang="10800000"/>
            </a:grad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92280" y="321840"/>
              <a:ext cx="50198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644920" y="304920"/>
            <a:ext cx="467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 rtl="1">
              <a:spcBef>
                <a:spcPts val="206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مهـارات التحدث والإقناع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28800" y="1523880"/>
            <a:ext cx="6248520" cy="79236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66"/>
                </a:solidFill>
                <a:latin typeface="Arial"/>
                <a:cs typeface="Simplified Arabic"/>
              </a:rPr>
              <a:t>الكلام وسيلة الاتصال الأولى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92400" y="3290760"/>
            <a:ext cx="7623000" cy="9471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d8b2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  <a:cs typeface="Simplified Arabic"/>
              </a:rPr>
              <a:t>عندما تتقن فن الكلام تبني أفضل العلاقات وتحصل على ما تري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95280" y="4387680"/>
            <a:ext cx="7623360" cy="13737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d8b2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  <a:cs typeface="Simplified Arabic"/>
              </a:rPr>
              <a:t>أكثر كلمة يستخدمها الناس ” أنا ” ومعظم أحاديثهم تدور حولها فإذا أردت أن تؤثر فيهم فاتركها لهم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9134640" y="335268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9144000" y="457200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 flipH="1" rot="10800000">
            <a:off x="9296280" y="48006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500"/>
                            </p:stCondLst>
                            <p:childTnLst>
                              <p:par>
                                <p:cTn id="6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000"/>
                            </p:stCondLst>
                            <p:childTnLst>
                              <p:par>
                                <p:cTn id="6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3000"/>
                            </p:stCondLst>
                            <p:childTnLst>
                              <p:par>
                                <p:cTn id="7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3500"/>
                            </p:stCondLst>
                            <p:childTnLst>
                              <p:par>
                                <p:cTn id="7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1" dur="110394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1249200" y="228600"/>
            <a:ext cx="7513560" cy="1023480"/>
            <a:chOff x="1249200" y="228600"/>
            <a:chExt cx="7513560" cy="1023480"/>
          </a:xfrm>
        </p:grpSpPr>
        <p:sp>
          <p:nvSpPr>
            <p:cNvPr id="248" name=""/>
            <p:cNvSpPr/>
            <p:nvPr/>
          </p:nvSpPr>
          <p:spPr>
            <a:xfrm>
              <a:off x="1249200" y="228600"/>
              <a:ext cx="7513560" cy="83988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839880"/>
                <a:gd name="textAreaBottom" fmla="*/ 73008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fefefe"/>
                </a:gs>
                <a:gs pos="100000">
                  <a:srgbClr val="003399"/>
                </a:gs>
              </a:gsLst>
              <a:lin ang="10800000"/>
            </a:grad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92280" y="321840"/>
              <a:ext cx="50198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2644920" y="304920"/>
            <a:ext cx="467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 rtl="1">
              <a:spcBef>
                <a:spcPts val="206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مهـارات التحدث والإقناع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0" y="1523880"/>
            <a:ext cx="5410080" cy="79236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تحدث أقل واستمع أكثر واصغ باهتمام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062920" y="163188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1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68360" y="5560920"/>
            <a:ext cx="7623360" cy="13125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d8b2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66"/>
                </a:solidFill>
                <a:latin typeface="Arial"/>
                <a:cs typeface="Simplified Arabic"/>
              </a:rPr>
              <a:t>عندما تستمع بإصغاء يفهم المتحدث أنك مهتم به ومنسجم معه وسوف يجتهد في إرضائك ويوافق تماماً على الكلام القليل الذي قلته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9134640" y="372420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9134640" y="581184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368360" y="2844720"/>
            <a:ext cx="7623360" cy="2336760"/>
          </a:xfrm>
          <a:prstGeom prst="foldedCorner">
            <a:avLst>
              <a:gd name="adj" fmla="val 12500"/>
            </a:avLst>
          </a:prstGeom>
          <a:solidFill>
            <a:srgbClr val="33cccc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92280" y="3152880"/>
            <a:ext cx="596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a1c41"/>
                </a:solidFill>
                <a:latin typeface="Arial"/>
                <a:ea typeface="Simplified Arabic"/>
              </a:rPr>
              <a:t>*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cs typeface="Simplified Arabic"/>
              </a:rPr>
              <a:t>كل فكرة يمكن التعبير عنها بكلمات قليلة       </a:t>
            </a:r>
            <a:r>
              <a:rPr b="1" lang="ar-SA" sz="2800" spc="-1" strike="noStrike">
                <a:solidFill>
                  <a:srgbClr val="fa1c41"/>
                </a:solidFill>
                <a:latin typeface="Arial"/>
                <a:ea typeface="Simplified Arabic"/>
              </a:rPr>
              <a:t>*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كلما زاد الكلام كثرت الأخطاء                  </a:t>
            </a:r>
            <a:r>
              <a:rPr b="1" lang="ar-SA" sz="2800" spc="-1" strike="noStrike">
                <a:solidFill>
                  <a:srgbClr val="fa1c41"/>
                </a:solidFill>
                <a:latin typeface="Arial"/>
                <a:ea typeface="Simplified Arabic"/>
              </a:rPr>
              <a:t>*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اهتمام السامع يكون للحظات قليلة ثم يتركك   تتحدث وحدك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                         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 rot="10800000">
            <a:off x="9134280" y="3962160"/>
            <a:ext cx="7596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0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500"/>
                            </p:stCondLst>
                            <p:childTnLst>
                              <p:par>
                                <p:cTn id="7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2000"/>
                            </p:stCondLst>
                            <p:childTnLst>
                              <p:par>
                                <p:cTn id="7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500"/>
                            </p:stCondLst>
                            <p:childTnLst>
                              <p:par>
                                <p:cTn id="7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3000"/>
                            </p:stCondLst>
                            <p:childTnLst>
                              <p:par>
                                <p:cTn id="7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3500"/>
                            </p:stCondLst>
                            <p:childTnLst>
                              <p:par>
                                <p:cTn id="7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4500"/>
                            </p:stCondLst>
                            <p:childTnLst>
                              <p:par>
                                <p:cTn id="7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7" dur="94773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1249200" y="228600"/>
            <a:ext cx="7513560" cy="1023480"/>
            <a:chOff x="1249200" y="228600"/>
            <a:chExt cx="7513560" cy="1023480"/>
          </a:xfrm>
        </p:grpSpPr>
        <p:sp>
          <p:nvSpPr>
            <p:cNvPr id="260" name=""/>
            <p:cNvSpPr/>
            <p:nvPr/>
          </p:nvSpPr>
          <p:spPr>
            <a:xfrm>
              <a:off x="1249200" y="228600"/>
              <a:ext cx="7513560" cy="83988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839880"/>
                <a:gd name="textAreaBottom" fmla="*/ 73008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fefefe"/>
                </a:gs>
                <a:gs pos="100000">
                  <a:srgbClr val="003399"/>
                </a:gs>
              </a:gsLst>
              <a:lin ang="10800000"/>
            </a:grad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492280" y="321840"/>
              <a:ext cx="50198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644920" y="304920"/>
            <a:ext cx="467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 rtl="1">
              <a:spcBef>
                <a:spcPts val="206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مهـارات التحدث والإقناع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971800" y="1523880"/>
            <a:ext cx="4114800" cy="79236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تجنب النقاش والجدل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453440" y="163188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2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68360" y="5332320"/>
            <a:ext cx="7623360" cy="9471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d8b2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  <a:cs typeface="Simplified Arabic"/>
              </a:rPr>
              <a:t>حتى لا يتحول الحديث العادي إلى جدل تحدث مع الطرف الآخر على انفراد</a:t>
            </a:r>
            <a:r>
              <a:rPr b="1" lang="ar-SA" sz="26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9134640" y="41911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9134640" y="558324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368360" y="2819520"/>
            <a:ext cx="7623360" cy="9471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d8b2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نقاش والجدل معركة خاسرة لا يفوز فيها أح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201680" y="3792600"/>
            <a:ext cx="7790040" cy="1671840"/>
            <a:chOff x="1201680" y="3792600"/>
            <a:chExt cx="7790040" cy="1671840"/>
          </a:xfrm>
        </p:grpSpPr>
        <p:sp>
          <p:nvSpPr>
            <p:cNvPr id="270" name=""/>
            <p:cNvSpPr/>
            <p:nvPr/>
          </p:nvSpPr>
          <p:spPr>
            <a:xfrm>
              <a:off x="1368360" y="3792600"/>
              <a:ext cx="7623360" cy="1193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01680" y="3868560"/>
              <a:ext cx="7623360" cy="15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333333"/>
                  </a:solidFill>
                  <a:latin typeface="Arial"/>
                  <a:cs typeface="Simplified Arabic"/>
                </a:rPr>
                <a:t>الأدلة القاطعة والحجج المقنعة لا تنفع إذا قرر الطرف الآخر</a:t>
              </a:r>
              <a:r>
                <a:rPr b="1" lang="ar-SA" sz="2800" spc="-1" strike="noStrike">
                  <a:solidFill>
                    <a:srgbClr val="333333"/>
                  </a:solidFill>
                  <a:latin typeface="Arial"/>
                  <a:ea typeface="Simplified Arabic"/>
                </a:rPr>
                <a:t> 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333333"/>
                  </a:solidFill>
                  <a:latin typeface="Arial"/>
                  <a:cs typeface="Simplified Arabic"/>
                </a:rPr>
                <a:t>الاستمرار في الجدل</a:t>
              </a:r>
              <a:r>
                <a:rPr b="1" lang="ar-SA" sz="2800" spc="-1" strike="noStrike">
                  <a:solidFill>
                    <a:srgbClr val="333333"/>
                  </a:solidFill>
                  <a:latin typeface="Arial"/>
                  <a:ea typeface="Simplified Arabic"/>
                </a:rPr>
                <a:t> 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272" name="" descr=""/>
          <p:cNvPicPr/>
          <p:nvPr/>
        </p:nvPicPr>
        <p:blipFill>
          <a:blip r:embed="rId5"/>
          <a:stretch/>
        </p:blipFill>
        <p:spPr>
          <a:xfrm>
            <a:off x="9144000" y="288144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025640" y="792000"/>
            <a:ext cx="1565280" cy="1770120"/>
          </a:xfrm>
          <a:custGeom>
            <a:avLst/>
            <a:gdLst/>
            <a:ahLst/>
            <a:rect l="l" t="t" r="r" b="b"/>
            <a:pathLst>
              <a:path w="1973" h="2230">
                <a:moveTo>
                  <a:pt x="0" y="1874"/>
                </a:moveTo>
                <a:lnTo>
                  <a:pt x="0" y="1861"/>
                </a:lnTo>
                <a:lnTo>
                  <a:pt x="0" y="1850"/>
                </a:lnTo>
                <a:lnTo>
                  <a:pt x="0" y="1838"/>
                </a:lnTo>
                <a:lnTo>
                  <a:pt x="0" y="1827"/>
                </a:lnTo>
                <a:lnTo>
                  <a:pt x="0" y="1815"/>
                </a:lnTo>
                <a:lnTo>
                  <a:pt x="0" y="1804"/>
                </a:lnTo>
                <a:lnTo>
                  <a:pt x="0" y="1792"/>
                </a:lnTo>
                <a:lnTo>
                  <a:pt x="0" y="1781"/>
                </a:lnTo>
                <a:lnTo>
                  <a:pt x="0" y="1768"/>
                </a:lnTo>
                <a:lnTo>
                  <a:pt x="2" y="1756"/>
                </a:lnTo>
                <a:lnTo>
                  <a:pt x="2" y="1743"/>
                </a:lnTo>
                <a:lnTo>
                  <a:pt x="2" y="1732"/>
                </a:lnTo>
                <a:lnTo>
                  <a:pt x="4" y="1720"/>
                </a:lnTo>
                <a:lnTo>
                  <a:pt x="6" y="1709"/>
                </a:lnTo>
                <a:lnTo>
                  <a:pt x="6" y="1696"/>
                </a:lnTo>
                <a:lnTo>
                  <a:pt x="8" y="1684"/>
                </a:lnTo>
                <a:lnTo>
                  <a:pt x="9" y="1673"/>
                </a:lnTo>
                <a:lnTo>
                  <a:pt x="9" y="1659"/>
                </a:lnTo>
                <a:lnTo>
                  <a:pt x="11" y="1648"/>
                </a:lnTo>
                <a:lnTo>
                  <a:pt x="13" y="1635"/>
                </a:lnTo>
                <a:lnTo>
                  <a:pt x="15" y="1623"/>
                </a:lnTo>
                <a:lnTo>
                  <a:pt x="15" y="1610"/>
                </a:lnTo>
                <a:lnTo>
                  <a:pt x="17" y="1599"/>
                </a:lnTo>
                <a:lnTo>
                  <a:pt x="21" y="1587"/>
                </a:lnTo>
                <a:lnTo>
                  <a:pt x="21" y="1574"/>
                </a:lnTo>
                <a:lnTo>
                  <a:pt x="23" y="1561"/>
                </a:lnTo>
                <a:lnTo>
                  <a:pt x="27" y="1549"/>
                </a:lnTo>
                <a:lnTo>
                  <a:pt x="28" y="1536"/>
                </a:lnTo>
                <a:lnTo>
                  <a:pt x="30" y="1524"/>
                </a:lnTo>
                <a:lnTo>
                  <a:pt x="32" y="1511"/>
                </a:lnTo>
                <a:lnTo>
                  <a:pt x="36" y="1500"/>
                </a:lnTo>
                <a:lnTo>
                  <a:pt x="38" y="1486"/>
                </a:lnTo>
                <a:lnTo>
                  <a:pt x="40" y="1475"/>
                </a:lnTo>
                <a:lnTo>
                  <a:pt x="42" y="1462"/>
                </a:lnTo>
                <a:lnTo>
                  <a:pt x="46" y="1448"/>
                </a:lnTo>
                <a:lnTo>
                  <a:pt x="47" y="1437"/>
                </a:lnTo>
                <a:lnTo>
                  <a:pt x="51" y="1424"/>
                </a:lnTo>
                <a:lnTo>
                  <a:pt x="55" y="1410"/>
                </a:lnTo>
                <a:lnTo>
                  <a:pt x="57" y="1397"/>
                </a:lnTo>
                <a:lnTo>
                  <a:pt x="61" y="1386"/>
                </a:lnTo>
                <a:lnTo>
                  <a:pt x="65" y="1372"/>
                </a:lnTo>
                <a:lnTo>
                  <a:pt x="66" y="1359"/>
                </a:lnTo>
                <a:lnTo>
                  <a:pt x="70" y="1346"/>
                </a:lnTo>
                <a:lnTo>
                  <a:pt x="74" y="1334"/>
                </a:lnTo>
                <a:lnTo>
                  <a:pt x="78" y="1321"/>
                </a:lnTo>
                <a:lnTo>
                  <a:pt x="82" y="1308"/>
                </a:lnTo>
                <a:lnTo>
                  <a:pt x="85" y="1294"/>
                </a:lnTo>
                <a:lnTo>
                  <a:pt x="91" y="1283"/>
                </a:lnTo>
                <a:lnTo>
                  <a:pt x="93" y="1270"/>
                </a:lnTo>
                <a:lnTo>
                  <a:pt x="99" y="1256"/>
                </a:lnTo>
                <a:lnTo>
                  <a:pt x="103" y="1245"/>
                </a:lnTo>
                <a:lnTo>
                  <a:pt x="106" y="1232"/>
                </a:lnTo>
                <a:lnTo>
                  <a:pt x="112" y="1218"/>
                </a:lnTo>
                <a:lnTo>
                  <a:pt x="116" y="1205"/>
                </a:lnTo>
                <a:lnTo>
                  <a:pt x="120" y="1192"/>
                </a:lnTo>
                <a:lnTo>
                  <a:pt x="125" y="1179"/>
                </a:lnTo>
                <a:lnTo>
                  <a:pt x="129" y="1167"/>
                </a:lnTo>
                <a:lnTo>
                  <a:pt x="135" y="1154"/>
                </a:lnTo>
                <a:lnTo>
                  <a:pt x="139" y="1141"/>
                </a:lnTo>
                <a:lnTo>
                  <a:pt x="144" y="1127"/>
                </a:lnTo>
                <a:lnTo>
                  <a:pt x="150" y="1114"/>
                </a:lnTo>
                <a:lnTo>
                  <a:pt x="156" y="1102"/>
                </a:lnTo>
                <a:lnTo>
                  <a:pt x="160" y="1089"/>
                </a:lnTo>
                <a:lnTo>
                  <a:pt x="167" y="1076"/>
                </a:lnTo>
                <a:lnTo>
                  <a:pt x="180" y="1042"/>
                </a:lnTo>
                <a:lnTo>
                  <a:pt x="196" y="1009"/>
                </a:lnTo>
                <a:lnTo>
                  <a:pt x="209" y="975"/>
                </a:lnTo>
                <a:lnTo>
                  <a:pt x="226" y="943"/>
                </a:lnTo>
                <a:lnTo>
                  <a:pt x="241" y="911"/>
                </a:lnTo>
                <a:lnTo>
                  <a:pt x="258" y="880"/>
                </a:lnTo>
                <a:lnTo>
                  <a:pt x="276" y="850"/>
                </a:lnTo>
                <a:lnTo>
                  <a:pt x="293" y="819"/>
                </a:lnTo>
                <a:lnTo>
                  <a:pt x="310" y="787"/>
                </a:lnTo>
                <a:lnTo>
                  <a:pt x="327" y="758"/>
                </a:lnTo>
                <a:lnTo>
                  <a:pt x="346" y="728"/>
                </a:lnTo>
                <a:lnTo>
                  <a:pt x="365" y="700"/>
                </a:lnTo>
                <a:lnTo>
                  <a:pt x="384" y="671"/>
                </a:lnTo>
                <a:lnTo>
                  <a:pt x="403" y="644"/>
                </a:lnTo>
                <a:lnTo>
                  <a:pt x="422" y="616"/>
                </a:lnTo>
                <a:lnTo>
                  <a:pt x="443" y="591"/>
                </a:lnTo>
                <a:lnTo>
                  <a:pt x="464" y="563"/>
                </a:lnTo>
                <a:lnTo>
                  <a:pt x="485" y="538"/>
                </a:lnTo>
                <a:lnTo>
                  <a:pt x="504" y="513"/>
                </a:lnTo>
                <a:lnTo>
                  <a:pt x="525" y="489"/>
                </a:lnTo>
                <a:lnTo>
                  <a:pt x="547" y="464"/>
                </a:lnTo>
                <a:lnTo>
                  <a:pt x="568" y="439"/>
                </a:lnTo>
                <a:lnTo>
                  <a:pt x="589" y="416"/>
                </a:lnTo>
                <a:lnTo>
                  <a:pt x="614" y="395"/>
                </a:lnTo>
                <a:lnTo>
                  <a:pt x="635" y="373"/>
                </a:lnTo>
                <a:lnTo>
                  <a:pt x="658" y="352"/>
                </a:lnTo>
                <a:lnTo>
                  <a:pt x="680" y="329"/>
                </a:lnTo>
                <a:lnTo>
                  <a:pt x="703" y="310"/>
                </a:lnTo>
                <a:lnTo>
                  <a:pt x="726" y="291"/>
                </a:lnTo>
                <a:lnTo>
                  <a:pt x="749" y="272"/>
                </a:lnTo>
                <a:lnTo>
                  <a:pt x="772" y="253"/>
                </a:lnTo>
                <a:lnTo>
                  <a:pt x="796" y="236"/>
                </a:lnTo>
                <a:lnTo>
                  <a:pt x="819" y="219"/>
                </a:lnTo>
                <a:lnTo>
                  <a:pt x="842" y="202"/>
                </a:lnTo>
                <a:lnTo>
                  <a:pt x="867" y="184"/>
                </a:lnTo>
                <a:lnTo>
                  <a:pt x="889" y="169"/>
                </a:lnTo>
                <a:lnTo>
                  <a:pt x="914" y="154"/>
                </a:lnTo>
                <a:lnTo>
                  <a:pt x="937" y="141"/>
                </a:lnTo>
                <a:lnTo>
                  <a:pt x="962" y="125"/>
                </a:lnTo>
                <a:lnTo>
                  <a:pt x="986" y="114"/>
                </a:lnTo>
                <a:lnTo>
                  <a:pt x="1009" y="101"/>
                </a:lnTo>
                <a:lnTo>
                  <a:pt x="1034" y="91"/>
                </a:lnTo>
                <a:lnTo>
                  <a:pt x="1057" y="80"/>
                </a:lnTo>
                <a:lnTo>
                  <a:pt x="1081" y="70"/>
                </a:lnTo>
                <a:lnTo>
                  <a:pt x="1104" y="59"/>
                </a:lnTo>
                <a:lnTo>
                  <a:pt x="1129" y="51"/>
                </a:lnTo>
                <a:lnTo>
                  <a:pt x="1154" y="42"/>
                </a:lnTo>
                <a:lnTo>
                  <a:pt x="1176" y="36"/>
                </a:lnTo>
                <a:lnTo>
                  <a:pt x="1201" y="29"/>
                </a:lnTo>
                <a:lnTo>
                  <a:pt x="1224" y="23"/>
                </a:lnTo>
                <a:lnTo>
                  <a:pt x="1249" y="17"/>
                </a:lnTo>
                <a:lnTo>
                  <a:pt x="1272" y="13"/>
                </a:lnTo>
                <a:lnTo>
                  <a:pt x="1294" y="8"/>
                </a:lnTo>
                <a:lnTo>
                  <a:pt x="1317" y="6"/>
                </a:lnTo>
                <a:lnTo>
                  <a:pt x="1340" y="2"/>
                </a:lnTo>
                <a:lnTo>
                  <a:pt x="1365" y="2"/>
                </a:lnTo>
                <a:lnTo>
                  <a:pt x="1386" y="0"/>
                </a:lnTo>
                <a:lnTo>
                  <a:pt x="1408" y="0"/>
                </a:lnTo>
                <a:lnTo>
                  <a:pt x="1431" y="2"/>
                </a:lnTo>
                <a:lnTo>
                  <a:pt x="1454" y="4"/>
                </a:lnTo>
                <a:lnTo>
                  <a:pt x="1475" y="6"/>
                </a:lnTo>
                <a:lnTo>
                  <a:pt x="1498" y="8"/>
                </a:lnTo>
                <a:lnTo>
                  <a:pt x="1519" y="13"/>
                </a:lnTo>
                <a:lnTo>
                  <a:pt x="1541" y="17"/>
                </a:lnTo>
                <a:lnTo>
                  <a:pt x="1560" y="23"/>
                </a:lnTo>
                <a:lnTo>
                  <a:pt x="1581" y="29"/>
                </a:lnTo>
                <a:lnTo>
                  <a:pt x="1600" y="36"/>
                </a:lnTo>
                <a:lnTo>
                  <a:pt x="1619" y="46"/>
                </a:lnTo>
                <a:lnTo>
                  <a:pt x="1638" y="53"/>
                </a:lnTo>
                <a:lnTo>
                  <a:pt x="1657" y="65"/>
                </a:lnTo>
                <a:lnTo>
                  <a:pt x="1674" y="76"/>
                </a:lnTo>
                <a:lnTo>
                  <a:pt x="1693" y="87"/>
                </a:lnTo>
                <a:lnTo>
                  <a:pt x="1709" y="101"/>
                </a:lnTo>
                <a:lnTo>
                  <a:pt x="1726" y="114"/>
                </a:lnTo>
                <a:lnTo>
                  <a:pt x="1741" y="129"/>
                </a:lnTo>
                <a:lnTo>
                  <a:pt x="1756" y="144"/>
                </a:lnTo>
                <a:lnTo>
                  <a:pt x="1771" y="160"/>
                </a:lnTo>
                <a:lnTo>
                  <a:pt x="1785" y="177"/>
                </a:lnTo>
                <a:lnTo>
                  <a:pt x="1800" y="194"/>
                </a:lnTo>
                <a:lnTo>
                  <a:pt x="1813" y="215"/>
                </a:lnTo>
                <a:lnTo>
                  <a:pt x="1827" y="232"/>
                </a:lnTo>
                <a:lnTo>
                  <a:pt x="1838" y="253"/>
                </a:lnTo>
                <a:lnTo>
                  <a:pt x="1849" y="274"/>
                </a:lnTo>
                <a:lnTo>
                  <a:pt x="1861" y="295"/>
                </a:lnTo>
                <a:lnTo>
                  <a:pt x="1870" y="316"/>
                </a:lnTo>
                <a:lnTo>
                  <a:pt x="1882" y="338"/>
                </a:lnTo>
                <a:lnTo>
                  <a:pt x="1891" y="361"/>
                </a:lnTo>
                <a:lnTo>
                  <a:pt x="1901" y="386"/>
                </a:lnTo>
                <a:lnTo>
                  <a:pt x="1908" y="409"/>
                </a:lnTo>
                <a:lnTo>
                  <a:pt x="1918" y="435"/>
                </a:lnTo>
                <a:lnTo>
                  <a:pt x="1925" y="460"/>
                </a:lnTo>
                <a:lnTo>
                  <a:pt x="1931" y="487"/>
                </a:lnTo>
                <a:lnTo>
                  <a:pt x="1937" y="513"/>
                </a:lnTo>
                <a:lnTo>
                  <a:pt x="1944" y="540"/>
                </a:lnTo>
                <a:lnTo>
                  <a:pt x="1950" y="566"/>
                </a:lnTo>
                <a:lnTo>
                  <a:pt x="1956" y="595"/>
                </a:lnTo>
                <a:lnTo>
                  <a:pt x="1958" y="623"/>
                </a:lnTo>
                <a:lnTo>
                  <a:pt x="1961" y="652"/>
                </a:lnTo>
                <a:lnTo>
                  <a:pt x="1965" y="681"/>
                </a:lnTo>
                <a:lnTo>
                  <a:pt x="1969" y="711"/>
                </a:lnTo>
                <a:lnTo>
                  <a:pt x="1969" y="741"/>
                </a:lnTo>
                <a:lnTo>
                  <a:pt x="1971" y="772"/>
                </a:lnTo>
                <a:lnTo>
                  <a:pt x="1973" y="802"/>
                </a:lnTo>
                <a:lnTo>
                  <a:pt x="1973" y="834"/>
                </a:lnTo>
                <a:lnTo>
                  <a:pt x="1973" y="865"/>
                </a:lnTo>
                <a:lnTo>
                  <a:pt x="1973" y="895"/>
                </a:lnTo>
                <a:lnTo>
                  <a:pt x="1969" y="930"/>
                </a:lnTo>
                <a:lnTo>
                  <a:pt x="1969" y="960"/>
                </a:lnTo>
                <a:lnTo>
                  <a:pt x="1965" y="994"/>
                </a:lnTo>
                <a:lnTo>
                  <a:pt x="1963" y="1026"/>
                </a:lnTo>
                <a:lnTo>
                  <a:pt x="1960" y="1059"/>
                </a:lnTo>
                <a:lnTo>
                  <a:pt x="1956" y="1093"/>
                </a:lnTo>
                <a:lnTo>
                  <a:pt x="1950" y="1125"/>
                </a:lnTo>
                <a:lnTo>
                  <a:pt x="1944" y="1160"/>
                </a:lnTo>
                <a:lnTo>
                  <a:pt x="1939" y="1192"/>
                </a:lnTo>
                <a:lnTo>
                  <a:pt x="1933" y="1226"/>
                </a:lnTo>
                <a:lnTo>
                  <a:pt x="1925" y="1258"/>
                </a:lnTo>
                <a:lnTo>
                  <a:pt x="1918" y="1293"/>
                </a:lnTo>
                <a:lnTo>
                  <a:pt x="1908" y="1327"/>
                </a:lnTo>
                <a:lnTo>
                  <a:pt x="1901" y="1363"/>
                </a:lnTo>
                <a:lnTo>
                  <a:pt x="1891" y="1395"/>
                </a:lnTo>
                <a:lnTo>
                  <a:pt x="1882" y="1429"/>
                </a:lnTo>
                <a:lnTo>
                  <a:pt x="1870" y="1464"/>
                </a:lnTo>
                <a:lnTo>
                  <a:pt x="1859" y="1498"/>
                </a:lnTo>
                <a:lnTo>
                  <a:pt x="1847" y="1532"/>
                </a:lnTo>
                <a:lnTo>
                  <a:pt x="1834" y="1566"/>
                </a:lnTo>
                <a:lnTo>
                  <a:pt x="1821" y="1601"/>
                </a:lnTo>
                <a:lnTo>
                  <a:pt x="1809" y="1635"/>
                </a:lnTo>
                <a:lnTo>
                  <a:pt x="1804" y="1646"/>
                </a:lnTo>
                <a:lnTo>
                  <a:pt x="1800" y="1656"/>
                </a:lnTo>
                <a:lnTo>
                  <a:pt x="1794" y="1667"/>
                </a:lnTo>
                <a:lnTo>
                  <a:pt x="1790" y="1677"/>
                </a:lnTo>
                <a:lnTo>
                  <a:pt x="1785" y="1686"/>
                </a:lnTo>
                <a:lnTo>
                  <a:pt x="1781" y="1697"/>
                </a:lnTo>
                <a:lnTo>
                  <a:pt x="1775" y="1709"/>
                </a:lnTo>
                <a:lnTo>
                  <a:pt x="1771" y="1718"/>
                </a:lnTo>
                <a:lnTo>
                  <a:pt x="1766" y="1728"/>
                </a:lnTo>
                <a:lnTo>
                  <a:pt x="1762" y="1739"/>
                </a:lnTo>
                <a:lnTo>
                  <a:pt x="1756" y="1749"/>
                </a:lnTo>
                <a:lnTo>
                  <a:pt x="1750" y="1758"/>
                </a:lnTo>
                <a:lnTo>
                  <a:pt x="1747" y="1770"/>
                </a:lnTo>
                <a:lnTo>
                  <a:pt x="1741" y="1779"/>
                </a:lnTo>
                <a:lnTo>
                  <a:pt x="1735" y="1789"/>
                </a:lnTo>
                <a:lnTo>
                  <a:pt x="1731" y="1800"/>
                </a:lnTo>
                <a:lnTo>
                  <a:pt x="1726" y="1810"/>
                </a:lnTo>
                <a:lnTo>
                  <a:pt x="1720" y="1819"/>
                </a:lnTo>
                <a:lnTo>
                  <a:pt x="1714" y="1829"/>
                </a:lnTo>
                <a:lnTo>
                  <a:pt x="1711" y="1838"/>
                </a:lnTo>
                <a:lnTo>
                  <a:pt x="1705" y="1848"/>
                </a:lnTo>
                <a:lnTo>
                  <a:pt x="1699" y="1859"/>
                </a:lnTo>
                <a:lnTo>
                  <a:pt x="1693" y="1869"/>
                </a:lnTo>
                <a:lnTo>
                  <a:pt x="1688" y="1878"/>
                </a:lnTo>
                <a:lnTo>
                  <a:pt x="1682" y="1888"/>
                </a:lnTo>
                <a:lnTo>
                  <a:pt x="1676" y="1897"/>
                </a:lnTo>
                <a:lnTo>
                  <a:pt x="1671" y="1907"/>
                </a:lnTo>
                <a:lnTo>
                  <a:pt x="1667" y="1916"/>
                </a:lnTo>
                <a:lnTo>
                  <a:pt x="1661" y="1926"/>
                </a:lnTo>
                <a:lnTo>
                  <a:pt x="1655" y="1935"/>
                </a:lnTo>
                <a:lnTo>
                  <a:pt x="1650" y="1945"/>
                </a:lnTo>
                <a:lnTo>
                  <a:pt x="1644" y="1954"/>
                </a:lnTo>
                <a:lnTo>
                  <a:pt x="1638" y="1964"/>
                </a:lnTo>
                <a:lnTo>
                  <a:pt x="1633" y="1973"/>
                </a:lnTo>
                <a:lnTo>
                  <a:pt x="1627" y="1981"/>
                </a:lnTo>
                <a:lnTo>
                  <a:pt x="1619" y="1990"/>
                </a:lnTo>
                <a:lnTo>
                  <a:pt x="1614" y="2000"/>
                </a:lnTo>
                <a:lnTo>
                  <a:pt x="1608" y="2009"/>
                </a:lnTo>
                <a:lnTo>
                  <a:pt x="1602" y="2017"/>
                </a:lnTo>
                <a:lnTo>
                  <a:pt x="1597" y="2026"/>
                </a:lnTo>
                <a:lnTo>
                  <a:pt x="1591" y="2036"/>
                </a:lnTo>
                <a:lnTo>
                  <a:pt x="1583" y="2045"/>
                </a:lnTo>
                <a:lnTo>
                  <a:pt x="1578" y="2053"/>
                </a:lnTo>
                <a:lnTo>
                  <a:pt x="1572" y="2062"/>
                </a:lnTo>
                <a:lnTo>
                  <a:pt x="1564" y="2072"/>
                </a:lnTo>
                <a:lnTo>
                  <a:pt x="1559" y="2080"/>
                </a:lnTo>
                <a:lnTo>
                  <a:pt x="1553" y="2089"/>
                </a:lnTo>
                <a:lnTo>
                  <a:pt x="1547" y="2099"/>
                </a:lnTo>
                <a:lnTo>
                  <a:pt x="1541" y="2106"/>
                </a:lnTo>
                <a:lnTo>
                  <a:pt x="1534" y="2116"/>
                </a:lnTo>
                <a:lnTo>
                  <a:pt x="1528" y="2123"/>
                </a:lnTo>
                <a:lnTo>
                  <a:pt x="1521" y="2131"/>
                </a:lnTo>
                <a:lnTo>
                  <a:pt x="1515" y="2138"/>
                </a:lnTo>
                <a:lnTo>
                  <a:pt x="1509" y="2148"/>
                </a:lnTo>
                <a:lnTo>
                  <a:pt x="1501" y="2156"/>
                </a:lnTo>
                <a:lnTo>
                  <a:pt x="1496" y="2165"/>
                </a:lnTo>
                <a:lnTo>
                  <a:pt x="1488" y="2173"/>
                </a:lnTo>
                <a:lnTo>
                  <a:pt x="1482" y="2180"/>
                </a:lnTo>
                <a:lnTo>
                  <a:pt x="1475" y="2188"/>
                </a:lnTo>
                <a:lnTo>
                  <a:pt x="1469" y="2197"/>
                </a:lnTo>
                <a:lnTo>
                  <a:pt x="1462" y="2205"/>
                </a:lnTo>
                <a:lnTo>
                  <a:pt x="1456" y="2213"/>
                </a:lnTo>
                <a:lnTo>
                  <a:pt x="1450" y="2220"/>
                </a:lnTo>
                <a:lnTo>
                  <a:pt x="1443" y="2230"/>
                </a:lnTo>
                <a:lnTo>
                  <a:pt x="0" y="1874"/>
                </a:lnTo>
                <a:lnTo>
                  <a:pt x="0" y="1874"/>
                </a:lnTo>
                <a:close/>
              </a:path>
            </a:pathLst>
          </a:custGeom>
          <a:solidFill>
            <a:srgbClr val="e0f2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41480" y="1992240"/>
            <a:ext cx="1357200" cy="584280"/>
          </a:xfrm>
          <a:custGeom>
            <a:avLst/>
            <a:gdLst/>
            <a:ahLst/>
            <a:rect l="l" t="t" r="r" b="b"/>
            <a:pathLst>
              <a:path w="1710" h="738">
                <a:moveTo>
                  <a:pt x="0" y="363"/>
                </a:moveTo>
                <a:lnTo>
                  <a:pt x="20" y="346"/>
                </a:lnTo>
                <a:lnTo>
                  <a:pt x="45" y="331"/>
                </a:lnTo>
                <a:lnTo>
                  <a:pt x="66" y="314"/>
                </a:lnTo>
                <a:lnTo>
                  <a:pt x="91" y="301"/>
                </a:lnTo>
                <a:lnTo>
                  <a:pt x="112" y="285"/>
                </a:lnTo>
                <a:lnTo>
                  <a:pt x="136" y="272"/>
                </a:lnTo>
                <a:lnTo>
                  <a:pt x="159" y="259"/>
                </a:lnTo>
                <a:lnTo>
                  <a:pt x="182" y="245"/>
                </a:lnTo>
                <a:lnTo>
                  <a:pt x="207" y="232"/>
                </a:lnTo>
                <a:lnTo>
                  <a:pt x="230" y="221"/>
                </a:lnTo>
                <a:lnTo>
                  <a:pt x="252" y="209"/>
                </a:lnTo>
                <a:lnTo>
                  <a:pt x="277" y="198"/>
                </a:lnTo>
                <a:lnTo>
                  <a:pt x="300" y="186"/>
                </a:lnTo>
                <a:lnTo>
                  <a:pt x="325" y="177"/>
                </a:lnTo>
                <a:lnTo>
                  <a:pt x="349" y="166"/>
                </a:lnTo>
                <a:lnTo>
                  <a:pt x="374" y="158"/>
                </a:lnTo>
                <a:lnTo>
                  <a:pt x="397" y="147"/>
                </a:lnTo>
                <a:lnTo>
                  <a:pt x="421" y="137"/>
                </a:lnTo>
                <a:lnTo>
                  <a:pt x="444" y="129"/>
                </a:lnTo>
                <a:lnTo>
                  <a:pt x="467" y="120"/>
                </a:lnTo>
                <a:lnTo>
                  <a:pt x="492" y="112"/>
                </a:lnTo>
                <a:lnTo>
                  <a:pt x="515" y="105"/>
                </a:lnTo>
                <a:lnTo>
                  <a:pt x="539" y="97"/>
                </a:lnTo>
                <a:lnTo>
                  <a:pt x="562" y="91"/>
                </a:lnTo>
                <a:lnTo>
                  <a:pt x="585" y="84"/>
                </a:lnTo>
                <a:lnTo>
                  <a:pt x="610" y="78"/>
                </a:lnTo>
                <a:lnTo>
                  <a:pt x="632" y="72"/>
                </a:lnTo>
                <a:lnTo>
                  <a:pt x="657" y="67"/>
                </a:lnTo>
                <a:lnTo>
                  <a:pt x="680" y="61"/>
                </a:lnTo>
                <a:lnTo>
                  <a:pt x="703" y="55"/>
                </a:lnTo>
                <a:lnTo>
                  <a:pt x="726" y="51"/>
                </a:lnTo>
                <a:lnTo>
                  <a:pt x="748" y="46"/>
                </a:lnTo>
                <a:lnTo>
                  <a:pt x="769" y="42"/>
                </a:lnTo>
                <a:lnTo>
                  <a:pt x="792" y="36"/>
                </a:lnTo>
                <a:lnTo>
                  <a:pt x="813" y="34"/>
                </a:lnTo>
                <a:lnTo>
                  <a:pt x="836" y="31"/>
                </a:lnTo>
                <a:lnTo>
                  <a:pt x="859" y="25"/>
                </a:lnTo>
                <a:lnTo>
                  <a:pt x="880" y="23"/>
                </a:lnTo>
                <a:lnTo>
                  <a:pt x="900" y="19"/>
                </a:lnTo>
                <a:lnTo>
                  <a:pt x="923" y="17"/>
                </a:lnTo>
                <a:lnTo>
                  <a:pt x="942" y="15"/>
                </a:lnTo>
                <a:lnTo>
                  <a:pt x="963" y="13"/>
                </a:lnTo>
                <a:lnTo>
                  <a:pt x="984" y="10"/>
                </a:lnTo>
                <a:lnTo>
                  <a:pt x="1003" y="10"/>
                </a:lnTo>
                <a:lnTo>
                  <a:pt x="1022" y="8"/>
                </a:lnTo>
                <a:lnTo>
                  <a:pt x="1043" y="6"/>
                </a:lnTo>
                <a:lnTo>
                  <a:pt x="1062" y="6"/>
                </a:lnTo>
                <a:lnTo>
                  <a:pt x="1081" y="4"/>
                </a:lnTo>
                <a:lnTo>
                  <a:pt x="1098" y="2"/>
                </a:lnTo>
                <a:lnTo>
                  <a:pt x="1117" y="2"/>
                </a:lnTo>
                <a:lnTo>
                  <a:pt x="1134" y="0"/>
                </a:lnTo>
                <a:lnTo>
                  <a:pt x="1151" y="0"/>
                </a:lnTo>
                <a:lnTo>
                  <a:pt x="1168" y="0"/>
                </a:lnTo>
                <a:lnTo>
                  <a:pt x="1186" y="0"/>
                </a:lnTo>
                <a:lnTo>
                  <a:pt x="1201" y="0"/>
                </a:lnTo>
                <a:lnTo>
                  <a:pt x="1218" y="0"/>
                </a:lnTo>
                <a:lnTo>
                  <a:pt x="1233" y="0"/>
                </a:lnTo>
                <a:lnTo>
                  <a:pt x="1248" y="0"/>
                </a:lnTo>
                <a:lnTo>
                  <a:pt x="1262" y="0"/>
                </a:lnTo>
                <a:lnTo>
                  <a:pt x="1275" y="0"/>
                </a:lnTo>
                <a:lnTo>
                  <a:pt x="1288" y="0"/>
                </a:lnTo>
                <a:lnTo>
                  <a:pt x="1302" y="0"/>
                </a:lnTo>
                <a:lnTo>
                  <a:pt x="1315" y="2"/>
                </a:lnTo>
                <a:lnTo>
                  <a:pt x="1328" y="2"/>
                </a:lnTo>
                <a:lnTo>
                  <a:pt x="1341" y="2"/>
                </a:lnTo>
                <a:lnTo>
                  <a:pt x="1357" y="4"/>
                </a:lnTo>
                <a:lnTo>
                  <a:pt x="1372" y="6"/>
                </a:lnTo>
                <a:lnTo>
                  <a:pt x="1387" y="8"/>
                </a:lnTo>
                <a:lnTo>
                  <a:pt x="1400" y="10"/>
                </a:lnTo>
                <a:lnTo>
                  <a:pt x="1416" y="13"/>
                </a:lnTo>
                <a:lnTo>
                  <a:pt x="1431" y="15"/>
                </a:lnTo>
                <a:lnTo>
                  <a:pt x="1446" y="19"/>
                </a:lnTo>
                <a:lnTo>
                  <a:pt x="1459" y="23"/>
                </a:lnTo>
                <a:lnTo>
                  <a:pt x="1473" y="27"/>
                </a:lnTo>
                <a:lnTo>
                  <a:pt x="1486" y="31"/>
                </a:lnTo>
                <a:lnTo>
                  <a:pt x="1501" y="36"/>
                </a:lnTo>
                <a:lnTo>
                  <a:pt x="1514" y="40"/>
                </a:lnTo>
                <a:lnTo>
                  <a:pt x="1528" y="46"/>
                </a:lnTo>
                <a:lnTo>
                  <a:pt x="1541" y="51"/>
                </a:lnTo>
                <a:lnTo>
                  <a:pt x="1554" y="59"/>
                </a:lnTo>
                <a:lnTo>
                  <a:pt x="1566" y="63"/>
                </a:lnTo>
                <a:lnTo>
                  <a:pt x="1577" y="71"/>
                </a:lnTo>
                <a:lnTo>
                  <a:pt x="1589" y="76"/>
                </a:lnTo>
                <a:lnTo>
                  <a:pt x="1600" y="84"/>
                </a:lnTo>
                <a:lnTo>
                  <a:pt x="1609" y="91"/>
                </a:lnTo>
                <a:lnTo>
                  <a:pt x="1621" y="99"/>
                </a:lnTo>
                <a:lnTo>
                  <a:pt x="1630" y="109"/>
                </a:lnTo>
                <a:lnTo>
                  <a:pt x="1640" y="116"/>
                </a:lnTo>
                <a:lnTo>
                  <a:pt x="1647" y="126"/>
                </a:lnTo>
                <a:lnTo>
                  <a:pt x="1657" y="135"/>
                </a:lnTo>
                <a:lnTo>
                  <a:pt x="1663" y="143"/>
                </a:lnTo>
                <a:lnTo>
                  <a:pt x="1672" y="154"/>
                </a:lnTo>
                <a:lnTo>
                  <a:pt x="1678" y="164"/>
                </a:lnTo>
                <a:lnTo>
                  <a:pt x="1684" y="175"/>
                </a:lnTo>
                <a:lnTo>
                  <a:pt x="1689" y="185"/>
                </a:lnTo>
                <a:lnTo>
                  <a:pt x="1695" y="198"/>
                </a:lnTo>
                <a:lnTo>
                  <a:pt x="1699" y="209"/>
                </a:lnTo>
                <a:lnTo>
                  <a:pt x="1703" y="221"/>
                </a:lnTo>
                <a:lnTo>
                  <a:pt x="1706" y="232"/>
                </a:lnTo>
                <a:lnTo>
                  <a:pt x="1708" y="245"/>
                </a:lnTo>
                <a:lnTo>
                  <a:pt x="1710" y="259"/>
                </a:lnTo>
                <a:lnTo>
                  <a:pt x="1710" y="270"/>
                </a:lnTo>
                <a:lnTo>
                  <a:pt x="1710" y="285"/>
                </a:lnTo>
                <a:lnTo>
                  <a:pt x="1710" y="299"/>
                </a:lnTo>
                <a:lnTo>
                  <a:pt x="1708" y="312"/>
                </a:lnTo>
                <a:lnTo>
                  <a:pt x="1706" y="327"/>
                </a:lnTo>
                <a:lnTo>
                  <a:pt x="1703" y="342"/>
                </a:lnTo>
                <a:lnTo>
                  <a:pt x="1701" y="358"/>
                </a:lnTo>
                <a:lnTo>
                  <a:pt x="1695" y="373"/>
                </a:lnTo>
                <a:lnTo>
                  <a:pt x="1689" y="390"/>
                </a:lnTo>
                <a:lnTo>
                  <a:pt x="1684" y="405"/>
                </a:lnTo>
                <a:lnTo>
                  <a:pt x="1676" y="424"/>
                </a:lnTo>
                <a:lnTo>
                  <a:pt x="1666" y="439"/>
                </a:lnTo>
                <a:lnTo>
                  <a:pt x="1657" y="456"/>
                </a:lnTo>
                <a:lnTo>
                  <a:pt x="1647" y="473"/>
                </a:lnTo>
                <a:lnTo>
                  <a:pt x="1636" y="492"/>
                </a:lnTo>
                <a:lnTo>
                  <a:pt x="1623" y="511"/>
                </a:lnTo>
                <a:lnTo>
                  <a:pt x="1611" y="531"/>
                </a:lnTo>
                <a:lnTo>
                  <a:pt x="1596" y="550"/>
                </a:lnTo>
                <a:lnTo>
                  <a:pt x="1581" y="569"/>
                </a:lnTo>
                <a:lnTo>
                  <a:pt x="1564" y="588"/>
                </a:lnTo>
                <a:lnTo>
                  <a:pt x="1547" y="608"/>
                </a:lnTo>
                <a:lnTo>
                  <a:pt x="1528" y="627"/>
                </a:lnTo>
                <a:lnTo>
                  <a:pt x="1509" y="650"/>
                </a:lnTo>
                <a:lnTo>
                  <a:pt x="1486" y="671"/>
                </a:lnTo>
                <a:lnTo>
                  <a:pt x="1465" y="692"/>
                </a:lnTo>
                <a:lnTo>
                  <a:pt x="1442" y="715"/>
                </a:lnTo>
                <a:lnTo>
                  <a:pt x="1417" y="738"/>
                </a:lnTo>
                <a:lnTo>
                  <a:pt x="0" y="363"/>
                </a:lnTo>
                <a:lnTo>
                  <a:pt x="0" y="363"/>
                </a:lnTo>
                <a:close/>
              </a:path>
            </a:pathLst>
          </a:custGeom>
          <a:solidFill>
            <a:srgbClr val="e6e6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033560" y="2279520"/>
            <a:ext cx="1146240" cy="642960"/>
          </a:xfrm>
          <a:custGeom>
            <a:avLst/>
            <a:gdLst/>
            <a:ahLst/>
            <a:rect l="l" t="t" r="r" b="b"/>
            <a:pathLst>
              <a:path w="1445" h="810">
                <a:moveTo>
                  <a:pt x="1445" y="356"/>
                </a:moveTo>
                <a:lnTo>
                  <a:pt x="1427" y="369"/>
                </a:lnTo>
                <a:lnTo>
                  <a:pt x="1408" y="384"/>
                </a:lnTo>
                <a:lnTo>
                  <a:pt x="1391" y="398"/>
                </a:lnTo>
                <a:lnTo>
                  <a:pt x="1374" y="413"/>
                </a:lnTo>
                <a:lnTo>
                  <a:pt x="1355" y="426"/>
                </a:lnTo>
                <a:lnTo>
                  <a:pt x="1338" y="441"/>
                </a:lnTo>
                <a:lnTo>
                  <a:pt x="1319" y="456"/>
                </a:lnTo>
                <a:lnTo>
                  <a:pt x="1302" y="470"/>
                </a:lnTo>
                <a:lnTo>
                  <a:pt x="1283" y="483"/>
                </a:lnTo>
                <a:lnTo>
                  <a:pt x="1264" y="496"/>
                </a:lnTo>
                <a:lnTo>
                  <a:pt x="1247" y="510"/>
                </a:lnTo>
                <a:lnTo>
                  <a:pt x="1228" y="523"/>
                </a:lnTo>
                <a:lnTo>
                  <a:pt x="1209" y="536"/>
                </a:lnTo>
                <a:lnTo>
                  <a:pt x="1190" y="550"/>
                </a:lnTo>
                <a:lnTo>
                  <a:pt x="1171" y="563"/>
                </a:lnTo>
                <a:lnTo>
                  <a:pt x="1154" y="574"/>
                </a:lnTo>
                <a:lnTo>
                  <a:pt x="1135" y="586"/>
                </a:lnTo>
                <a:lnTo>
                  <a:pt x="1116" y="599"/>
                </a:lnTo>
                <a:lnTo>
                  <a:pt x="1097" y="610"/>
                </a:lnTo>
                <a:lnTo>
                  <a:pt x="1078" y="622"/>
                </a:lnTo>
                <a:lnTo>
                  <a:pt x="1059" y="633"/>
                </a:lnTo>
                <a:lnTo>
                  <a:pt x="1040" y="643"/>
                </a:lnTo>
                <a:lnTo>
                  <a:pt x="1021" y="654"/>
                </a:lnTo>
                <a:lnTo>
                  <a:pt x="1002" y="666"/>
                </a:lnTo>
                <a:lnTo>
                  <a:pt x="983" y="675"/>
                </a:lnTo>
                <a:lnTo>
                  <a:pt x="962" y="685"/>
                </a:lnTo>
                <a:lnTo>
                  <a:pt x="943" y="694"/>
                </a:lnTo>
                <a:lnTo>
                  <a:pt x="924" y="704"/>
                </a:lnTo>
                <a:lnTo>
                  <a:pt x="905" y="711"/>
                </a:lnTo>
                <a:lnTo>
                  <a:pt x="886" y="721"/>
                </a:lnTo>
                <a:lnTo>
                  <a:pt x="867" y="728"/>
                </a:lnTo>
                <a:lnTo>
                  <a:pt x="848" y="738"/>
                </a:lnTo>
                <a:lnTo>
                  <a:pt x="829" y="743"/>
                </a:lnTo>
                <a:lnTo>
                  <a:pt x="810" y="751"/>
                </a:lnTo>
                <a:lnTo>
                  <a:pt x="789" y="757"/>
                </a:lnTo>
                <a:lnTo>
                  <a:pt x="770" y="764"/>
                </a:lnTo>
                <a:lnTo>
                  <a:pt x="751" y="770"/>
                </a:lnTo>
                <a:lnTo>
                  <a:pt x="732" y="776"/>
                </a:lnTo>
                <a:lnTo>
                  <a:pt x="713" y="781"/>
                </a:lnTo>
                <a:lnTo>
                  <a:pt x="694" y="787"/>
                </a:lnTo>
                <a:lnTo>
                  <a:pt x="675" y="791"/>
                </a:lnTo>
                <a:lnTo>
                  <a:pt x="656" y="795"/>
                </a:lnTo>
                <a:lnTo>
                  <a:pt x="637" y="799"/>
                </a:lnTo>
                <a:lnTo>
                  <a:pt x="618" y="802"/>
                </a:lnTo>
                <a:lnTo>
                  <a:pt x="599" y="804"/>
                </a:lnTo>
                <a:lnTo>
                  <a:pt x="580" y="806"/>
                </a:lnTo>
                <a:lnTo>
                  <a:pt x="563" y="808"/>
                </a:lnTo>
                <a:lnTo>
                  <a:pt x="544" y="810"/>
                </a:lnTo>
                <a:lnTo>
                  <a:pt x="525" y="810"/>
                </a:lnTo>
                <a:lnTo>
                  <a:pt x="508" y="810"/>
                </a:lnTo>
                <a:lnTo>
                  <a:pt x="489" y="810"/>
                </a:lnTo>
                <a:lnTo>
                  <a:pt x="471" y="810"/>
                </a:lnTo>
                <a:lnTo>
                  <a:pt x="452" y="808"/>
                </a:lnTo>
                <a:lnTo>
                  <a:pt x="433" y="808"/>
                </a:lnTo>
                <a:lnTo>
                  <a:pt x="416" y="804"/>
                </a:lnTo>
                <a:lnTo>
                  <a:pt x="399" y="802"/>
                </a:lnTo>
                <a:lnTo>
                  <a:pt x="382" y="799"/>
                </a:lnTo>
                <a:lnTo>
                  <a:pt x="365" y="795"/>
                </a:lnTo>
                <a:lnTo>
                  <a:pt x="348" y="791"/>
                </a:lnTo>
                <a:lnTo>
                  <a:pt x="331" y="787"/>
                </a:lnTo>
                <a:lnTo>
                  <a:pt x="314" y="781"/>
                </a:lnTo>
                <a:lnTo>
                  <a:pt x="297" y="776"/>
                </a:lnTo>
                <a:lnTo>
                  <a:pt x="279" y="770"/>
                </a:lnTo>
                <a:lnTo>
                  <a:pt x="264" y="764"/>
                </a:lnTo>
                <a:lnTo>
                  <a:pt x="257" y="759"/>
                </a:lnTo>
                <a:lnTo>
                  <a:pt x="249" y="755"/>
                </a:lnTo>
                <a:lnTo>
                  <a:pt x="241" y="751"/>
                </a:lnTo>
                <a:lnTo>
                  <a:pt x="236" y="747"/>
                </a:lnTo>
                <a:lnTo>
                  <a:pt x="228" y="742"/>
                </a:lnTo>
                <a:lnTo>
                  <a:pt x="221" y="738"/>
                </a:lnTo>
                <a:lnTo>
                  <a:pt x="215" y="730"/>
                </a:lnTo>
                <a:lnTo>
                  <a:pt x="207" y="726"/>
                </a:lnTo>
                <a:lnTo>
                  <a:pt x="201" y="719"/>
                </a:lnTo>
                <a:lnTo>
                  <a:pt x="194" y="713"/>
                </a:lnTo>
                <a:lnTo>
                  <a:pt x="188" y="705"/>
                </a:lnTo>
                <a:lnTo>
                  <a:pt x="181" y="698"/>
                </a:lnTo>
                <a:lnTo>
                  <a:pt x="175" y="690"/>
                </a:lnTo>
                <a:lnTo>
                  <a:pt x="169" y="683"/>
                </a:lnTo>
                <a:lnTo>
                  <a:pt x="162" y="675"/>
                </a:lnTo>
                <a:lnTo>
                  <a:pt x="156" y="667"/>
                </a:lnTo>
                <a:lnTo>
                  <a:pt x="150" y="658"/>
                </a:lnTo>
                <a:lnTo>
                  <a:pt x="143" y="648"/>
                </a:lnTo>
                <a:lnTo>
                  <a:pt x="137" y="639"/>
                </a:lnTo>
                <a:lnTo>
                  <a:pt x="131" y="629"/>
                </a:lnTo>
                <a:lnTo>
                  <a:pt x="125" y="620"/>
                </a:lnTo>
                <a:lnTo>
                  <a:pt x="122" y="610"/>
                </a:lnTo>
                <a:lnTo>
                  <a:pt x="116" y="599"/>
                </a:lnTo>
                <a:lnTo>
                  <a:pt x="110" y="589"/>
                </a:lnTo>
                <a:lnTo>
                  <a:pt x="105" y="576"/>
                </a:lnTo>
                <a:lnTo>
                  <a:pt x="99" y="567"/>
                </a:lnTo>
                <a:lnTo>
                  <a:pt x="93" y="555"/>
                </a:lnTo>
                <a:lnTo>
                  <a:pt x="89" y="544"/>
                </a:lnTo>
                <a:lnTo>
                  <a:pt x="84" y="531"/>
                </a:lnTo>
                <a:lnTo>
                  <a:pt x="80" y="519"/>
                </a:lnTo>
                <a:lnTo>
                  <a:pt x="76" y="506"/>
                </a:lnTo>
                <a:lnTo>
                  <a:pt x="70" y="494"/>
                </a:lnTo>
                <a:lnTo>
                  <a:pt x="67" y="481"/>
                </a:lnTo>
                <a:lnTo>
                  <a:pt x="61" y="468"/>
                </a:lnTo>
                <a:lnTo>
                  <a:pt x="57" y="455"/>
                </a:lnTo>
                <a:lnTo>
                  <a:pt x="53" y="441"/>
                </a:lnTo>
                <a:lnTo>
                  <a:pt x="49" y="426"/>
                </a:lnTo>
                <a:lnTo>
                  <a:pt x="46" y="413"/>
                </a:lnTo>
                <a:lnTo>
                  <a:pt x="42" y="399"/>
                </a:lnTo>
                <a:lnTo>
                  <a:pt x="40" y="386"/>
                </a:lnTo>
                <a:lnTo>
                  <a:pt x="34" y="371"/>
                </a:lnTo>
                <a:lnTo>
                  <a:pt x="32" y="356"/>
                </a:lnTo>
                <a:lnTo>
                  <a:pt x="29" y="340"/>
                </a:lnTo>
                <a:lnTo>
                  <a:pt x="27" y="327"/>
                </a:lnTo>
                <a:lnTo>
                  <a:pt x="23" y="310"/>
                </a:lnTo>
                <a:lnTo>
                  <a:pt x="21" y="295"/>
                </a:lnTo>
                <a:lnTo>
                  <a:pt x="19" y="280"/>
                </a:lnTo>
                <a:lnTo>
                  <a:pt x="17" y="264"/>
                </a:lnTo>
                <a:lnTo>
                  <a:pt x="13" y="249"/>
                </a:lnTo>
                <a:lnTo>
                  <a:pt x="11" y="232"/>
                </a:lnTo>
                <a:lnTo>
                  <a:pt x="10" y="217"/>
                </a:lnTo>
                <a:lnTo>
                  <a:pt x="8" y="202"/>
                </a:lnTo>
                <a:lnTo>
                  <a:pt x="6" y="185"/>
                </a:lnTo>
                <a:lnTo>
                  <a:pt x="4" y="168"/>
                </a:lnTo>
                <a:lnTo>
                  <a:pt x="4" y="152"/>
                </a:lnTo>
                <a:lnTo>
                  <a:pt x="4" y="135"/>
                </a:lnTo>
                <a:lnTo>
                  <a:pt x="2" y="118"/>
                </a:lnTo>
                <a:lnTo>
                  <a:pt x="2" y="103"/>
                </a:lnTo>
                <a:lnTo>
                  <a:pt x="0" y="84"/>
                </a:lnTo>
                <a:lnTo>
                  <a:pt x="0" y="69"/>
                </a:lnTo>
                <a:lnTo>
                  <a:pt x="0" y="52"/>
                </a:lnTo>
                <a:lnTo>
                  <a:pt x="0" y="34"/>
                </a:lnTo>
                <a:lnTo>
                  <a:pt x="2" y="15"/>
                </a:lnTo>
                <a:lnTo>
                  <a:pt x="2" y="0"/>
                </a:lnTo>
                <a:lnTo>
                  <a:pt x="1445" y="356"/>
                </a:lnTo>
                <a:lnTo>
                  <a:pt x="1445" y="356"/>
                </a:lnTo>
                <a:close/>
              </a:path>
            </a:pathLst>
          </a:custGeom>
          <a:solidFill>
            <a:srgbClr val="fff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20960" y="2278080"/>
            <a:ext cx="465120" cy="185760"/>
          </a:xfrm>
          <a:custGeom>
            <a:avLst/>
            <a:gdLst/>
            <a:ahLst/>
            <a:rect l="l" t="t" r="r" b="b"/>
            <a:pathLst>
              <a:path w="587" h="234">
                <a:moveTo>
                  <a:pt x="515" y="158"/>
                </a:moveTo>
                <a:lnTo>
                  <a:pt x="351" y="160"/>
                </a:lnTo>
                <a:lnTo>
                  <a:pt x="347" y="164"/>
                </a:lnTo>
                <a:lnTo>
                  <a:pt x="342" y="166"/>
                </a:lnTo>
                <a:lnTo>
                  <a:pt x="338" y="168"/>
                </a:lnTo>
                <a:lnTo>
                  <a:pt x="332" y="171"/>
                </a:lnTo>
                <a:lnTo>
                  <a:pt x="328" y="173"/>
                </a:lnTo>
                <a:lnTo>
                  <a:pt x="325" y="175"/>
                </a:lnTo>
                <a:lnTo>
                  <a:pt x="319" y="177"/>
                </a:lnTo>
                <a:lnTo>
                  <a:pt x="315" y="181"/>
                </a:lnTo>
                <a:lnTo>
                  <a:pt x="311" y="181"/>
                </a:lnTo>
                <a:lnTo>
                  <a:pt x="306" y="183"/>
                </a:lnTo>
                <a:lnTo>
                  <a:pt x="302" y="185"/>
                </a:lnTo>
                <a:lnTo>
                  <a:pt x="298" y="187"/>
                </a:lnTo>
                <a:lnTo>
                  <a:pt x="292" y="189"/>
                </a:lnTo>
                <a:lnTo>
                  <a:pt x="289" y="190"/>
                </a:lnTo>
                <a:lnTo>
                  <a:pt x="285" y="192"/>
                </a:lnTo>
                <a:lnTo>
                  <a:pt x="281" y="194"/>
                </a:lnTo>
                <a:lnTo>
                  <a:pt x="277" y="196"/>
                </a:lnTo>
                <a:lnTo>
                  <a:pt x="273" y="196"/>
                </a:lnTo>
                <a:lnTo>
                  <a:pt x="268" y="198"/>
                </a:lnTo>
                <a:lnTo>
                  <a:pt x="264" y="200"/>
                </a:lnTo>
                <a:lnTo>
                  <a:pt x="260" y="200"/>
                </a:lnTo>
                <a:lnTo>
                  <a:pt x="254" y="202"/>
                </a:lnTo>
                <a:lnTo>
                  <a:pt x="251" y="202"/>
                </a:lnTo>
                <a:lnTo>
                  <a:pt x="247" y="204"/>
                </a:lnTo>
                <a:lnTo>
                  <a:pt x="243" y="206"/>
                </a:lnTo>
                <a:lnTo>
                  <a:pt x="239" y="206"/>
                </a:lnTo>
                <a:lnTo>
                  <a:pt x="235" y="206"/>
                </a:lnTo>
                <a:lnTo>
                  <a:pt x="232" y="208"/>
                </a:lnTo>
                <a:lnTo>
                  <a:pt x="226" y="208"/>
                </a:lnTo>
                <a:lnTo>
                  <a:pt x="222" y="209"/>
                </a:lnTo>
                <a:lnTo>
                  <a:pt x="218" y="209"/>
                </a:lnTo>
                <a:lnTo>
                  <a:pt x="214" y="211"/>
                </a:lnTo>
                <a:lnTo>
                  <a:pt x="211" y="211"/>
                </a:lnTo>
                <a:lnTo>
                  <a:pt x="207" y="211"/>
                </a:lnTo>
                <a:lnTo>
                  <a:pt x="201" y="213"/>
                </a:lnTo>
                <a:lnTo>
                  <a:pt x="197" y="213"/>
                </a:lnTo>
                <a:lnTo>
                  <a:pt x="194" y="213"/>
                </a:lnTo>
                <a:lnTo>
                  <a:pt x="190" y="213"/>
                </a:lnTo>
                <a:lnTo>
                  <a:pt x="186" y="215"/>
                </a:lnTo>
                <a:lnTo>
                  <a:pt x="182" y="215"/>
                </a:lnTo>
                <a:lnTo>
                  <a:pt x="178" y="215"/>
                </a:lnTo>
                <a:lnTo>
                  <a:pt x="173" y="217"/>
                </a:lnTo>
                <a:lnTo>
                  <a:pt x="169" y="217"/>
                </a:lnTo>
                <a:lnTo>
                  <a:pt x="165" y="217"/>
                </a:lnTo>
                <a:lnTo>
                  <a:pt x="161" y="217"/>
                </a:lnTo>
                <a:lnTo>
                  <a:pt x="157" y="219"/>
                </a:lnTo>
                <a:lnTo>
                  <a:pt x="154" y="219"/>
                </a:lnTo>
                <a:lnTo>
                  <a:pt x="150" y="219"/>
                </a:lnTo>
                <a:lnTo>
                  <a:pt x="146" y="219"/>
                </a:lnTo>
                <a:lnTo>
                  <a:pt x="140" y="221"/>
                </a:lnTo>
                <a:lnTo>
                  <a:pt x="137" y="221"/>
                </a:lnTo>
                <a:lnTo>
                  <a:pt x="133" y="223"/>
                </a:lnTo>
                <a:lnTo>
                  <a:pt x="129" y="223"/>
                </a:lnTo>
                <a:lnTo>
                  <a:pt x="125" y="223"/>
                </a:lnTo>
                <a:lnTo>
                  <a:pt x="119" y="225"/>
                </a:lnTo>
                <a:lnTo>
                  <a:pt x="117" y="225"/>
                </a:lnTo>
                <a:lnTo>
                  <a:pt x="112" y="225"/>
                </a:lnTo>
                <a:lnTo>
                  <a:pt x="108" y="227"/>
                </a:lnTo>
                <a:lnTo>
                  <a:pt x="104" y="227"/>
                </a:lnTo>
                <a:lnTo>
                  <a:pt x="100" y="228"/>
                </a:lnTo>
                <a:lnTo>
                  <a:pt x="97" y="228"/>
                </a:lnTo>
                <a:lnTo>
                  <a:pt x="93" y="230"/>
                </a:lnTo>
                <a:lnTo>
                  <a:pt x="87" y="232"/>
                </a:lnTo>
                <a:lnTo>
                  <a:pt x="85" y="234"/>
                </a:lnTo>
                <a:lnTo>
                  <a:pt x="0" y="228"/>
                </a:lnTo>
                <a:lnTo>
                  <a:pt x="64" y="219"/>
                </a:lnTo>
                <a:lnTo>
                  <a:pt x="243" y="95"/>
                </a:lnTo>
                <a:lnTo>
                  <a:pt x="243" y="93"/>
                </a:lnTo>
                <a:lnTo>
                  <a:pt x="245" y="93"/>
                </a:lnTo>
                <a:lnTo>
                  <a:pt x="249" y="92"/>
                </a:lnTo>
                <a:lnTo>
                  <a:pt x="252" y="90"/>
                </a:lnTo>
                <a:lnTo>
                  <a:pt x="258" y="86"/>
                </a:lnTo>
                <a:lnTo>
                  <a:pt x="264" y="84"/>
                </a:lnTo>
                <a:lnTo>
                  <a:pt x="268" y="84"/>
                </a:lnTo>
                <a:lnTo>
                  <a:pt x="271" y="82"/>
                </a:lnTo>
                <a:lnTo>
                  <a:pt x="275" y="80"/>
                </a:lnTo>
                <a:lnTo>
                  <a:pt x="281" y="78"/>
                </a:lnTo>
                <a:lnTo>
                  <a:pt x="285" y="76"/>
                </a:lnTo>
                <a:lnTo>
                  <a:pt x="289" y="74"/>
                </a:lnTo>
                <a:lnTo>
                  <a:pt x="292" y="73"/>
                </a:lnTo>
                <a:lnTo>
                  <a:pt x="298" y="71"/>
                </a:lnTo>
                <a:lnTo>
                  <a:pt x="302" y="69"/>
                </a:lnTo>
                <a:lnTo>
                  <a:pt x="308" y="67"/>
                </a:lnTo>
                <a:lnTo>
                  <a:pt x="313" y="65"/>
                </a:lnTo>
                <a:lnTo>
                  <a:pt x="319" y="63"/>
                </a:lnTo>
                <a:lnTo>
                  <a:pt x="325" y="61"/>
                </a:lnTo>
                <a:lnTo>
                  <a:pt x="330" y="59"/>
                </a:lnTo>
                <a:lnTo>
                  <a:pt x="334" y="57"/>
                </a:lnTo>
                <a:lnTo>
                  <a:pt x="340" y="54"/>
                </a:lnTo>
                <a:lnTo>
                  <a:pt x="346" y="52"/>
                </a:lnTo>
                <a:lnTo>
                  <a:pt x="351" y="50"/>
                </a:lnTo>
                <a:lnTo>
                  <a:pt x="357" y="48"/>
                </a:lnTo>
                <a:lnTo>
                  <a:pt x="365" y="46"/>
                </a:lnTo>
                <a:lnTo>
                  <a:pt x="370" y="42"/>
                </a:lnTo>
                <a:lnTo>
                  <a:pt x="376" y="40"/>
                </a:lnTo>
                <a:lnTo>
                  <a:pt x="382" y="38"/>
                </a:lnTo>
                <a:lnTo>
                  <a:pt x="387" y="36"/>
                </a:lnTo>
                <a:lnTo>
                  <a:pt x="393" y="35"/>
                </a:lnTo>
                <a:lnTo>
                  <a:pt x="399" y="33"/>
                </a:lnTo>
                <a:lnTo>
                  <a:pt x="405" y="31"/>
                </a:lnTo>
                <a:lnTo>
                  <a:pt x="410" y="27"/>
                </a:lnTo>
                <a:lnTo>
                  <a:pt x="414" y="25"/>
                </a:lnTo>
                <a:lnTo>
                  <a:pt x="420" y="23"/>
                </a:lnTo>
                <a:lnTo>
                  <a:pt x="425" y="21"/>
                </a:lnTo>
                <a:lnTo>
                  <a:pt x="431" y="19"/>
                </a:lnTo>
                <a:lnTo>
                  <a:pt x="437" y="17"/>
                </a:lnTo>
                <a:lnTo>
                  <a:pt x="441" y="16"/>
                </a:lnTo>
                <a:lnTo>
                  <a:pt x="446" y="14"/>
                </a:lnTo>
                <a:lnTo>
                  <a:pt x="452" y="14"/>
                </a:lnTo>
                <a:lnTo>
                  <a:pt x="454" y="10"/>
                </a:lnTo>
                <a:lnTo>
                  <a:pt x="460" y="10"/>
                </a:lnTo>
                <a:lnTo>
                  <a:pt x="463" y="8"/>
                </a:lnTo>
                <a:lnTo>
                  <a:pt x="467" y="6"/>
                </a:lnTo>
                <a:lnTo>
                  <a:pt x="471" y="4"/>
                </a:lnTo>
                <a:lnTo>
                  <a:pt x="475" y="4"/>
                </a:lnTo>
                <a:lnTo>
                  <a:pt x="479" y="2"/>
                </a:lnTo>
                <a:lnTo>
                  <a:pt x="482" y="2"/>
                </a:lnTo>
                <a:lnTo>
                  <a:pt x="488" y="0"/>
                </a:lnTo>
                <a:lnTo>
                  <a:pt x="492" y="0"/>
                </a:lnTo>
                <a:lnTo>
                  <a:pt x="496" y="0"/>
                </a:lnTo>
                <a:lnTo>
                  <a:pt x="500" y="0"/>
                </a:lnTo>
                <a:lnTo>
                  <a:pt x="507" y="0"/>
                </a:lnTo>
                <a:lnTo>
                  <a:pt x="513" y="0"/>
                </a:lnTo>
                <a:lnTo>
                  <a:pt x="517" y="0"/>
                </a:lnTo>
                <a:lnTo>
                  <a:pt x="520" y="0"/>
                </a:lnTo>
                <a:lnTo>
                  <a:pt x="526" y="0"/>
                </a:lnTo>
                <a:lnTo>
                  <a:pt x="530" y="0"/>
                </a:lnTo>
                <a:lnTo>
                  <a:pt x="534" y="0"/>
                </a:lnTo>
                <a:lnTo>
                  <a:pt x="539" y="2"/>
                </a:lnTo>
                <a:lnTo>
                  <a:pt x="545" y="2"/>
                </a:lnTo>
                <a:lnTo>
                  <a:pt x="553" y="4"/>
                </a:lnTo>
                <a:lnTo>
                  <a:pt x="555" y="4"/>
                </a:lnTo>
                <a:lnTo>
                  <a:pt x="558" y="6"/>
                </a:lnTo>
                <a:lnTo>
                  <a:pt x="564" y="6"/>
                </a:lnTo>
                <a:lnTo>
                  <a:pt x="568" y="8"/>
                </a:lnTo>
                <a:lnTo>
                  <a:pt x="572" y="10"/>
                </a:lnTo>
                <a:lnTo>
                  <a:pt x="577" y="10"/>
                </a:lnTo>
                <a:lnTo>
                  <a:pt x="581" y="12"/>
                </a:lnTo>
                <a:lnTo>
                  <a:pt x="587" y="14"/>
                </a:lnTo>
                <a:lnTo>
                  <a:pt x="585" y="17"/>
                </a:lnTo>
                <a:lnTo>
                  <a:pt x="583" y="23"/>
                </a:lnTo>
                <a:lnTo>
                  <a:pt x="581" y="27"/>
                </a:lnTo>
                <a:lnTo>
                  <a:pt x="577" y="33"/>
                </a:lnTo>
                <a:lnTo>
                  <a:pt x="576" y="38"/>
                </a:lnTo>
                <a:lnTo>
                  <a:pt x="574" y="42"/>
                </a:lnTo>
                <a:lnTo>
                  <a:pt x="572" y="48"/>
                </a:lnTo>
                <a:lnTo>
                  <a:pt x="570" y="54"/>
                </a:lnTo>
                <a:lnTo>
                  <a:pt x="568" y="57"/>
                </a:lnTo>
                <a:lnTo>
                  <a:pt x="566" y="61"/>
                </a:lnTo>
                <a:lnTo>
                  <a:pt x="564" y="67"/>
                </a:lnTo>
                <a:lnTo>
                  <a:pt x="560" y="71"/>
                </a:lnTo>
                <a:lnTo>
                  <a:pt x="558" y="74"/>
                </a:lnTo>
                <a:lnTo>
                  <a:pt x="557" y="80"/>
                </a:lnTo>
                <a:lnTo>
                  <a:pt x="555" y="84"/>
                </a:lnTo>
                <a:lnTo>
                  <a:pt x="553" y="90"/>
                </a:lnTo>
                <a:lnTo>
                  <a:pt x="549" y="93"/>
                </a:lnTo>
                <a:lnTo>
                  <a:pt x="547" y="97"/>
                </a:lnTo>
                <a:lnTo>
                  <a:pt x="545" y="101"/>
                </a:lnTo>
                <a:lnTo>
                  <a:pt x="543" y="105"/>
                </a:lnTo>
                <a:lnTo>
                  <a:pt x="539" y="111"/>
                </a:lnTo>
                <a:lnTo>
                  <a:pt x="538" y="114"/>
                </a:lnTo>
                <a:lnTo>
                  <a:pt x="536" y="118"/>
                </a:lnTo>
                <a:lnTo>
                  <a:pt x="534" y="122"/>
                </a:lnTo>
                <a:lnTo>
                  <a:pt x="530" y="128"/>
                </a:lnTo>
                <a:lnTo>
                  <a:pt x="528" y="131"/>
                </a:lnTo>
                <a:lnTo>
                  <a:pt x="526" y="135"/>
                </a:lnTo>
                <a:lnTo>
                  <a:pt x="524" y="139"/>
                </a:lnTo>
                <a:lnTo>
                  <a:pt x="520" y="145"/>
                </a:lnTo>
                <a:lnTo>
                  <a:pt x="519" y="149"/>
                </a:lnTo>
                <a:lnTo>
                  <a:pt x="517" y="152"/>
                </a:lnTo>
                <a:lnTo>
                  <a:pt x="515" y="158"/>
                </a:lnTo>
                <a:lnTo>
                  <a:pt x="515" y="158"/>
                </a:lnTo>
                <a:close/>
              </a:path>
            </a:pathLst>
          </a:custGeom>
          <a:solidFill>
            <a:srgbClr val="ccc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42920" y="2417760"/>
            <a:ext cx="690480" cy="500040"/>
          </a:xfrm>
          <a:custGeom>
            <a:avLst/>
            <a:gdLst/>
            <a:ahLst/>
            <a:rect l="l" t="t" r="r" b="b"/>
            <a:pathLst>
              <a:path w="871" h="631">
                <a:moveTo>
                  <a:pt x="871" y="69"/>
                </a:moveTo>
                <a:lnTo>
                  <a:pt x="804" y="90"/>
                </a:lnTo>
                <a:lnTo>
                  <a:pt x="628" y="396"/>
                </a:lnTo>
                <a:lnTo>
                  <a:pt x="626" y="396"/>
                </a:lnTo>
                <a:lnTo>
                  <a:pt x="624" y="397"/>
                </a:lnTo>
                <a:lnTo>
                  <a:pt x="620" y="401"/>
                </a:lnTo>
                <a:lnTo>
                  <a:pt x="616" y="405"/>
                </a:lnTo>
                <a:lnTo>
                  <a:pt x="611" y="411"/>
                </a:lnTo>
                <a:lnTo>
                  <a:pt x="605" y="416"/>
                </a:lnTo>
                <a:lnTo>
                  <a:pt x="601" y="420"/>
                </a:lnTo>
                <a:lnTo>
                  <a:pt x="597" y="424"/>
                </a:lnTo>
                <a:lnTo>
                  <a:pt x="592" y="428"/>
                </a:lnTo>
                <a:lnTo>
                  <a:pt x="590" y="434"/>
                </a:lnTo>
                <a:lnTo>
                  <a:pt x="584" y="437"/>
                </a:lnTo>
                <a:lnTo>
                  <a:pt x="580" y="441"/>
                </a:lnTo>
                <a:lnTo>
                  <a:pt x="574" y="445"/>
                </a:lnTo>
                <a:lnTo>
                  <a:pt x="571" y="451"/>
                </a:lnTo>
                <a:lnTo>
                  <a:pt x="565" y="455"/>
                </a:lnTo>
                <a:lnTo>
                  <a:pt x="561" y="460"/>
                </a:lnTo>
                <a:lnTo>
                  <a:pt x="555" y="466"/>
                </a:lnTo>
                <a:lnTo>
                  <a:pt x="550" y="472"/>
                </a:lnTo>
                <a:lnTo>
                  <a:pt x="544" y="477"/>
                </a:lnTo>
                <a:lnTo>
                  <a:pt x="538" y="483"/>
                </a:lnTo>
                <a:lnTo>
                  <a:pt x="533" y="487"/>
                </a:lnTo>
                <a:lnTo>
                  <a:pt x="527" y="493"/>
                </a:lnTo>
                <a:lnTo>
                  <a:pt x="523" y="498"/>
                </a:lnTo>
                <a:lnTo>
                  <a:pt x="516" y="504"/>
                </a:lnTo>
                <a:lnTo>
                  <a:pt x="512" y="510"/>
                </a:lnTo>
                <a:lnTo>
                  <a:pt x="506" y="517"/>
                </a:lnTo>
                <a:lnTo>
                  <a:pt x="498" y="521"/>
                </a:lnTo>
                <a:lnTo>
                  <a:pt x="493" y="527"/>
                </a:lnTo>
                <a:lnTo>
                  <a:pt x="487" y="532"/>
                </a:lnTo>
                <a:lnTo>
                  <a:pt x="481" y="538"/>
                </a:lnTo>
                <a:lnTo>
                  <a:pt x="476" y="544"/>
                </a:lnTo>
                <a:lnTo>
                  <a:pt x="470" y="550"/>
                </a:lnTo>
                <a:lnTo>
                  <a:pt x="464" y="553"/>
                </a:lnTo>
                <a:lnTo>
                  <a:pt x="460" y="559"/>
                </a:lnTo>
                <a:lnTo>
                  <a:pt x="453" y="565"/>
                </a:lnTo>
                <a:lnTo>
                  <a:pt x="449" y="569"/>
                </a:lnTo>
                <a:lnTo>
                  <a:pt x="443" y="574"/>
                </a:lnTo>
                <a:lnTo>
                  <a:pt x="438" y="578"/>
                </a:lnTo>
                <a:lnTo>
                  <a:pt x="432" y="584"/>
                </a:lnTo>
                <a:lnTo>
                  <a:pt x="426" y="588"/>
                </a:lnTo>
                <a:lnTo>
                  <a:pt x="422" y="591"/>
                </a:lnTo>
                <a:lnTo>
                  <a:pt x="419" y="597"/>
                </a:lnTo>
                <a:lnTo>
                  <a:pt x="413" y="601"/>
                </a:lnTo>
                <a:lnTo>
                  <a:pt x="409" y="605"/>
                </a:lnTo>
                <a:lnTo>
                  <a:pt x="405" y="608"/>
                </a:lnTo>
                <a:lnTo>
                  <a:pt x="401" y="610"/>
                </a:lnTo>
                <a:lnTo>
                  <a:pt x="394" y="618"/>
                </a:lnTo>
                <a:lnTo>
                  <a:pt x="386" y="622"/>
                </a:lnTo>
                <a:lnTo>
                  <a:pt x="381" y="626"/>
                </a:lnTo>
                <a:lnTo>
                  <a:pt x="377" y="629"/>
                </a:lnTo>
                <a:lnTo>
                  <a:pt x="373" y="629"/>
                </a:lnTo>
                <a:lnTo>
                  <a:pt x="371" y="631"/>
                </a:lnTo>
                <a:lnTo>
                  <a:pt x="365" y="629"/>
                </a:lnTo>
                <a:lnTo>
                  <a:pt x="358" y="629"/>
                </a:lnTo>
                <a:lnTo>
                  <a:pt x="354" y="629"/>
                </a:lnTo>
                <a:lnTo>
                  <a:pt x="348" y="629"/>
                </a:lnTo>
                <a:lnTo>
                  <a:pt x="344" y="627"/>
                </a:lnTo>
                <a:lnTo>
                  <a:pt x="341" y="627"/>
                </a:lnTo>
                <a:lnTo>
                  <a:pt x="335" y="626"/>
                </a:lnTo>
                <a:lnTo>
                  <a:pt x="329" y="624"/>
                </a:lnTo>
                <a:lnTo>
                  <a:pt x="324" y="622"/>
                </a:lnTo>
                <a:lnTo>
                  <a:pt x="318" y="622"/>
                </a:lnTo>
                <a:lnTo>
                  <a:pt x="312" y="620"/>
                </a:lnTo>
                <a:lnTo>
                  <a:pt x="306" y="618"/>
                </a:lnTo>
                <a:lnTo>
                  <a:pt x="301" y="616"/>
                </a:lnTo>
                <a:lnTo>
                  <a:pt x="295" y="614"/>
                </a:lnTo>
                <a:lnTo>
                  <a:pt x="287" y="610"/>
                </a:lnTo>
                <a:lnTo>
                  <a:pt x="282" y="607"/>
                </a:lnTo>
                <a:lnTo>
                  <a:pt x="274" y="603"/>
                </a:lnTo>
                <a:lnTo>
                  <a:pt x="267" y="599"/>
                </a:lnTo>
                <a:lnTo>
                  <a:pt x="259" y="595"/>
                </a:lnTo>
                <a:lnTo>
                  <a:pt x="253" y="591"/>
                </a:lnTo>
                <a:lnTo>
                  <a:pt x="246" y="588"/>
                </a:lnTo>
                <a:lnTo>
                  <a:pt x="238" y="582"/>
                </a:lnTo>
                <a:lnTo>
                  <a:pt x="230" y="576"/>
                </a:lnTo>
                <a:lnTo>
                  <a:pt x="223" y="572"/>
                </a:lnTo>
                <a:lnTo>
                  <a:pt x="215" y="567"/>
                </a:lnTo>
                <a:lnTo>
                  <a:pt x="208" y="561"/>
                </a:lnTo>
                <a:lnTo>
                  <a:pt x="200" y="553"/>
                </a:lnTo>
                <a:lnTo>
                  <a:pt x="194" y="546"/>
                </a:lnTo>
                <a:lnTo>
                  <a:pt x="187" y="540"/>
                </a:lnTo>
                <a:lnTo>
                  <a:pt x="179" y="532"/>
                </a:lnTo>
                <a:lnTo>
                  <a:pt x="170" y="523"/>
                </a:lnTo>
                <a:lnTo>
                  <a:pt x="164" y="515"/>
                </a:lnTo>
                <a:lnTo>
                  <a:pt x="154" y="506"/>
                </a:lnTo>
                <a:lnTo>
                  <a:pt x="149" y="496"/>
                </a:lnTo>
                <a:lnTo>
                  <a:pt x="141" y="487"/>
                </a:lnTo>
                <a:lnTo>
                  <a:pt x="133" y="477"/>
                </a:lnTo>
                <a:lnTo>
                  <a:pt x="126" y="466"/>
                </a:lnTo>
                <a:lnTo>
                  <a:pt x="120" y="455"/>
                </a:lnTo>
                <a:lnTo>
                  <a:pt x="111" y="443"/>
                </a:lnTo>
                <a:lnTo>
                  <a:pt x="105" y="432"/>
                </a:lnTo>
                <a:lnTo>
                  <a:pt x="97" y="418"/>
                </a:lnTo>
                <a:lnTo>
                  <a:pt x="92" y="405"/>
                </a:lnTo>
                <a:lnTo>
                  <a:pt x="84" y="392"/>
                </a:lnTo>
                <a:lnTo>
                  <a:pt x="78" y="378"/>
                </a:lnTo>
                <a:lnTo>
                  <a:pt x="73" y="363"/>
                </a:lnTo>
                <a:lnTo>
                  <a:pt x="67" y="350"/>
                </a:lnTo>
                <a:lnTo>
                  <a:pt x="59" y="333"/>
                </a:lnTo>
                <a:lnTo>
                  <a:pt x="54" y="318"/>
                </a:lnTo>
                <a:lnTo>
                  <a:pt x="48" y="301"/>
                </a:lnTo>
                <a:lnTo>
                  <a:pt x="44" y="283"/>
                </a:lnTo>
                <a:lnTo>
                  <a:pt x="38" y="264"/>
                </a:lnTo>
                <a:lnTo>
                  <a:pt x="33" y="247"/>
                </a:lnTo>
                <a:lnTo>
                  <a:pt x="29" y="226"/>
                </a:lnTo>
                <a:lnTo>
                  <a:pt x="25" y="209"/>
                </a:lnTo>
                <a:lnTo>
                  <a:pt x="19" y="188"/>
                </a:lnTo>
                <a:lnTo>
                  <a:pt x="16" y="167"/>
                </a:lnTo>
                <a:lnTo>
                  <a:pt x="12" y="147"/>
                </a:lnTo>
                <a:lnTo>
                  <a:pt x="10" y="124"/>
                </a:lnTo>
                <a:lnTo>
                  <a:pt x="6" y="101"/>
                </a:lnTo>
                <a:lnTo>
                  <a:pt x="4" y="78"/>
                </a:lnTo>
                <a:lnTo>
                  <a:pt x="2" y="53"/>
                </a:lnTo>
                <a:lnTo>
                  <a:pt x="0" y="31"/>
                </a:lnTo>
                <a:lnTo>
                  <a:pt x="0" y="23"/>
                </a:lnTo>
                <a:lnTo>
                  <a:pt x="6" y="17"/>
                </a:lnTo>
                <a:lnTo>
                  <a:pt x="8" y="14"/>
                </a:lnTo>
                <a:lnTo>
                  <a:pt x="12" y="12"/>
                </a:lnTo>
                <a:lnTo>
                  <a:pt x="18" y="10"/>
                </a:lnTo>
                <a:lnTo>
                  <a:pt x="21" y="8"/>
                </a:lnTo>
                <a:lnTo>
                  <a:pt x="25" y="6"/>
                </a:lnTo>
                <a:lnTo>
                  <a:pt x="29" y="4"/>
                </a:lnTo>
                <a:lnTo>
                  <a:pt x="33" y="4"/>
                </a:lnTo>
                <a:lnTo>
                  <a:pt x="37" y="2"/>
                </a:lnTo>
                <a:lnTo>
                  <a:pt x="42" y="0"/>
                </a:lnTo>
                <a:lnTo>
                  <a:pt x="44" y="0"/>
                </a:lnTo>
                <a:lnTo>
                  <a:pt x="29" y="42"/>
                </a:lnTo>
                <a:lnTo>
                  <a:pt x="82" y="240"/>
                </a:lnTo>
                <a:lnTo>
                  <a:pt x="519" y="230"/>
                </a:lnTo>
                <a:lnTo>
                  <a:pt x="523" y="223"/>
                </a:lnTo>
                <a:lnTo>
                  <a:pt x="527" y="217"/>
                </a:lnTo>
                <a:lnTo>
                  <a:pt x="531" y="209"/>
                </a:lnTo>
                <a:lnTo>
                  <a:pt x="536" y="204"/>
                </a:lnTo>
                <a:lnTo>
                  <a:pt x="540" y="198"/>
                </a:lnTo>
                <a:lnTo>
                  <a:pt x="544" y="192"/>
                </a:lnTo>
                <a:lnTo>
                  <a:pt x="550" y="186"/>
                </a:lnTo>
                <a:lnTo>
                  <a:pt x="554" y="181"/>
                </a:lnTo>
                <a:lnTo>
                  <a:pt x="557" y="175"/>
                </a:lnTo>
                <a:lnTo>
                  <a:pt x="563" y="171"/>
                </a:lnTo>
                <a:lnTo>
                  <a:pt x="567" y="166"/>
                </a:lnTo>
                <a:lnTo>
                  <a:pt x="571" y="162"/>
                </a:lnTo>
                <a:lnTo>
                  <a:pt x="574" y="158"/>
                </a:lnTo>
                <a:lnTo>
                  <a:pt x="580" y="154"/>
                </a:lnTo>
                <a:lnTo>
                  <a:pt x="584" y="150"/>
                </a:lnTo>
                <a:lnTo>
                  <a:pt x="590" y="147"/>
                </a:lnTo>
                <a:lnTo>
                  <a:pt x="592" y="143"/>
                </a:lnTo>
                <a:lnTo>
                  <a:pt x="597" y="139"/>
                </a:lnTo>
                <a:lnTo>
                  <a:pt x="601" y="135"/>
                </a:lnTo>
                <a:lnTo>
                  <a:pt x="605" y="133"/>
                </a:lnTo>
                <a:lnTo>
                  <a:pt x="609" y="129"/>
                </a:lnTo>
                <a:lnTo>
                  <a:pt x="614" y="128"/>
                </a:lnTo>
                <a:lnTo>
                  <a:pt x="618" y="124"/>
                </a:lnTo>
                <a:lnTo>
                  <a:pt x="622" y="122"/>
                </a:lnTo>
                <a:lnTo>
                  <a:pt x="626" y="120"/>
                </a:lnTo>
                <a:lnTo>
                  <a:pt x="630" y="118"/>
                </a:lnTo>
                <a:lnTo>
                  <a:pt x="633" y="114"/>
                </a:lnTo>
                <a:lnTo>
                  <a:pt x="639" y="112"/>
                </a:lnTo>
                <a:lnTo>
                  <a:pt x="643" y="110"/>
                </a:lnTo>
                <a:lnTo>
                  <a:pt x="647" y="109"/>
                </a:lnTo>
                <a:lnTo>
                  <a:pt x="652" y="109"/>
                </a:lnTo>
                <a:lnTo>
                  <a:pt x="656" y="107"/>
                </a:lnTo>
                <a:lnTo>
                  <a:pt x="660" y="105"/>
                </a:lnTo>
                <a:lnTo>
                  <a:pt x="664" y="103"/>
                </a:lnTo>
                <a:lnTo>
                  <a:pt x="668" y="101"/>
                </a:lnTo>
                <a:lnTo>
                  <a:pt x="671" y="99"/>
                </a:lnTo>
                <a:lnTo>
                  <a:pt x="675" y="97"/>
                </a:lnTo>
                <a:lnTo>
                  <a:pt x="679" y="97"/>
                </a:lnTo>
                <a:lnTo>
                  <a:pt x="683" y="95"/>
                </a:lnTo>
                <a:lnTo>
                  <a:pt x="687" y="95"/>
                </a:lnTo>
                <a:lnTo>
                  <a:pt x="690" y="91"/>
                </a:lnTo>
                <a:lnTo>
                  <a:pt x="696" y="91"/>
                </a:lnTo>
                <a:lnTo>
                  <a:pt x="698" y="90"/>
                </a:lnTo>
                <a:lnTo>
                  <a:pt x="704" y="88"/>
                </a:lnTo>
                <a:lnTo>
                  <a:pt x="707" y="88"/>
                </a:lnTo>
                <a:lnTo>
                  <a:pt x="711" y="86"/>
                </a:lnTo>
                <a:lnTo>
                  <a:pt x="715" y="84"/>
                </a:lnTo>
                <a:lnTo>
                  <a:pt x="719" y="84"/>
                </a:lnTo>
                <a:lnTo>
                  <a:pt x="723" y="82"/>
                </a:lnTo>
                <a:lnTo>
                  <a:pt x="728" y="80"/>
                </a:lnTo>
                <a:lnTo>
                  <a:pt x="730" y="78"/>
                </a:lnTo>
                <a:lnTo>
                  <a:pt x="736" y="76"/>
                </a:lnTo>
                <a:lnTo>
                  <a:pt x="740" y="74"/>
                </a:lnTo>
                <a:lnTo>
                  <a:pt x="744" y="74"/>
                </a:lnTo>
                <a:lnTo>
                  <a:pt x="747" y="72"/>
                </a:lnTo>
                <a:lnTo>
                  <a:pt x="753" y="71"/>
                </a:lnTo>
                <a:lnTo>
                  <a:pt x="757" y="69"/>
                </a:lnTo>
                <a:lnTo>
                  <a:pt x="761" y="67"/>
                </a:lnTo>
                <a:lnTo>
                  <a:pt x="765" y="65"/>
                </a:lnTo>
                <a:lnTo>
                  <a:pt x="768" y="61"/>
                </a:lnTo>
                <a:lnTo>
                  <a:pt x="774" y="59"/>
                </a:lnTo>
                <a:lnTo>
                  <a:pt x="778" y="57"/>
                </a:lnTo>
                <a:lnTo>
                  <a:pt x="782" y="55"/>
                </a:lnTo>
                <a:lnTo>
                  <a:pt x="787" y="53"/>
                </a:lnTo>
                <a:lnTo>
                  <a:pt x="871" y="69"/>
                </a:lnTo>
                <a:lnTo>
                  <a:pt x="871" y="69"/>
                </a:lnTo>
                <a:close/>
              </a:path>
            </a:pathLst>
          </a:custGeom>
          <a:solidFill>
            <a:srgbClr val="e6e6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61960" y="1816200"/>
            <a:ext cx="220680" cy="156960"/>
          </a:xfrm>
          <a:custGeom>
            <a:avLst/>
            <a:gdLst/>
            <a:ahLst/>
            <a:rect l="l" t="t" r="r" b="b"/>
            <a:pathLst>
              <a:path w="277" h="197">
                <a:moveTo>
                  <a:pt x="237" y="53"/>
                </a:moveTo>
                <a:lnTo>
                  <a:pt x="28" y="197"/>
                </a:lnTo>
                <a:lnTo>
                  <a:pt x="0" y="192"/>
                </a:lnTo>
                <a:lnTo>
                  <a:pt x="277" y="0"/>
                </a:lnTo>
                <a:lnTo>
                  <a:pt x="237" y="53"/>
                </a:lnTo>
                <a:lnTo>
                  <a:pt x="237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814400" y="1549440"/>
            <a:ext cx="587520" cy="912600"/>
          </a:xfrm>
          <a:custGeom>
            <a:avLst/>
            <a:gdLst/>
            <a:ahLst/>
            <a:rect l="l" t="t" r="r" b="b"/>
            <a:pathLst>
              <a:path w="739" h="1150">
                <a:moveTo>
                  <a:pt x="671" y="1034"/>
                </a:moveTo>
                <a:lnTo>
                  <a:pt x="663" y="1032"/>
                </a:lnTo>
                <a:lnTo>
                  <a:pt x="655" y="1030"/>
                </a:lnTo>
                <a:lnTo>
                  <a:pt x="650" y="1029"/>
                </a:lnTo>
                <a:lnTo>
                  <a:pt x="644" y="1025"/>
                </a:lnTo>
                <a:lnTo>
                  <a:pt x="636" y="1023"/>
                </a:lnTo>
                <a:lnTo>
                  <a:pt x="629" y="1021"/>
                </a:lnTo>
                <a:lnTo>
                  <a:pt x="623" y="1019"/>
                </a:lnTo>
                <a:lnTo>
                  <a:pt x="615" y="1017"/>
                </a:lnTo>
                <a:lnTo>
                  <a:pt x="608" y="1013"/>
                </a:lnTo>
                <a:lnTo>
                  <a:pt x="602" y="1011"/>
                </a:lnTo>
                <a:lnTo>
                  <a:pt x="595" y="1008"/>
                </a:lnTo>
                <a:lnTo>
                  <a:pt x="587" y="1006"/>
                </a:lnTo>
                <a:lnTo>
                  <a:pt x="581" y="1004"/>
                </a:lnTo>
                <a:lnTo>
                  <a:pt x="574" y="1002"/>
                </a:lnTo>
                <a:lnTo>
                  <a:pt x="568" y="998"/>
                </a:lnTo>
                <a:lnTo>
                  <a:pt x="560" y="996"/>
                </a:lnTo>
                <a:lnTo>
                  <a:pt x="555" y="992"/>
                </a:lnTo>
                <a:lnTo>
                  <a:pt x="547" y="989"/>
                </a:lnTo>
                <a:lnTo>
                  <a:pt x="541" y="987"/>
                </a:lnTo>
                <a:lnTo>
                  <a:pt x="534" y="985"/>
                </a:lnTo>
                <a:lnTo>
                  <a:pt x="528" y="981"/>
                </a:lnTo>
                <a:lnTo>
                  <a:pt x="522" y="977"/>
                </a:lnTo>
                <a:lnTo>
                  <a:pt x="517" y="973"/>
                </a:lnTo>
                <a:lnTo>
                  <a:pt x="511" y="972"/>
                </a:lnTo>
                <a:lnTo>
                  <a:pt x="503" y="968"/>
                </a:lnTo>
                <a:lnTo>
                  <a:pt x="498" y="964"/>
                </a:lnTo>
                <a:lnTo>
                  <a:pt x="492" y="960"/>
                </a:lnTo>
                <a:lnTo>
                  <a:pt x="488" y="958"/>
                </a:lnTo>
                <a:lnTo>
                  <a:pt x="482" y="954"/>
                </a:lnTo>
                <a:lnTo>
                  <a:pt x="477" y="951"/>
                </a:lnTo>
                <a:lnTo>
                  <a:pt x="473" y="947"/>
                </a:lnTo>
                <a:lnTo>
                  <a:pt x="469" y="943"/>
                </a:lnTo>
                <a:lnTo>
                  <a:pt x="463" y="939"/>
                </a:lnTo>
                <a:lnTo>
                  <a:pt x="458" y="934"/>
                </a:lnTo>
                <a:lnTo>
                  <a:pt x="452" y="930"/>
                </a:lnTo>
                <a:lnTo>
                  <a:pt x="448" y="924"/>
                </a:lnTo>
                <a:lnTo>
                  <a:pt x="442" y="920"/>
                </a:lnTo>
                <a:lnTo>
                  <a:pt x="439" y="916"/>
                </a:lnTo>
                <a:lnTo>
                  <a:pt x="435" y="911"/>
                </a:lnTo>
                <a:lnTo>
                  <a:pt x="429" y="907"/>
                </a:lnTo>
                <a:lnTo>
                  <a:pt x="425" y="901"/>
                </a:lnTo>
                <a:lnTo>
                  <a:pt x="422" y="896"/>
                </a:lnTo>
                <a:lnTo>
                  <a:pt x="418" y="890"/>
                </a:lnTo>
                <a:lnTo>
                  <a:pt x="414" y="886"/>
                </a:lnTo>
                <a:lnTo>
                  <a:pt x="408" y="880"/>
                </a:lnTo>
                <a:lnTo>
                  <a:pt x="406" y="877"/>
                </a:lnTo>
                <a:lnTo>
                  <a:pt x="403" y="871"/>
                </a:lnTo>
                <a:lnTo>
                  <a:pt x="399" y="865"/>
                </a:lnTo>
                <a:lnTo>
                  <a:pt x="395" y="859"/>
                </a:lnTo>
                <a:lnTo>
                  <a:pt x="391" y="856"/>
                </a:lnTo>
                <a:lnTo>
                  <a:pt x="387" y="850"/>
                </a:lnTo>
                <a:lnTo>
                  <a:pt x="385" y="846"/>
                </a:lnTo>
                <a:lnTo>
                  <a:pt x="382" y="838"/>
                </a:lnTo>
                <a:lnTo>
                  <a:pt x="378" y="835"/>
                </a:lnTo>
                <a:lnTo>
                  <a:pt x="376" y="829"/>
                </a:lnTo>
                <a:lnTo>
                  <a:pt x="374" y="825"/>
                </a:lnTo>
                <a:lnTo>
                  <a:pt x="370" y="819"/>
                </a:lnTo>
                <a:lnTo>
                  <a:pt x="368" y="816"/>
                </a:lnTo>
                <a:lnTo>
                  <a:pt x="365" y="810"/>
                </a:lnTo>
                <a:lnTo>
                  <a:pt x="363" y="806"/>
                </a:lnTo>
                <a:lnTo>
                  <a:pt x="361" y="800"/>
                </a:lnTo>
                <a:lnTo>
                  <a:pt x="359" y="795"/>
                </a:lnTo>
                <a:lnTo>
                  <a:pt x="355" y="791"/>
                </a:lnTo>
                <a:lnTo>
                  <a:pt x="353" y="787"/>
                </a:lnTo>
                <a:lnTo>
                  <a:pt x="351" y="781"/>
                </a:lnTo>
                <a:lnTo>
                  <a:pt x="349" y="778"/>
                </a:lnTo>
                <a:lnTo>
                  <a:pt x="347" y="772"/>
                </a:lnTo>
                <a:lnTo>
                  <a:pt x="346" y="768"/>
                </a:lnTo>
                <a:lnTo>
                  <a:pt x="344" y="764"/>
                </a:lnTo>
                <a:lnTo>
                  <a:pt x="342" y="759"/>
                </a:lnTo>
                <a:lnTo>
                  <a:pt x="340" y="757"/>
                </a:lnTo>
                <a:lnTo>
                  <a:pt x="338" y="753"/>
                </a:lnTo>
                <a:lnTo>
                  <a:pt x="336" y="747"/>
                </a:lnTo>
                <a:lnTo>
                  <a:pt x="334" y="743"/>
                </a:lnTo>
                <a:lnTo>
                  <a:pt x="334" y="740"/>
                </a:lnTo>
                <a:lnTo>
                  <a:pt x="332" y="738"/>
                </a:lnTo>
                <a:lnTo>
                  <a:pt x="330" y="730"/>
                </a:lnTo>
                <a:lnTo>
                  <a:pt x="328" y="724"/>
                </a:lnTo>
                <a:lnTo>
                  <a:pt x="327" y="719"/>
                </a:lnTo>
                <a:lnTo>
                  <a:pt x="325" y="715"/>
                </a:lnTo>
                <a:lnTo>
                  <a:pt x="323" y="709"/>
                </a:lnTo>
                <a:lnTo>
                  <a:pt x="323" y="705"/>
                </a:lnTo>
                <a:lnTo>
                  <a:pt x="321" y="702"/>
                </a:lnTo>
                <a:lnTo>
                  <a:pt x="321" y="700"/>
                </a:lnTo>
                <a:lnTo>
                  <a:pt x="110" y="787"/>
                </a:lnTo>
                <a:lnTo>
                  <a:pt x="114" y="793"/>
                </a:lnTo>
                <a:lnTo>
                  <a:pt x="121" y="799"/>
                </a:lnTo>
                <a:lnTo>
                  <a:pt x="125" y="804"/>
                </a:lnTo>
                <a:lnTo>
                  <a:pt x="131" y="810"/>
                </a:lnTo>
                <a:lnTo>
                  <a:pt x="135" y="816"/>
                </a:lnTo>
                <a:lnTo>
                  <a:pt x="138" y="821"/>
                </a:lnTo>
                <a:lnTo>
                  <a:pt x="144" y="829"/>
                </a:lnTo>
                <a:lnTo>
                  <a:pt x="148" y="835"/>
                </a:lnTo>
                <a:lnTo>
                  <a:pt x="150" y="842"/>
                </a:lnTo>
                <a:lnTo>
                  <a:pt x="154" y="848"/>
                </a:lnTo>
                <a:lnTo>
                  <a:pt x="155" y="854"/>
                </a:lnTo>
                <a:lnTo>
                  <a:pt x="159" y="861"/>
                </a:lnTo>
                <a:lnTo>
                  <a:pt x="163" y="867"/>
                </a:lnTo>
                <a:lnTo>
                  <a:pt x="165" y="875"/>
                </a:lnTo>
                <a:lnTo>
                  <a:pt x="167" y="882"/>
                </a:lnTo>
                <a:lnTo>
                  <a:pt x="169" y="890"/>
                </a:lnTo>
                <a:lnTo>
                  <a:pt x="169" y="896"/>
                </a:lnTo>
                <a:lnTo>
                  <a:pt x="171" y="901"/>
                </a:lnTo>
                <a:lnTo>
                  <a:pt x="171" y="909"/>
                </a:lnTo>
                <a:lnTo>
                  <a:pt x="173" y="916"/>
                </a:lnTo>
                <a:lnTo>
                  <a:pt x="173" y="922"/>
                </a:lnTo>
                <a:lnTo>
                  <a:pt x="174" y="930"/>
                </a:lnTo>
                <a:lnTo>
                  <a:pt x="174" y="935"/>
                </a:lnTo>
                <a:lnTo>
                  <a:pt x="174" y="943"/>
                </a:lnTo>
                <a:lnTo>
                  <a:pt x="174" y="949"/>
                </a:lnTo>
                <a:lnTo>
                  <a:pt x="174" y="956"/>
                </a:lnTo>
                <a:lnTo>
                  <a:pt x="174" y="962"/>
                </a:lnTo>
                <a:lnTo>
                  <a:pt x="174" y="970"/>
                </a:lnTo>
                <a:lnTo>
                  <a:pt x="173" y="977"/>
                </a:lnTo>
                <a:lnTo>
                  <a:pt x="173" y="985"/>
                </a:lnTo>
                <a:lnTo>
                  <a:pt x="171" y="991"/>
                </a:lnTo>
                <a:lnTo>
                  <a:pt x="171" y="998"/>
                </a:lnTo>
                <a:lnTo>
                  <a:pt x="169" y="1004"/>
                </a:lnTo>
                <a:lnTo>
                  <a:pt x="167" y="1010"/>
                </a:lnTo>
                <a:lnTo>
                  <a:pt x="167" y="1015"/>
                </a:lnTo>
                <a:lnTo>
                  <a:pt x="165" y="1023"/>
                </a:lnTo>
                <a:lnTo>
                  <a:pt x="163" y="1029"/>
                </a:lnTo>
                <a:lnTo>
                  <a:pt x="161" y="1034"/>
                </a:lnTo>
                <a:lnTo>
                  <a:pt x="159" y="1040"/>
                </a:lnTo>
                <a:lnTo>
                  <a:pt x="159" y="1048"/>
                </a:lnTo>
                <a:lnTo>
                  <a:pt x="155" y="1051"/>
                </a:lnTo>
                <a:lnTo>
                  <a:pt x="154" y="1057"/>
                </a:lnTo>
                <a:lnTo>
                  <a:pt x="152" y="1063"/>
                </a:lnTo>
                <a:lnTo>
                  <a:pt x="150" y="1070"/>
                </a:lnTo>
                <a:lnTo>
                  <a:pt x="148" y="1074"/>
                </a:lnTo>
                <a:lnTo>
                  <a:pt x="148" y="1080"/>
                </a:lnTo>
                <a:lnTo>
                  <a:pt x="144" y="1086"/>
                </a:lnTo>
                <a:lnTo>
                  <a:pt x="144" y="1091"/>
                </a:lnTo>
                <a:lnTo>
                  <a:pt x="140" y="1095"/>
                </a:lnTo>
                <a:lnTo>
                  <a:pt x="138" y="1099"/>
                </a:lnTo>
                <a:lnTo>
                  <a:pt x="136" y="1105"/>
                </a:lnTo>
                <a:lnTo>
                  <a:pt x="135" y="1108"/>
                </a:lnTo>
                <a:lnTo>
                  <a:pt x="133" y="1114"/>
                </a:lnTo>
                <a:lnTo>
                  <a:pt x="131" y="1118"/>
                </a:lnTo>
                <a:lnTo>
                  <a:pt x="129" y="1122"/>
                </a:lnTo>
                <a:lnTo>
                  <a:pt x="127" y="1126"/>
                </a:lnTo>
                <a:lnTo>
                  <a:pt x="123" y="1131"/>
                </a:lnTo>
                <a:lnTo>
                  <a:pt x="121" y="1139"/>
                </a:lnTo>
                <a:lnTo>
                  <a:pt x="117" y="1145"/>
                </a:lnTo>
                <a:lnTo>
                  <a:pt x="116" y="1150"/>
                </a:lnTo>
                <a:lnTo>
                  <a:pt x="0" y="772"/>
                </a:lnTo>
                <a:lnTo>
                  <a:pt x="1" y="762"/>
                </a:lnTo>
                <a:lnTo>
                  <a:pt x="5" y="755"/>
                </a:lnTo>
                <a:lnTo>
                  <a:pt x="9" y="745"/>
                </a:lnTo>
                <a:lnTo>
                  <a:pt x="13" y="738"/>
                </a:lnTo>
                <a:lnTo>
                  <a:pt x="17" y="730"/>
                </a:lnTo>
                <a:lnTo>
                  <a:pt x="21" y="723"/>
                </a:lnTo>
                <a:lnTo>
                  <a:pt x="26" y="715"/>
                </a:lnTo>
                <a:lnTo>
                  <a:pt x="32" y="707"/>
                </a:lnTo>
                <a:lnTo>
                  <a:pt x="36" y="700"/>
                </a:lnTo>
                <a:lnTo>
                  <a:pt x="41" y="692"/>
                </a:lnTo>
                <a:lnTo>
                  <a:pt x="45" y="686"/>
                </a:lnTo>
                <a:lnTo>
                  <a:pt x="53" y="681"/>
                </a:lnTo>
                <a:lnTo>
                  <a:pt x="57" y="673"/>
                </a:lnTo>
                <a:lnTo>
                  <a:pt x="62" y="667"/>
                </a:lnTo>
                <a:lnTo>
                  <a:pt x="68" y="662"/>
                </a:lnTo>
                <a:lnTo>
                  <a:pt x="76" y="656"/>
                </a:lnTo>
                <a:lnTo>
                  <a:pt x="81" y="650"/>
                </a:lnTo>
                <a:lnTo>
                  <a:pt x="87" y="645"/>
                </a:lnTo>
                <a:lnTo>
                  <a:pt x="93" y="639"/>
                </a:lnTo>
                <a:lnTo>
                  <a:pt x="98" y="635"/>
                </a:lnTo>
                <a:lnTo>
                  <a:pt x="104" y="629"/>
                </a:lnTo>
                <a:lnTo>
                  <a:pt x="112" y="624"/>
                </a:lnTo>
                <a:lnTo>
                  <a:pt x="117" y="620"/>
                </a:lnTo>
                <a:lnTo>
                  <a:pt x="123" y="616"/>
                </a:lnTo>
                <a:lnTo>
                  <a:pt x="129" y="612"/>
                </a:lnTo>
                <a:lnTo>
                  <a:pt x="136" y="607"/>
                </a:lnTo>
                <a:lnTo>
                  <a:pt x="142" y="603"/>
                </a:lnTo>
                <a:lnTo>
                  <a:pt x="150" y="599"/>
                </a:lnTo>
                <a:lnTo>
                  <a:pt x="155" y="595"/>
                </a:lnTo>
                <a:lnTo>
                  <a:pt x="163" y="591"/>
                </a:lnTo>
                <a:lnTo>
                  <a:pt x="169" y="589"/>
                </a:lnTo>
                <a:lnTo>
                  <a:pt x="174" y="586"/>
                </a:lnTo>
                <a:lnTo>
                  <a:pt x="180" y="582"/>
                </a:lnTo>
                <a:lnTo>
                  <a:pt x="186" y="580"/>
                </a:lnTo>
                <a:lnTo>
                  <a:pt x="192" y="576"/>
                </a:lnTo>
                <a:lnTo>
                  <a:pt x="199" y="574"/>
                </a:lnTo>
                <a:lnTo>
                  <a:pt x="205" y="570"/>
                </a:lnTo>
                <a:lnTo>
                  <a:pt x="211" y="569"/>
                </a:lnTo>
                <a:lnTo>
                  <a:pt x="216" y="567"/>
                </a:lnTo>
                <a:lnTo>
                  <a:pt x="222" y="565"/>
                </a:lnTo>
                <a:lnTo>
                  <a:pt x="226" y="563"/>
                </a:lnTo>
                <a:lnTo>
                  <a:pt x="231" y="561"/>
                </a:lnTo>
                <a:lnTo>
                  <a:pt x="237" y="559"/>
                </a:lnTo>
                <a:lnTo>
                  <a:pt x="243" y="557"/>
                </a:lnTo>
                <a:lnTo>
                  <a:pt x="247" y="555"/>
                </a:lnTo>
                <a:lnTo>
                  <a:pt x="252" y="553"/>
                </a:lnTo>
                <a:lnTo>
                  <a:pt x="256" y="551"/>
                </a:lnTo>
                <a:lnTo>
                  <a:pt x="262" y="551"/>
                </a:lnTo>
                <a:lnTo>
                  <a:pt x="266" y="550"/>
                </a:lnTo>
                <a:lnTo>
                  <a:pt x="270" y="548"/>
                </a:lnTo>
                <a:lnTo>
                  <a:pt x="273" y="548"/>
                </a:lnTo>
                <a:lnTo>
                  <a:pt x="277" y="546"/>
                </a:lnTo>
                <a:lnTo>
                  <a:pt x="283" y="544"/>
                </a:lnTo>
                <a:lnTo>
                  <a:pt x="289" y="544"/>
                </a:lnTo>
                <a:lnTo>
                  <a:pt x="292" y="542"/>
                </a:lnTo>
                <a:lnTo>
                  <a:pt x="296" y="542"/>
                </a:lnTo>
                <a:lnTo>
                  <a:pt x="296" y="542"/>
                </a:lnTo>
                <a:lnTo>
                  <a:pt x="298" y="542"/>
                </a:lnTo>
                <a:lnTo>
                  <a:pt x="298" y="540"/>
                </a:lnTo>
                <a:lnTo>
                  <a:pt x="296" y="536"/>
                </a:lnTo>
                <a:lnTo>
                  <a:pt x="296" y="532"/>
                </a:lnTo>
                <a:lnTo>
                  <a:pt x="296" y="529"/>
                </a:lnTo>
                <a:lnTo>
                  <a:pt x="296" y="525"/>
                </a:lnTo>
                <a:lnTo>
                  <a:pt x="296" y="521"/>
                </a:lnTo>
                <a:lnTo>
                  <a:pt x="294" y="513"/>
                </a:lnTo>
                <a:lnTo>
                  <a:pt x="294" y="508"/>
                </a:lnTo>
                <a:lnTo>
                  <a:pt x="294" y="500"/>
                </a:lnTo>
                <a:lnTo>
                  <a:pt x="294" y="494"/>
                </a:lnTo>
                <a:lnTo>
                  <a:pt x="294" y="491"/>
                </a:lnTo>
                <a:lnTo>
                  <a:pt x="294" y="487"/>
                </a:lnTo>
                <a:lnTo>
                  <a:pt x="294" y="483"/>
                </a:lnTo>
                <a:lnTo>
                  <a:pt x="294" y="479"/>
                </a:lnTo>
                <a:lnTo>
                  <a:pt x="294" y="474"/>
                </a:lnTo>
                <a:lnTo>
                  <a:pt x="294" y="470"/>
                </a:lnTo>
                <a:lnTo>
                  <a:pt x="294" y="466"/>
                </a:lnTo>
                <a:lnTo>
                  <a:pt x="294" y="462"/>
                </a:lnTo>
                <a:lnTo>
                  <a:pt x="294" y="456"/>
                </a:lnTo>
                <a:lnTo>
                  <a:pt x="294" y="451"/>
                </a:lnTo>
                <a:lnTo>
                  <a:pt x="294" y="447"/>
                </a:lnTo>
                <a:lnTo>
                  <a:pt x="294" y="441"/>
                </a:lnTo>
                <a:lnTo>
                  <a:pt x="294" y="436"/>
                </a:lnTo>
                <a:lnTo>
                  <a:pt x="296" y="432"/>
                </a:lnTo>
                <a:lnTo>
                  <a:pt x="296" y="426"/>
                </a:lnTo>
                <a:lnTo>
                  <a:pt x="298" y="422"/>
                </a:lnTo>
                <a:lnTo>
                  <a:pt x="298" y="417"/>
                </a:lnTo>
                <a:lnTo>
                  <a:pt x="298" y="411"/>
                </a:lnTo>
                <a:lnTo>
                  <a:pt x="300" y="405"/>
                </a:lnTo>
                <a:lnTo>
                  <a:pt x="300" y="399"/>
                </a:lnTo>
                <a:lnTo>
                  <a:pt x="300" y="394"/>
                </a:lnTo>
                <a:lnTo>
                  <a:pt x="302" y="388"/>
                </a:lnTo>
                <a:lnTo>
                  <a:pt x="304" y="382"/>
                </a:lnTo>
                <a:lnTo>
                  <a:pt x="306" y="378"/>
                </a:lnTo>
                <a:lnTo>
                  <a:pt x="306" y="371"/>
                </a:lnTo>
                <a:lnTo>
                  <a:pt x="308" y="365"/>
                </a:lnTo>
                <a:lnTo>
                  <a:pt x="308" y="359"/>
                </a:lnTo>
                <a:lnTo>
                  <a:pt x="309" y="354"/>
                </a:lnTo>
                <a:lnTo>
                  <a:pt x="311" y="348"/>
                </a:lnTo>
                <a:lnTo>
                  <a:pt x="313" y="342"/>
                </a:lnTo>
                <a:lnTo>
                  <a:pt x="315" y="337"/>
                </a:lnTo>
                <a:lnTo>
                  <a:pt x="317" y="331"/>
                </a:lnTo>
                <a:lnTo>
                  <a:pt x="319" y="323"/>
                </a:lnTo>
                <a:lnTo>
                  <a:pt x="321" y="318"/>
                </a:lnTo>
                <a:lnTo>
                  <a:pt x="323" y="312"/>
                </a:lnTo>
                <a:lnTo>
                  <a:pt x="327" y="306"/>
                </a:lnTo>
                <a:lnTo>
                  <a:pt x="328" y="299"/>
                </a:lnTo>
                <a:lnTo>
                  <a:pt x="330" y="293"/>
                </a:lnTo>
                <a:lnTo>
                  <a:pt x="332" y="287"/>
                </a:lnTo>
                <a:lnTo>
                  <a:pt x="336" y="282"/>
                </a:lnTo>
                <a:lnTo>
                  <a:pt x="332" y="278"/>
                </a:lnTo>
                <a:lnTo>
                  <a:pt x="330" y="272"/>
                </a:lnTo>
                <a:lnTo>
                  <a:pt x="327" y="268"/>
                </a:lnTo>
                <a:lnTo>
                  <a:pt x="325" y="264"/>
                </a:lnTo>
                <a:lnTo>
                  <a:pt x="321" y="259"/>
                </a:lnTo>
                <a:lnTo>
                  <a:pt x="319" y="253"/>
                </a:lnTo>
                <a:lnTo>
                  <a:pt x="317" y="245"/>
                </a:lnTo>
                <a:lnTo>
                  <a:pt x="315" y="240"/>
                </a:lnTo>
                <a:lnTo>
                  <a:pt x="311" y="234"/>
                </a:lnTo>
                <a:lnTo>
                  <a:pt x="309" y="226"/>
                </a:lnTo>
                <a:lnTo>
                  <a:pt x="306" y="219"/>
                </a:lnTo>
                <a:lnTo>
                  <a:pt x="306" y="211"/>
                </a:lnTo>
                <a:lnTo>
                  <a:pt x="304" y="207"/>
                </a:lnTo>
                <a:lnTo>
                  <a:pt x="304" y="204"/>
                </a:lnTo>
                <a:lnTo>
                  <a:pt x="302" y="200"/>
                </a:lnTo>
                <a:lnTo>
                  <a:pt x="302" y="196"/>
                </a:lnTo>
                <a:lnTo>
                  <a:pt x="300" y="188"/>
                </a:lnTo>
                <a:lnTo>
                  <a:pt x="300" y="181"/>
                </a:lnTo>
                <a:lnTo>
                  <a:pt x="300" y="177"/>
                </a:lnTo>
                <a:lnTo>
                  <a:pt x="300" y="171"/>
                </a:lnTo>
                <a:lnTo>
                  <a:pt x="300" y="168"/>
                </a:lnTo>
                <a:lnTo>
                  <a:pt x="300" y="164"/>
                </a:lnTo>
                <a:lnTo>
                  <a:pt x="300" y="160"/>
                </a:lnTo>
                <a:lnTo>
                  <a:pt x="300" y="154"/>
                </a:lnTo>
                <a:lnTo>
                  <a:pt x="300" y="150"/>
                </a:lnTo>
                <a:lnTo>
                  <a:pt x="300" y="147"/>
                </a:lnTo>
                <a:lnTo>
                  <a:pt x="300" y="143"/>
                </a:lnTo>
                <a:lnTo>
                  <a:pt x="302" y="139"/>
                </a:lnTo>
                <a:lnTo>
                  <a:pt x="302" y="133"/>
                </a:lnTo>
                <a:lnTo>
                  <a:pt x="304" y="131"/>
                </a:lnTo>
                <a:lnTo>
                  <a:pt x="304" y="126"/>
                </a:lnTo>
                <a:lnTo>
                  <a:pt x="306" y="122"/>
                </a:lnTo>
                <a:lnTo>
                  <a:pt x="306" y="118"/>
                </a:lnTo>
                <a:lnTo>
                  <a:pt x="309" y="114"/>
                </a:lnTo>
                <a:lnTo>
                  <a:pt x="309" y="110"/>
                </a:lnTo>
                <a:lnTo>
                  <a:pt x="311" y="105"/>
                </a:lnTo>
                <a:lnTo>
                  <a:pt x="313" y="101"/>
                </a:lnTo>
                <a:lnTo>
                  <a:pt x="315" y="97"/>
                </a:lnTo>
                <a:lnTo>
                  <a:pt x="319" y="90"/>
                </a:lnTo>
                <a:lnTo>
                  <a:pt x="323" y="82"/>
                </a:lnTo>
                <a:lnTo>
                  <a:pt x="328" y="74"/>
                </a:lnTo>
                <a:lnTo>
                  <a:pt x="334" y="67"/>
                </a:lnTo>
                <a:lnTo>
                  <a:pt x="338" y="63"/>
                </a:lnTo>
                <a:lnTo>
                  <a:pt x="342" y="61"/>
                </a:lnTo>
                <a:lnTo>
                  <a:pt x="346" y="57"/>
                </a:lnTo>
                <a:lnTo>
                  <a:pt x="349" y="55"/>
                </a:lnTo>
                <a:lnTo>
                  <a:pt x="353" y="50"/>
                </a:lnTo>
                <a:lnTo>
                  <a:pt x="359" y="46"/>
                </a:lnTo>
                <a:lnTo>
                  <a:pt x="365" y="42"/>
                </a:lnTo>
                <a:lnTo>
                  <a:pt x="370" y="38"/>
                </a:lnTo>
                <a:lnTo>
                  <a:pt x="376" y="34"/>
                </a:lnTo>
                <a:lnTo>
                  <a:pt x="382" y="33"/>
                </a:lnTo>
                <a:lnTo>
                  <a:pt x="389" y="29"/>
                </a:lnTo>
                <a:lnTo>
                  <a:pt x="397" y="27"/>
                </a:lnTo>
                <a:lnTo>
                  <a:pt x="403" y="25"/>
                </a:lnTo>
                <a:lnTo>
                  <a:pt x="408" y="21"/>
                </a:lnTo>
                <a:lnTo>
                  <a:pt x="416" y="21"/>
                </a:lnTo>
                <a:lnTo>
                  <a:pt x="423" y="19"/>
                </a:lnTo>
                <a:lnTo>
                  <a:pt x="431" y="17"/>
                </a:lnTo>
                <a:lnTo>
                  <a:pt x="439" y="15"/>
                </a:lnTo>
                <a:lnTo>
                  <a:pt x="442" y="15"/>
                </a:lnTo>
                <a:lnTo>
                  <a:pt x="446" y="15"/>
                </a:lnTo>
                <a:lnTo>
                  <a:pt x="450" y="15"/>
                </a:lnTo>
                <a:lnTo>
                  <a:pt x="456" y="15"/>
                </a:lnTo>
                <a:lnTo>
                  <a:pt x="461" y="14"/>
                </a:lnTo>
                <a:lnTo>
                  <a:pt x="471" y="14"/>
                </a:lnTo>
                <a:lnTo>
                  <a:pt x="477" y="14"/>
                </a:lnTo>
                <a:lnTo>
                  <a:pt x="484" y="14"/>
                </a:lnTo>
                <a:lnTo>
                  <a:pt x="492" y="12"/>
                </a:lnTo>
                <a:lnTo>
                  <a:pt x="499" y="12"/>
                </a:lnTo>
                <a:lnTo>
                  <a:pt x="503" y="12"/>
                </a:lnTo>
                <a:lnTo>
                  <a:pt x="509" y="14"/>
                </a:lnTo>
                <a:lnTo>
                  <a:pt x="511" y="14"/>
                </a:lnTo>
                <a:lnTo>
                  <a:pt x="517" y="14"/>
                </a:lnTo>
                <a:lnTo>
                  <a:pt x="522" y="14"/>
                </a:lnTo>
                <a:lnTo>
                  <a:pt x="530" y="14"/>
                </a:lnTo>
                <a:lnTo>
                  <a:pt x="538" y="15"/>
                </a:lnTo>
                <a:lnTo>
                  <a:pt x="545" y="15"/>
                </a:lnTo>
                <a:lnTo>
                  <a:pt x="551" y="17"/>
                </a:lnTo>
                <a:lnTo>
                  <a:pt x="558" y="19"/>
                </a:lnTo>
                <a:lnTo>
                  <a:pt x="564" y="19"/>
                </a:lnTo>
                <a:lnTo>
                  <a:pt x="570" y="21"/>
                </a:lnTo>
                <a:lnTo>
                  <a:pt x="397" y="103"/>
                </a:lnTo>
                <a:lnTo>
                  <a:pt x="399" y="110"/>
                </a:lnTo>
                <a:lnTo>
                  <a:pt x="403" y="118"/>
                </a:lnTo>
                <a:lnTo>
                  <a:pt x="406" y="126"/>
                </a:lnTo>
                <a:lnTo>
                  <a:pt x="408" y="133"/>
                </a:lnTo>
                <a:lnTo>
                  <a:pt x="410" y="141"/>
                </a:lnTo>
                <a:lnTo>
                  <a:pt x="412" y="148"/>
                </a:lnTo>
                <a:lnTo>
                  <a:pt x="412" y="152"/>
                </a:lnTo>
                <a:lnTo>
                  <a:pt x="414" y="156"/>
                </a:lnTo>
                <a:lnTo>
                  <a:pt x="414" y="160"/>
                </a:lnTo>
                <a:lnTo>
                  <a:pt x="416" y="164"/>
                </a:lnTo>
                <a:lnTo>
                  <a:pt x="416" y="169"/>
                </a:lnTo>
                <a:lnTo>
                  <a:pt x="416" y="177"/>
                </a:lnTo>
                <a:lnTo>
                  <a:pt x="416" y="185"/>
                </a:lnTo>
                <a:lnTo>
                  <a:pt x="416" y="190"/>
                </a:lnTo>
                <a:lnTo>
                  <a:pt x="414" y="196"/>
                </a:lnTo>
                <a:lnTo>
                  <a:pt x="414" y="204"/>
                </a:lnTo>
                <a:lnTo>
                  <a:pt x="412" y="209"/>
                </a:lnTo>
                <a:lnTo>
                  <a:pt x="412" y="215"/>
                </a:lnTo>
                <a:lnTo>
                  <a:pt x="528" y="251"/>
                </a:lnTo>
                <a:lnTo>
                  <a:pt x="532" y="245"/>
                </a:lnTo>
                <a:lnTo>
                  <a:pt x="538" y="240"/>
                </a:lnTo>
                <a:lnTo>
                  <a:pt x="543" y="234"/>
                </a:lnTo>
                <a:lnTo>
                  <a:pt x="549" y="230"/>
                </a:lnTo>
                <a:lnTo>
                  <a:pt x="555" y="225"/>
                </a:lnTo>
                <a:lnTo>
                  <a:pt x="560" y="221"/>
                </a:lnTo>
                <a:lnTo>
                  <a:pt x="566" y="217"/>
                </a:lnTo>
                <a:lnTo>
                  <a:pt x="574" y="213"/>
                </a:lnTo>
                <a:lnTo>
                  <a:pt x="579" y="209"/>
                </a:lnTo>
                <a:lnTo>
                  <a:pt x="585" y="206"/>
                </a:lnTo>
                <a:lnTo>
                  <a:pt x="591" y="204"/>
                </a:lnTo>
                <a:lnTo>
                  <a:pt x="596" y="202"/>
                </a:lnTo>
                <a:lnTo>
                  <a:pt x="602" y="198"/>
                </a:lnTo>
                <a:lnTo>
                  <a:pt x="610" y="196"/>
                </a:lnTo>
                <a:lnTo>
                  <a:pt x="615" y="196"/>
                </a:lnTo>
                <a:lnTo>
                  <a:pt x="621" y="194"/>
                </a:lnTo>
                <a:lnTo>
                  <a:pt x="627" y="192"/>
                </a:lnTo>
                <a:lnTo>
                  <a:pt x="633" y="190"/>
                </a:lnTo>
                <a:lnTo>
                  <a:pt x="636" y="188"/>
                </a:lnTo>
                <a:lnTo>
                  <a:pt x="642" y="188"/>
                </a:lnTo>
                <a:lnTo>
                  <a:pt x="646" y="187"/>
                </a:lnTo>
                <a:lnTo>
                  <a:pt x="652" y="187"/>
                </a:lnTo>
                <a:lnTo>
                  <a:pt x="655" y="187"/>
                </a:lnTo>
                <a:lnTo>
                  <a:pt x="661" y="187"/>
                </a:lnTo>
                <a:lnTo>
                  <a:pt x="667" y="187"/>
                </a:lnTo>
                <a:lnTo>
                  <a:pt x="672" y="187"/>
                </a:lnTo>
                <a:lnTo>
                  <a:pt x="676" y="187"/>
                </a:lnTo>
                <a:lnTo>
                  <a:pt x="676" y="187"/>
                </a:lnTo>
                <a:lnTo>
                  <a:pt x="663" y="0"/>
                </a:lnTo>
                <a:lnTo>
                  <a:pt x="663" y="2"/>
                </a:lnTo>
                <a:lnTo>
                  <a:pt x="667" y="6"/>
                </a:lnTo>
                <a:lnTo>
                  <a:pt x="671" y="8"/>
                </a:lnTo>
                <a:lnTo>
                  <a:pt x="672" y="12"/>
                </a:lnTo>
                <a:lnTo>
                  <a:pt x="674" y="15"/>
                </a:lnTo>
                <a:lnTo>
                  <a:pt x="678" y="21"/>
                </a:lnTo>
                <a:lnTo>
                  <a:pt x="682" y="27"/>
                </a:lnTo>
                <a:lnTo>
                  <a:pt x="686" y="33"/>
                </a:lnTo>
                <a:lnTo>
                  <a:pt x="690" y="40"/>
                </a:lnTo>
                <a:lnTo>
                  <a:pt x="693" y="48"/>
                </a:lnTo>
                <a:lnTo>
                  <a:pt x="699" y="55"/>
                </a:lnTo>
                <a:lnTo>
                  <a:pt x="703" y="63"/>
                </a:lnTo>
                <a:lnTo>
                  <a:pt x="705" y="67"/>
                </a:lnTo>
                <a:lnTo>
                  <a:pt x="707" y="71"/>
                </a:lnTo>
                <a:lnTo>
                  <a:pt x="709" y="74"/>
                </a:lnTo>
                <a:lnTo>
                  <a:pt x="712" y="80"/>
                </a:lnTo>
                <a:lnTo>
                  <a:pt x="714" y="84"/>
                </a:lnTo>
                <a:lnTo>
                  <a:pt x="716" y="88"/>
                </a:lnTo>
                <a:lnTo>
                  <a:pt x="716" y="91"/>
                </a:lnTo>
                <a:lnTo>
                  <a:pt x="720" y="95"/>
                </a:lnTo>
                <a:lnTo>
                  <a:pt x="720" y="101"/>
                </a:lnTo>
                <a:lnTo>
                  <a:pt x="724" y="105"/>
                </a:lnTo>
                <a:lnTo>
                  <a:pt x="724" y="110"/>
                </a:lnTo>
                <a:lnTo>
                  <a:pt x="726" y="114"/>
                </a:lnTo>
                <a:lnTo>
                  <a:pt x="728" y="120"/>
                </a:lnTo>
                <a:lnTo>
                  <a:pt x="729" y="124"/>
                </a:lnTo>
                <a:lnTo>
                  <a:pt x="731" y="128"/>
                </a:lnTo>
                <a:lnTo>
                  <a:pt x="733" y="133"/>
                </a:lnTo>
                <a:lnTo>
                  <a:pt x="733" y="137"/>
                </a:lnTo>
                <a:lnTo>
                  <a:pt x="735" y="143"/>
                </a:lnTo>
                <a:lnTo>
                  <a:pt x="735" y="147"/>
                </a:lnTo>
                <a:lnTo>
                  <a:pt x="737" y="152"/>
                </a:lnTo>
                <a:lnTo>
                  <a:pt x="737" y="156"/>
                </a:lnTo>
                <a:lnTo>
                  <a:pt x="737" y="160"/>
                </a:lnTo>
                <a:lnTo>
                  <a:pt x="739" y="166"/>
                </a:lnTo>
                <a:lnTo>
                  <a:pt x="739" y="169"/>
                </a:lnTo>
                <a:lnTo>
                  <a:pt x="739" y="175"/>
                </a:lnTo>
                <a:lnTo>
                  <a:pt x="739" y="179"/>
                </a:lnTo>
                <a:lnTo>
                  <a:pt x="739" y="183"/>
                </a:lnTo>
                <a:lnTo>
                  <a:pt x="739" y="188"/>
                </a:lnTo>
                <a:lnTo>
                  <a:pt x="739" y="192"/>
                </a:lnTo>
                <a:lnTo>
                  <a:pt x="739" y="196"/>
                </a:lnTo>
                <a:lnTo>
                  <a:pt x="737" y="202"/>
                </a:lnTo>
                <a:lnTo>
                  <a:pt x="737" y="206"/>
                </a:lnTo>
                <a:lnTo>
                  <a:pt x="735" y="209"/>
                </a:lnTo>
                <a:lnTo>
                  <a:pt x="735" y="213"/>
                </a:lnTo>
                <a:lnTo>
                  <a:pt x="733" y="219"/>
                </a:lnTo>
                <a:lnTo>
                  <a:pt x="733" y="223"/>
                </a:lnTo>
                <a:lnTo>
                  <a:pt x="728" y="230"/>
                </a:lnTo>
                <a:lnTo>
                  <a:pt x="724" y="238"/>
                </a:lnTo>
                <a:lnTo>
                  <a:pt x="720" y="244"/>
                </a:lnTo>
                <a:lnTo>
                  <a:pt x="714" y="251"/>
                </a:lnTo>
                <a:lnTo>
                  <a:pt x="709" y="259"/>
                </a:lnTo>
                <a:lnTo>
                  <a:pt x="701" y="264"/>
                </a:lnTo>
                <a:lnTo>
                  <a:pt x="695" y="272"/>
                </a:lnTo>
                <a:lnTo>
                  <a:pt x="690" y="278"/>
                </a:lnTo>
                <a:lnTo>
                  <a:pt x="682" y="285"/>
                </a:lnTo>
                <a:lnTo>
                  <a:pt x="674" y="291"/>
                </a:lnTo>
                <a:lnTo>
                  <a:pt x="667" y="295"/>
                </a:lnTo>
                <a:lnTo>
                  <a:pt x="661" y="301"/>
                </a:lnTo>
                <a:lnTo>
                  <a:pt x="652" y="304"/>
                </a:lnTo>
                <a:lnTo>
                  <a:pt x="646" y="310"/>
                </a:lnTo>
                <a:lnTo>
                  <a:pt x="638" y="314"/>
                </a:lnTo>
                <a:lnTo>
                  <a:pt x="633" y="320"/>
                </a:lnTo>
                <a:lnTo>
                  <a:pt x="623" y="323"/>
                </a:lnTo>
                <a:lnTo>
                  <a:pt x="617" y="327"/>
                </a:lnTo>
                <a:lnTo>
                  <a:pt x="610" y="331"/>
                </a:lnTo>
                <a:lnTo>
                  <a:pt x="604" y="335"/>
                </a:lnTo>
                <a:lnTo>
                  <a:pt x="596" y="337"/>
                </a:lnTo>
                <a:lnTo>
                  <a:pt x="591" y="340"/>
                </a:lnTo>
                <a:lnTo>
                  <a:pt x="585" y="342"/>
                </a:lnTo>
                <a:lnTo>
                  <a:pt x="581" y="344"/>
                </a:lnTo>
                <a:lnTo>
                  <a:pt x="576" y="346"/>
                </a:lnTo>
                <a:lnTo>
                  <a:pt x="572" y="348"/>
                </a:lnTo>
                <a:lnTo>
                  <a:pt x="568" y="350"/>
                </a:lnTo>
                <a:lnTo>
                  <a:pt x="564" y="352"/>
                </a:lnTo>
                <a:lnTo>
                  <a:pt x="560" y="352"/>
                </a:lnTo>
                <a:lnTo>
                  <a:pt x="558" y="354"/>
                </a:lnTo>
                <a:lnTo>
                  <a:pt x="452" y="559"/>
                </a:lnTo>
                <a:lnTo>
                  <a:pt x="532" y="875"/>
                </a:lnTo>
                <a:lnTo>
                  <a:pt x="538" y="875"/>
                </a:lnTo>
                <a:lnTo>
                  <a:pt x="543" y="875"/>
                </a:lnTo>
                <a:lnTo>
                  <a:pt x="549" y="875"/>
                </a:lnTo>
                <a:lnTo>
                  <a:pt x="557" y="875"/>
                </a:lnTo>
                <a:lnTo>
                  <a:pt x="562" y="875"/>
                </a:lnTo>
                <a:lnTo>
                  <a:pt x="568" y="877"/>
                </a:lnTo>
                <a:lnTo>
                  <a:pt x="576" y="877"/>
                </a:lnTo>
                <a:lnTo>
                  <a:pt x="581" y="878"/>
                </a:lnTo>
                <a:lnTo>
                  <a:pt x="587" y="878"/>
                </a:lnTo>
                <a:lnTo>
                  <a:pt x="595" y="880"/>
                </a:lnTo>
                <a:lnTo>
                  <a:pt x="598" y="880"/>
                </a:lnTo>
                <a:lnTo>
                  <a:pt x="606" y="882"/>
                </a:lnTo>
                <a:lnTo>
                  <a:pt x="612" y="884"/>
                </a:lnTo>
                <a:lnTo>
                  <a:pt x="617" y="884"/>
                </a:lnTo>
                <a:lnTo>
                  <a:pt x="625" y="886"/>
                </a:lnTo>
                <a:lnTo>
                  <a:pt x="631" y="890"/>
                </a:lnTo>
                <a:lnTo>
                  <a:pt x="636" y="890"/>
                </a:lnTo>
                <a:lnTo>
                  <a:pt x="642" y="892"/>
                </a:lnTo>
                <a:lnTo>
                  <a:pt x="648" y="894"/>
                </a:lnTo>
                <a:lnTo>
                  <a:pt x="655" y="897"/>
                </a:lnTo>
                <a:lnTo>
                  <a:pt x="661" y="899"/>
                </a:lnTo>
                <a:lnTo>
                  <a:pt x="667" y="901"/>
                </a:lnTo>
                <a:lnTo>
                  <a:pt x="672" y="905"/>
                </a:lnTo>
                <a:lnTo>
                  <a:pt x="678" y="907"/>
                </a:lnTo>
                <a:lnTo>
                  <a:pt x="684" y="909"/>
                </a:lnTo>
                <a:lnTo>
                  <a:pt x="690" y="913"/>
                </a:lnTo>
                <a:lnTo>
                  <a:pt x="695" y="916"/>
                </a:lnTo>
                <a:lnTo>
                  <a:pt x="701" y="920"/>
                </a:lnTo>
                <a:lnTo>
                  <a:pt x="705" y="922"/>
                </a:lnTo>
                <a:lnTo>
                  <a:pt x="712" y="928"/>
                </a:lnTo>
                <a:lnTo>
                  <a:pt x="716" y="932"/>
                </a:lnTo>
                <a:lnTo>
                  <a:pt x="724" y="935"/>
                </a:lnTo>
                <a:lnTo>
                  <a:pt x="671" y="1034"/>
                </a:lnTo>
                <a:lnTo>
                  <a:pt x="671" y="1034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71880" y="1658880"/>
            <a:ext cx="88560" cy="111240"/>
          </a:xfrm>
          <a:custGeom>
            <a:avLst/>
            <a:gdLst/>
            <a:ahLst/>
            <a:rect l="l" t="t" r="r" b="b"/>
            <a:pathLst>
              <a:path w="112" h="139">
                <a:moveTo>
                  <a:pt x="97" y="139"/>
                </a:moveTo>
                <a:lnTo>
                  <a:pt x="70" y="63"/>
                </a:lnTo>
                <a:lnTo>
                  <a:pt x="90" y="67"/>
                </a:lnTo>
                <a:lnTo>
                  <a:pt x="88" y="65"/>
                </a:lnTo>
                <a:lnTo>
                  <a:pt x="88" y="61"/>
                </a:lnTo>
                <a:lnTo>
                  <a:pt x="86" y="59"/>
                </a:lnTo>
                <a:lnTo>
                  <a:pt x="84" y="57"/>
                </a:lnTo>
                <a:lnTo>
                  <a:pt x="80" y="53"/>
                </a:lnTo>
                <a:lnTo>
                  <a:pt x="74" y="49"/>
                </a:lnTo>
                <a:lnTo>
                  <a:pt x="107" y="59"/>
                </a:lnTo>
                <a:lnTo>
                  <a:pt x="105" y="51"/>
                </a:lnTo>
                <a:lnTo>
                  <a:pt x="101" y="46"/>
                </a:lnTo>
                <a:lnTo>
                  <a:pt x="97" y="42"/>
                </a:lnTo>
                <a:lnTo>
                  <a:pt x="93" y="38"/>
                </a:lnTo>
                <a:lnTo>
                  <a:pt x="90" y="34"/>
                </a:lnTo>
                <a:lnTo>
                  <a:pt x="84" y="32"/>
                </a:lnTo>
                <a:lnTo>
                  <a:pt x="112" y="42"/>
                </a:lnTo>
                <a:lnTo>
                  <a:pt x="109" y="36"/>
                </a:lnTo>
                <a:lnTo>
                  <a:pt x="105" y="30"/>
                </a:lnTo>
                <a:lnTo>
                  <a:pt x="101" y="25"/>
                </a:lnTo>
                <a:lnTo>
                  <a:pt x="95" y="21"/>
                </a:lnTo>
                <a:lnTo>
                  <a:pt x="90" y="17"/>
                </a:lnTo>
                <a:lnTo>
                  <a:pt x="86" y="15"/>
                </a:lnTo>
                <a:lnTo>
                  <a:pt x="82" y="13"/>
                </a:lnTo>
                <a:lnTo>
                  <a:pt x="78" y="11"/>
                </a:lnTo>
                <a:lnTo>
                  <a:pt x="72" y="9"/>
                </a:lnTo>
                <a:lnTo>
                  <a:pt x="69" y="8"/>
                </a:lnTo>
                <a:lnTo>
                  <a:pt x="63" y="8"/>
                </a:lnTo>
                <a:lnTo>
                  <a:pt x="59" y="8"/>
                </a:lnTo>
                <a:lnTo>
                  <a:pt x="55" y="4"/>
                </a:lnTo>
                <a:lnTo>
                  <a:pt x="50" y="2"/>
                </a:lnTo>
                <a:lnTo>
                  <a:pt x="44" y="0"/>
                </a:lnTo>
                <a:lnTo>
                  <a:pt x="40" y="0"/>
                </a:lnTo>
                <a:lnTo>
                  <a:pt x="34" y="0"/>
                </a:lnTo>
                <a:lnTo>
                  <a:pt x="29" y="0"/>
                </a:lnTo>
                <a:lnTo>
                  <a:pt x="25" y="2"/>
                </a:lnTo>
                <a:lnTo>
                  <a:pt x="25" y="6"/>
                </a:lnTo>
                <a:lnTo>
                  <a:pt x="29" y="15"/>
                </a:lnTo>
                <a:lnTo>
                  <a:pt x="8" y="49"/>
                </a:lnTo>
                <a:lnTo>
                  <a:pt x="15" y="53"/>
                </a:lnTo>
                <a:lnTo>
                  <a:pt x="10" y="72"/>
                </a:lnTo>
                <a:lnTo>
                  <a:pt x="21" y="74"/>
                </a:lnTo>
                <a:lnTo>
                  <a:pt x="0" y="139"/>
                </a:lnTo>
                <a:lnTo>
                  <a:pt x="97" y="139"/>
                </a:lnTo>
                <a:lnTo>
                  <a:pt x="97" y="139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59000" y="1474920"/>
            <a:ext cx="314280" cy="160200"/>
          </a:xfrm>
          <a:custGeom>
            <a:avLst/>
            <a:gdLst/>
            <a:ahLst/>
            <a:rect l="l" t="t" r="r" b="b"/>
            <a:pathLst>
              <a:path w="398" h="204">
                <a:moveTo>
                  <a:pt x="286" y="67"/>
                </a:moveTo>
                <a:lnTo>
                  <a:pt x="282" y="25"/>
                </a:lnTo>
                <a:lnTo>
                  <a:pt x="365" y="0"/>
                </a:lnTo>
                <a:lnTo>
                  <a:pt x="398" y="59"/>
                </a:lnTo>
                <a:lnTo>
                  <a:pt x="358" y="156"/>
                </a:lnTo>
                <a:lnTo>
                  <a:pt x="305" y="204"/>
                </a:lnTo>
                <a:lnTo>
                  <a:pt x="289" y="143"/>
                </a:lnTo>
                <a:lnTo>
                  <a:pt x="286" y="101"/>
                </a:lnTo>
                <a:lnTo>
                  <a:pt x="16" y="131"/>
                </a:lnTo>
                <a:lnTo>
                  <a:pt x="0" y="110"/>
                </a:lnTo>
                <a:lnTo>
                  <a:pt x="12" y="101"/>
                </a:lnTo>
                <a:lnTo>
                  <a:pt x="286" y="67"/>
                </a:lnTo>
                <a:lnTo>
                  <a:pt x="286" y="67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24160" y="1535040"/>
            <a:ext cx="55440" cy="46080"/>
          </a:xfrm>
          <a:custGeom>
            <a:avLst/>
            <a:gdLst/>
            <a:ahLst/>
            <a:rect l="l" t="t" r="r" b="b"/>
            <a:pathLst>
              <a:path w="70" h="59">
                <a:moveTo>
                  <a:pt x="65" y="15"/>
                </a:moveTo>
                <a:lnTo>
                  <a:pt x="70" y="44"/>
                </a:lnTo>
                <a:lnTo>
                  <a:pt x="42" y="59"/>
                </a:lnTo>
                <a:lnTo>
                  <a:pt x="19" y="48"/>
                </a:lnTo>
                <a:lnTo>
                  <a:pt x="0" y="21"/>
                </a:lnTo>
                <a:lnTo>
                  <a:pt x="0" y="19"/>
                </a:lnTo>
                <a:lnTo>
                  <a:pt x="0" y="15"/>
                </a:lnTo>
                <a:lnTo>
                  <a:pt x="4" y="12"/>
                </a:lnTo>
                <a:lnTo>
                  <a:pt x="8" y="8"/>
                </a:lnTo>
                <a:lnTo>
                  <a:pt x="12" y="4"/>
                </a:lnTo>
                <a:lnTo>
                  <a:pt x="19" y="2"/>
                </a:lnTo>
                <a:lnTo>
                  <a:pt x="21" y="0"/>
                </a:lnTo>
                <a:lnTo>
                  <a:pt x="25" y="0"/>
                </a:lnTo>
                <a:lnTo>
                  <a:pt x="29" y="0"/>
                </a:lnTo>
                <a:lnTo>
                  <a:pt x="34" y="2"/>
                </a:lnTo>
                <a:lnTo>
                  <a:pt x="40" y="2"/>
                </a:lnTo>
                <a:lnTo>
                  <a:pt x="48" y="6"/>
                </a:lnTo>
                <a:lnTo>
                  <a:pt x="51" y="8"/>
                </a:lnTo>
                <a:lnTo>
                  <a:pt x="57" y="10"/>
                </a:lnTo>
                <a:lnTo>
                  <a:pt x="63" y="14"/>
                </a:lnTo>
                <a:lnTo>
                  <a:pt x="65" y="15"/>
                </a:lnTo>
                <a:lnTo>
                  <a:pt x="65" y="15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30560" y="1539720"/>
            <a:ext cx="60120" cy="47880"/>
          </a:xfrm>
          <a:custGeom>
            <a:avLst/>
            <a:gdLst/>
            <a:ahLst/>
            <a:rect l="l" t="t" r="r" b="b"/>
            <a:pathLst>
              <a:path w="76" h="59">
                <a:moveTo>
                  <a:pt x="10" y="26"/>
                </a:moveTo>
                <a:lnTo>
                  <a:pt x="31" y="0"/>
                </a:lnTo>
                <a:lnTo>
                  <a:pt x="59" y="0"/>
                </a:lnTo>
                <a:lnTo>
                  <a:pt x="76" y="28"/>
                </a:lnTo>
                <a:lnTo>
                  <a:pt x="33" y="59"/>
                </a:lnTo>
                <a:lnTo>
                  <a:pt x="0" y="44"/>
                </a:lnTo>
                <a:lnTo>
                  <a:pt x="10" y="26"/>
                </a:lnTo>
                <a:lnTo>
                  <a:pt x="10" y="26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52560" y="2433600"/>
            <a:ext cx="79560" cy="30240"/>
          </a:xfrm>
          <a:custGeom>
            <a:avLst/>
            <a:gdLst/>
            <a:ahLst/>
            <a:rect l="l" t="t" r="r" b="b"/>
            <a:pathLst>
              <a:path w="101" h="38">
                <a:moveTo>
                  <a:pt x="88" y="0"/>
                </a:moveTo>
                <a:lnTo>
                  <a:pt x="101" y="36"/>
                </a:lnTo>
                <a:lnTo>
                  <a:pt x="0" y="38"/>
                </a:lnTo>
                <a:lnTo>
                  <a:pt x="67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03320" y="1682640"/>
            <a:ext cx="866880" cy="561960"/>
          </a:xfrm>
          <a:custGeom>
            <a:avLst/>
            <a:gdLst/>
            <a:ahLst/>
            <a:rect l="l" t="t" r="r" b="b"/>
            <a:pathLst>
              <a:path w="1093" h="709">
                <a:moveTo>
                  <a:pt x="1093" y="28"/>
                </a:moveTo>
                <a:lnTo>
                  <a:pt x="920" y="376"/>
                </a:lnTo>
                <a:lnTo>
                  <a:pt x="914" y="667"/>
                </a:lnTo>
                <a:lnTo>
                  <a:pt x="882" y="526"/>
                </a:lnTo>
                <a:lnTo>
                  <a:pt x="901" y="389"/>
                </a:lnTo>
                <a:lnTo>
                  <a:pt x="671" y="475"/>
                </a:lnTo>
                <a:lnTo>
                  <a:pt x="297" y="709"/>
                </a:lnTo>
                <a:lnTo>
                  <a:pt x="42" y="699"/>
                </a:lnTo>
                <a:lnTo>
                  <a:pt x="0" y="686"/>
                </a:lnTo>
                <a:lnTo>
                  <a:pt x="297" y="680"/>
                </a:lnTo>
                <a:lnTo>
                  <a:pt x="154" y="507"/>
                </a:lnTo>
                <a:lnTo>
                  <a:pt x="319" y="663"/>
                </a:lnTo>
                <a:lnTo>
                  <a:pt x="646" y="465"/>
                </a:lnTo>
                <a:lnTo>
                  <a:pt x="895" y="376"/>
                </a:lnTo>
                <a:lnTo>
                  <a:pt x="1042" y="98"/>
                </a:lnTo>
                <a:lnTo>
                  <a:pt x="1005" y="0"/>
                </a:lnTo>
                <a:lnTo>
                  <a:pt x="1049" y="43"/>
                </a:lnTo>
                <a:lnTo>
                  <a:pt x="1093" y="28"/>
                </a:lnTo>
                <a:lnTo>
                  <a:pt x="1093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25800" y="1733400"/>
            <a:ext cx="112680" cy="119160"/>
          </a:xfrm>
          <a:custGeom>
            <a:avLst/>
            <a:gdLst/>
            <a:ahLst/>
            <a:rect l="l" t="t" r="r" b="b"/>
            <a:pathLst>
              <a:path w="143" h="150">
                <a:moveTo>
                  <a:pt x="143" y="23"/>
                </a:moveTo>
                <a:lnTo>
                  <a:pt x="34" y="148"/>
                </a:lnTo>
                <a:lnTo>
                  <a:pt x="0" y="150"/>
                </a:lnTo>
                <a:lnTo>
                  <a:pt x="70" y="0"/>
                </a:lnTo>
                <a:lnTo>
                  <a:pt x="82" y="15"/>
                </a:lnTo>
                <a:lnTo>
                  <a:pt x="143" y="23"/>
                </a:lnTo>
                <a:lnTo>
                  <a:pt x="143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98800" y="1749600"/>
            <a:ext cx="96840" cy="177480"/>
          </a:xfrm>
          <a:custGeom>
            <a:avLst/>
            <a:gdLst/>
            <a:ahLst/>
            <a:rect l="l" t="t" r="r" b="b"/>
            <a:pathLst>
              <a:path w="122" h="224">
                <a:moveTo>
                  <a:pt x="122" y="0"/>
                </a:moveTo>
                <a:lnTo>
                  <a:pt x="116" y="31"/>
                </a:lnTo>
                <a:lnTo>
                  <a:pt x="104" y="38"/>
                </a:lnTo>
                <a:lnTo>
                  <a:pt x="68" y="129"/>
                </a:lnTo>
                <a:lnTo>
                  <a:pt x="0" y="224"/>
                </a:lnTo>
                <a:lnTo>
                  <a:pt x="32" y="131"/>
                </a:lnTo>
                <a:lnTo>
                  <a:pt x="95" y="36"/>
                </a:lnTo>
                <a:lnTo>
                  <a:pt x="97" y="17"/>
                </a:lnTo>
                <a:lnTo>
                  <a:pt x="122" y="0"/>
                </a:lnTo>
                <a:lnTo>
                  <a:pt x="122" y="0"/>
                </a:lnTo>
                <a:close/>
              </a:path>
            </a:pathLst>
          </a:custGeom>
          <a:solidFill>
            <a:srgbClr val="d4b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69920" y="2379600"/>
            <a:ext cx="65160" cy="46080"/>
          </a:xfrm>
          <a:custGeom>
            <a:avLst/>
            <a:gdLst/>
            <a:ahLst/>
            <a:rect l="l" t="t" r="r" b="b"/>
            <a:pathLst>
              <a:path w="81" h="59">
                <a:moveTo>
                  <a:pt x="81" y="11"/>
                </a:moveTo>
                <a:lnTo>
                  <a:pt x="40" y="0"/>
                </a:lnTo>
                <a:lnTo>
                  <a:pt x="0" y="59"/>
                </a:lnTo>
                <a:lnTo>
                  <a:pt x="70" y="26"/>
                </a:lnTo>
                <a:lnTo>
                  <a:pt x="81" y="11"/>
                </a:lnTo>
                <a:lnTo>
                  <a:pt x="81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04840" y="1557360"/>
            <a:ext cx="663480" cy="912960"/>
          </a:xfrm>
          <a:custGeom>
            <a:avLst/>
            <a:gdLst/>
            <a:ahLst/>
            <a:rect l="l" t="t" r="r" b="b"/>
            <a:pathLst>
              <a:path w="837" h="1150">
                <a:moveTo>
                  <a:pt x="103" y="222"/>
                </a:moveTo>
                <a:lnTo>
                  <a:pt x="107" y="230"/>
                </a:lnTo>
                <a:lnTo>
                  <a:pt x="111" y="237"/>
                </a:lnTo>
                <a:lnTo>
                  <a:pt x="116" y="245"/>
                </a:lnTo>
                <a:lnTo>
                  <a:pt x="122" y="253"/>
                </a:lnTo>
                <a:lnTo>
                  <a:pt x="126" y="258"/>
                </a:lnTo>
                <a:lnTo>
                  <a:pt x="133" y="266"/>
                </a:lnTo>
                <a:lnTo>
                  <a:pt x="139" y="272"/>
                </a:lnTo>
                <a:lnTo>
                  <a:pt x="147" y="279"/>
                </a:lnTo>
                <a:lnTo>
                  <a:pt x="152" y="285"/>
                </a:lnTo>
                <a:lnTo>
                  <a:pt x="160" y="291"/>
                </a:lnTo>
                <a:lnTo>
                  <a:pt x="166" y="294"/>
                </a:lnTo>
                <a:lnTo>
                  <a:pt x="173" y="302"/>
                </a:lnTo>
                <a:lnTo>
                  <a:pt x="181" y="306"/>
                </a:lnTo>
                <a:lnTo>
                  <a:pt x="189" y="311"/>
                </a:lnTo>
                <a:lnTo>
                  <a:pt x="196" y="315"/>
                </a:lnTo>
                <a:lnTo>
                  <a:pt x="204" y="321"/>
                </a:lnTo>
                <a:lnTo>
                  <a:pt x="211" y="325"/>
                </a:lnTo>
                <a:lnTo>
                  <a:pt x="219" y="327"/>
                </a:lnTo>
                <a:lnTo>
                  <a:pt x="225" y="330"/>
                </a:lnTo>
                <a:lnTo>
                  <a:pt x="232" y="334"/>
                </a:lnTo>
                <a:lnTo>
                  <a:pt x="238" y="338"/>
                </a:lnTo>
                <a:lnTo>
                  <a:pt x="244" y="340"/>
                </a:lnTo>
                <a:lnTo>
                  <a:pt x="251" y="342"/>
                </a:lnTo>
                <a:lnTo>
                  <a:pt x="257" y="346"/>
                </a:lnTo>
                <a:lnTo>
                  <a:pt x="261" y="348"/>
                </a:lnTo>
                <a:lnTo>
                  <a:pt x="265" y="349"/>
                </a:lnTo>
                <a:lnTo>
                  <a:pt x="268" y="351"/>
                </a:lnTo>
                <a:lnTo>
                  <a:pt x="272" y="351"/>
                </a:lnTo>
                <a:lnTo>
                  <a:pt x="276" y="353"/>
                </a:lnTo>
                <a:lnTo>
                  <a:pt x="278" y="353"/>
                </a:lnTo>
                <a:lnTo>
                  <a:pt x="384" y="559"/>
                </a:lnTo>
                <a:lnTo>
                  <a:pt x="306" y="876"/>
                </a:lnTo>
                <a:lnTo>
                  <a:pt x="301" y="876"/>
                </a:lnTo>
                <a:lnTo>
                  <a:pt x="295" y="876"/>
                </a:lnTo>
                <a:lnTo>
                  <a:pt x="289" y="876"/>
                </a:lnTo>
                <a:lnTo>
                  <a:pt x="284" y="876"/>
                </a:lnTo>
                <a:lnTo>
                  <a:pt x="278" y="876"/>
                </a:lnTo>
                <a:lnTo>
                  <a:pt x="274" y="876"/>
                </a:lnTo>
                <a:lnTo>
                  <a:pt x="268" y="876"/>
                </a:lnTo>
                <a:lnTo>
                  <a:pt x="263" y="878"/>
                </a:lnTo>
                <a:lnTo>
                  <a:pt x="257" y="878"/>
                </a:lnTo>
                <a:lnTo>
                  <a:pt x="251" y="878"/>
                </a:lnTo>
                <a:lnTo>
                  <a:pt x="246" y="880"/>
                </a:lnTo>
                <a:lnTo>
                  <a:pt x="242" y="880"/>
                </a:lnTo>
                <a:lnTo>
                  <a:pt x="236" y="880"/>
                </a:lnTo>
                <a:lnTo>
                  <a:pt x="230" y="882"/>
                </a:lnTo>
                <a:lnTo>
                  <a:pt x="225" y="882"/>
                </a:lnTo>
                <a:lnTo>
                  <a:pt x="221" y="886"/>
                </a:lnTo>
                <a:lnTo>
                  <a:pt x="215" y="886"/>
                </a:lnTo>
                <a:lnTo>
                  <a:pt x="209" y="887"/>
                </a:lnTo>
                <a:lnTo>
                  <a:pt x="204" y="887"/>
                </a:lnTo>
                <a:lnTo>
                  <a:pt x="200" y="889"/>
                </a:lnTo>
                <a:lnTo>
                  <a:pt x="194" y="891"/>
                </a:lnTo>
                <a:lnTo>
                  <a:pt x="189" y="893"/>
                </a:lnTo>
                <a:lnTo>
                  <a:pt x="183" y="895"/>
                </a:lnTo>
                <a:lnTo>
                  <a:pt x="179" y="897"/>
                </a:lnTo>
                <a:lnTo>
                  <a:pt x="173" y="899"/>
                </a:lnTo>
                <a:lnTo>
                  <a:pt x="170" y="901"/>
                </a:lnTo>
                <a:lnTo>
                  <a:pt x="164" y="903"/>
                </a:lnTo>
                <a:lnTo>
                  <a:pt x="160" y="906"/>
                </a:lnTo>
                <a:lnTo>
                  <a:pt x="154" y="908"/>
                </a:lnTo>
                <a:lnTo>
                  <a:pt x="151" y="910"/>
                </a:lnTo>
                <a:lnTo>
                  <a:pt x="145" y="914"/>
                </a:lnTo>
                <a:lnTo>
                  <a:pt x="141" y="918"/>
                </a:lnTo>
                <a:lnTo>
                  <a:pt x="135" y="920"/>
                </a:lnTo>
                <a:lnTo>
                  <a:pt x="132" y="922"/>
                </a:lnTo>
                <a:lnTo>
                  <a:pt x="126" y="925"/>
                </a:lnTo>
                <a:lnTo>
                  <a:pt x="122" y="929"/>
                </a:lnTo>
                <a:lnTo>
                  <a:pt x="116" y="931"/>
                </a:lnTo>
                <a:lnTo>
                  <a:pt x="112" y="935"/>
                </a:lnTo>
                <a:lnTo>
                  <a:pt x="107" y="939"/>
                </a:lnTo>
                <a:lnTo>
                  <a:pt x="103" y="943"/>
                </a:lnTo>
                <a:lnTo>
                  <a:pt x="97" y="946"/>
                </a:lnTo>
                <a:lnTo>
                  <a:pt x="93" y="950"/>
                </a:lnTo>
                <a:lnTo>
                  <a:pt x="90" y="954"/>
                </a:lnTo>
                <a:lnTo>
                  <a:pt x="84" y="960"/>
                </a:lnTo>
                <a:lnTo>
                  <a:pt x="80" y="962"/>
                </a:lnTo>
                <a:lnTo>
                  <a:pt x="76" y="967"/>
                </a:lnTo>
                <a:lnTo>
                  <a:pt x="71" y="971"/>
                </a:lnTo>
                <a:lnTo>
                  <a:pt x="67" y="977"/>
                </a:lnTo>
                <a:lnTo>
                  <a:pt x="63" y="981"/>
                </a:lnTo>
                <a:lnTo>
                  <a:pt x="57" y="986"/>
                </a:lnTo>
                <a:lnTo>
                  <a:pt x="54" y="992"/>
                </a:lnTo>
                <a:lnTo>
                  <a:pt x="50" y="998"/>
                </a:lnTo>
                <a:lnTo>
                  <a:pt x="44" y="1001"/>
                </a:lnTo>
                <a:lnTo>
                  <a:pt x="40" y="1007"/>
                </a:lnTo>
                <a:lnTo>
                  <a:pt x="36" y="1013"/>
                </a:lnTo>
                <a:lnTo>
                  <a:pt x="33" y="1019"/>
                </a:lnTo>
                <a:lnTo>
                  <a:pt x="27" y="1024"/>
                </a:lnTo>
                <a:lnTo>
                  <a:pt x="23" y="1030"/>
                </a:lnTo>
                <a:lnTo>
                  <a:pt x="19" y="1038"/>
                </a:lnTo>
                <a:lnTo>
                  <a:pt x="16" y="1043"/>
                </a:lnTo>
                <a:lnTo>
                  <a:pt x="12" y="1051"/>
                </a:lnTo>
                <a:lnTo>
                  <a:pt x="8" y="1057"/>
                </a:lnTo>
                <a:lnTo>
                  <a:pt x="4" y="1064"/>
                </a:lnTo>
                <a:lnTo>
                  <a:pt x="0" y="1072"/>
                </a:lnTo>
                <a:lnTo>
                  <a:pt x="10" y="1070"/>
                </a:lnTo>
                <a:lnTo>
                  <a:pt x="16" y="1068"/>
                </a:lnTo>
                <a:lnTo>
                  <a:pt x="23" y="1066"/>
                </a:lnTo>
                <a:lnTo>
                  <a:pt x="27" y="1066"/>
                </a:lnTo>
                <a:lnTo>
                  <a:pt x="31" y="1066"/>
                </a:lnTo>
                <a:lnTo>
                  <a:pt x="36" y="1064"/>
                </a:lnTo>
                <a:lnTo>
                  <a:pt x="42" y="1064"/>
                </a:lnTo>
                <a:lnTo>
                  <a:pt x="46" y="1062"/>
                </a:lnTo>
                <a:lnTo>
                  <a:pt x="52" y="1060"/>
                </a:lnTo>
                <a:lnTo>
                  <a:pt x="55" y="1060"/>
                </a:lnTo>
                <a:lnTo>
                  <a:pt x="63" y="1058"/>
                </a:lnTo>
                <a:lnTo>
                  <a:pt x="67" y="1057"/>
                </a:lnTo>
                <a:lnTo>
                  <a:pt x="73" y="1057"/>
                </a:lnTo>
                <a:lnTo>
                  <a:pt x="80" y="1055"/>
                </a:lnTo>
                <a:lnTo>
                  <a:pt x="86" y="1053"/>
                </a:lnTo>
                <a:lnTo>
                  <a:pt x="92" y="1051"/>
                </a:lnTo>
                <a:lnTo>
                  <a:pt x="99" y="1051"/>
                </a:lnTo>
                <a:lnTo>
                  <a:pt x="105" y="1049"/>
                </a:lnTo>
                <a:lnTo>
                  <a:pt x="112" y="1047"/>
                </a:lnTo>
                <a:lnTo>
                  <a:pt x="118" y="1045"/>
                </a:lnTo>
                <a:lnTo>
                  <a:pt x="128" y="1043"/>
                </a:lnTo>
                <a:lnTo>
                  <a:pt x="133" y="1041"/>
                </a:lnTo>
                <a:lnTo>
                  <a:pt x="141" y="1041"/>
                </a:lnTo>
                <a:lnTo>
                  <a:pt x="149" y="1039"/>
                </a:lnTo>
                <a:lnTo>
                  <a:pt x="156" y="1036"/>
                </a:lnTo>
                <a:lnTo>
                  <a:pt x="164" y="1034"/>
                </a:lnTo>
                <a:lnTo>
                  <a:pt x="171" y="1032"/>
                </a:lnTo>
                <a:lnTo>
                  <a:pt x="179" y="1030"/>
                </a:lnTo>
                <a:lnTo>
                  <a:pt x="187" y="1026"/>
                </a:lnTo>
                <a:lnTo>
                  <a:pt x="194" y="1024"/>
                </a:lnTo>
                <a:lnTo>
                  <a:pt x="202" y="1022"/>
                </a:lnTo>
                <a:lnTo>
                  <a:pt x="209" y="1020"/>
                </a:lnTo>
                <a:lnTo>
                  <a:pt x="217" y="1017"/>
                </a:lnTo>
                <a:lnTo>
                  <a:pt x="225" y="1015"/>
                </a:lnTo>
                <a:lnTo>
                  <a:pt x="232" y="1013"/>
                </a:lnTo>
                <a:lnTo>
                  <a:pt x="238" y="1009"/>
                </a:lnTo>
                <a:lnTo>
                  <a:pt x="247" y="1005"/>
                </a:lnTo>
                <a:lnTo>
                  <a:pt x="255" y="1003"/>
                </a:lnTo>
                <a:lnTo>
                  <a:pt x="263" y="1001"/>
                </a:lnTo>
                <a:lnTo>
                  <a:pt x="270" y="998"/>
                </a:lnTo>
                <a:lnTo>
                  <a:pt x="278" y="994"/>
                </a:lnTo>
                <a:lnTo>
                  <a:pt x="284" y="990"/>
                </a:lnTo>
                <a:lnTo>
                  <a:pt x="291" y="988"/>
                </a:lnTo>
                <a:lnTo>
                  <a:pt x="299" y="984"/>
                </a:lnTo>
                <a:lnTo>
                  <a:pt x="306" y="981"/>
                </a:lnTo>
                <a:lnTo>
                  <a:pt x="312" y="977"/>
                </a:lnTo>
                <a:lnTo>
                  <a:pt x="320" y="975"/>
                </a:lnTo>
                <a:lnTo>
                  <a:pt x="325" y="971"/>
                </a:lnTo>
                <a:lnTo>
                  <a:pt x="331" y="967"/>
                </a:lnTo>
                <a:lnTo>
                  <a:pt x="339" y="962"/>
                </a:lnTo>
                <a:lnTo>
                  <a:pt x="344" y="960"/>
                </a:lnTo>
                <a:lnTo>
                  <a:pt x="350" y="954"/>
                </a:lnTo>
                <a:lnTo>
                  <a:pt x="356" y="950"/>
                </a:lnTo>
                <a:lnTo>
                  <a:pt x="361" y="948"/>
                </a:lnTo>
                <a:lnTo>
                  <a:pt x="367" y="944"/>
                </a:lnTo>
                <a:lnTo>
                  <a:pt x="373" y="939"/>
                </a:lnTo>
                <a:lnTo>
                  <a:pt x="377" y="935"/>
                </a:lnTo>
                <a:lnTo>
                  <a:pt x="382" y="929"/>
                </a:lnTo>
                <a:lnTo>
                  <a:pt x="388" y="925"/>
                </a:lnTo>
                <a:lnTo>
                  <a:pt x="392" y="920"/>
                </a:lnTo>
                <a:lnTo>
                  <a:pt x="396" y="916"/>
                </a:lnTo>
                <a:lnTo>
                  <a:pt x="400" y="910"/>
                </a:lnTo>
                <a:lnTo>
                  <a:pt x="405" y="906"/>
                </a:lnTo>
                <a:lnTo>
                  <a:pt x="409" y="901"/>
                </a:lnTo>
                <a:lnTo>
                  <a:pt x="413" y="897"/>
                </a:lnTo>
                <a:lnTo>
                  <a:pt x="417" y="891"/>
                </a:lnTo>
                <a:lnTo>
                  <a:pt x="420" y="886"/>
                </a:lnTo>
                <a:lnTo>
                  <a:pt x="424" y="882"/>
                </a:lnTo>
                <a:lnTo>
                  <a:pt x="430" y="876"/>
                </a:lnTo>
                <a:lnTo>
                  <a:pt x="434" y="870"/>
                </a:lnTo>
                <a:lnTo>
                  <a:pt x="438" y="867"/>
                </a:lnTo>
                <a:lnTo>
                  <a:pt x="439" y="861"/>
                </a:lnTo>
                <a:lnTo>
                  <a:pt x="443" y="855"/>
                </a:lnTo>
                <a:lnTo>
                  <a:pt x="447" y="851"/>
                </a:lnTo>
                <a:lnTo>
                  <a:pt x="449" y="846"/>
                </a:lnTo>
                <a:lnTo>
                  <a:pt x="453" y="840"/>
                </a:lnTo>
                <a:lnTo>
                  <a:pt x="457" y="836"/>
                </a:lnTo>
                <a:lnTo>
                  <a:pt x="458" y="830"/>
                </a:lnTo>
                <a:lnTo>
                  <a:pt x="462" y="827"/>
                </a:lnTo>
                <a:lnTo>
                  <a:pt x="464" y="821"/>
                </a:lnTo>
                <a:lnTo>
                  <a:pt x="468" y="815"/>
                </a:lnTo>
                <a:lnTo>
                  <a:pt x="470" y="811"/>
                </a:lnTo>
                <a:lnTo>
                  <a:pt x="472" y="806"/>
                </a:lnTo>
                <a:lnTo>
                  <a:pt x="474" y="802"/>
                </a:lnTo>
                <a:lnTo>
                  <a:pt x="477" y="796"/>
                </a:lnTo>
                <a:lnTo>
                  <a:pt x="479" y="792"/>
                </a:lnTo>
                <a:lnTo>
                  <a:pt x="483" y="789"/>
                </a:lnTo>
                <a:lnTo>
                  <a:pt x="483" y="783"/>
                </a:lnTo>
                <a:lnTo>
                  <a:pt x="485" y="777"/>
                </a:lnTo>
                <a:lnTo>
                  <a:pt x="487" y="773"/>
                </a:lnTo>
                <a:lnTo>
                  <a:pt x="489" y="770"/>
                </a:lnTo>
                <a:lnTo>
                  <a:pt x="491" y="764"/>
                </a:lnTo>
                <a:lnTo>
                  <a:pt x="493" y="760"/>
                </a:lnTo>
                <a:lnTo>
                  <a:pt x="495" y="756"/>
                </a:lnTo>
                <a:lnTo>
                  <a:pt x="496" y="752"/>
                </a:lnTo>
                <a:lnTo>
                  <a:pt x="500" y="745"/>
                </a:lnTo>
                <a:lnTo>
                  <a:pt x="502" y="737"/>
                </a:lnTo>
                <a:lnTo>
                  <a:pt x="504" y="732"/>
                </a:lnTo>
                <a:lnTo>
                  <a:pt x="508" y="726"/>
                </a:lnTo>
                <a:lnTo>
                  <a:pt x="510" y="718"/>
                </a:lnTo>
                <a:lnTo>
                  <a:pt x="510" y="714"/>
                </a:lnTo>
                <a:lnTo>
                  <a:pt x="512" y="711"/>
                </a:lnTo>
                <a:lnTo>
                  <a:pt x="514" y="707"/>
                </a:lnTo>
                <a:lnTo>
                  <a:pt x="514" y="703"/>
                </a:lnTo>
                <a:lnTo>
                  <a:pt x="515" y="701"/>
                </a:lnTo>
                <a:lnTo>
                  <a:pt x="728" y="789"/>
                </a:lnTo>
                <a:lnTo>
                  <a:pt x="721" y="792"/>
                </a:lnTo>
                <a:lnTo>
                  <a:pt x="715" y="798"/>
                </a:lnTo>
                <a:lnTo>
                  <a:pt x="709" y="804"/>
                </a:lnTo>
                <a:lnTo>
                  <a:pt x="706" y="811"/>
                </a:lnTo>
                <a:lnTo>
                  <a:pt x="700" y="817"/>
                </a:lnTo>
                <a:lnTo>
                  <a:pt x="696" y="823"/>
                </a:lnTo>
                <a:lnTo>
                  <a:pt x="692" y="828"/>
                </a:lnTo>
                <a:lnTo>
                  <a:pt x="688" y="836"/>
                </a:lnTo>
                <a:lnTo>
                  <a:pt x="685" y="842"/>
                </a:lnTo>
                <a:lnTo>
                  <a:pt x="681" y="849"/>
                </a:lnTo>
                <a:lnTo>
                  <a:pt x="677" y="855"/>
                </a:lnTo>
                <a:lnTo>
                  <a:pt x="675" y="861"/>
                </a:lnTo>
                <a:lnTo>
                  <a:pt x="673" y="868"/>
                </a:lnTo>
                <a:lnTo>
                  <a:pt x="671" y="876"/>
                </a:lnTo>
                <a:lnTo>
                  <a:pt x="669" y="882"/>
                </a:lnTo>
                <a:lnTo>
                  <a:pt x="668" y="889"/>
                </a:lnTo>
                <a:lnTo>
                  <a:pt x="666" y="895"/>
                </a:lnTo>
                <a:lnTo>
                  <a:pt x="664" y="903"/>
                </a:lnTo>
                <a:lnTo>
                  <a:pt x="662" y="908"/>
                </a:lnTo>
                <a:lnTo>
                  <a:pt x="662" y="916"/>
                </a:lnTo>
                <a:lnTo>
                  <a:pt x="662" y="922"/>
                </a:lnTo>
                <a:lnTo>
                  <a:pt x="662" y="929"/>
                </a:lnTo>
                <a:lnTo>
                  <a:pt x="662" y="935"/>
                </a:lnTo>
                <a:lnTo>
                  <a:pt x="662" y="943"/>
                </a:lnTo>
                <a:lnTo>
                  <a:pt x="660" y="950"/>
                </a:lnTo>
                <a:lnTo>
                  <a:pt x="660" y="956"/>
                </a:lnTo>
                <a:lnTo>
                  <a:pt x="662" y="963"/>
                </a:lnTo>
                <a:lnTo>
                  <a:pt x="662" y="971"/>
                </a:lnTo>
                <a:lnTo>
                  <a:pt x="662" y="977"/>
                </a:lnTo>
                <a:lnTo>
                  <a:pt x="664" y="984"/>
                </a:lnTo>
                <a:lnTo>
                  <a:pt x="664" y="990"/>
                </a:lnTo>
                <a:lnTo>
                  <a:pt x="666" y="998"/>
                </a:lnTo>
                <a:lnTo>
                  <a:pt x="666" y="1003"/>
                </a:lnTo>
                <a:lnTo>
                  <a:pt x="668" y="1009"/>
                </a:lnTo>
                <a:lnTo>
                  <a:pt x="668" y="1017"/>
                </a:lnTo>
                <a:lnTo>
                  <a:pt x="669" y="1022"/>
                </a:lnTo>
                <a:lnTo>
                  <a:pt x="671" y="1028"/>
                </a:lnTo>
                <a:lnTo>
                  <a:pt x="673" y="1036"/>
                </a:lnTo>
                <a:lnTo>
                  <a:pt x="673" y="1041"/>
                </a:lnTo>
                <a:lnTo>
                  <a:pt x="677" y="1047"/>
                </a:lnTo>
                <a:lnTo>
                  <a:pt x="677" y="1053"/>
                </a:lnTo>
                <a:lnTo>
                  <a:pt x="679" y="1058"/>
                </a:lnTo>
                <a:lnTo>
                  <a:pt x="681" y="1064"/>
                </a:lnTo>
                <a:lnTo>
                  <a:pt x="683" y="1070"/>
                </a:lnTo>
                <a:lnTo>
                  <a:pt x="685" y="1076"/>
                </a:lnTo>
                <a:lnTo>
                  <a:pt x="688" y="1081"/>
                </a:lnTo>
                <a:lnTo>
                  <a:pt x="690" y="1087"/>
                </a:lnTo>
                <a:lnTo>
                  <a:pt x="692" y="1091"/>
                </a:lnTo>
                <a:lnTo>
                  <a:pt x="694" y="1097"/>
                </a:lnTo>
                <a:lnTo>
                  <a:pt x="696" y="1100"/>
                </a:lnTo>
                <a:lnTo>
                  <a:pt x="698" y="1104"/>
                </a:lnTo>
                <a:lnTo>
                  <a:pt x="700" y="1110"/>
                </a:lnTo>
                <a:lnTo>
                  <a:pt x="702" y="1114"/>
                </a:lnTo>
                <a:lnTo>
                  <a:pt x="704" y="1117"/>
                </a:lnTo>
                <a:lnTo>
                  <a:pt x="706" y="1121"/>
                </a:lnTo>
                <a:lnTo>
                  <a:pt x="707" y="1127"/>
                </a:lnTo>
                <a:lnTo>
                  <a:pt x="711" y="1133"/>
                </a:lnTo>
                <a:lnTo>
                  <a:pt x="715" y="1140"/>
                </a:lnTo>
                <a:lnTo>
                  <a:pt x="717" y="1144"/>
                </a:lnTo>
                <a:lnTo>
                  <a:pt x="721" y="1150"/>
                </a:lnTo>
                <a:lnTo>
                  <a:pt x="837" y="773"/>
                </a:lnTo>
                <a:lnTo>
                  <a:pt x="833" y="764"/>
                </a:lnTo>
                <a:lnTo>
                  <a:pt x="829" y="754"/>
                </a:lnTo>
                <a:lnTo>
                  <a:pt x="825" y="747"/>
                </a:lnTo>
                <a:lnTo>
                  <a:pt x="821" y="737"/>
                </a:lnTo>
                <a:lnTo>
                  <a:pt x="816" y="730"/>
                </a:lnTo>
                <a:lnTo>
                  <a:pt x="812" y="722"/>
                </a:lnTo>
                <a:lnTo>
                  <a:pt x="808" y="714"/>
                </a:lnTo>
                <a:lnTo>
                  <a:pt x="802" y="709"/>
                </a:lnTo>
                <a:lnTo>
                  <a:pt x="797" y="699"/>
                </a:lnTo>
                <a:lnTo>
                  <a:pt x="793" y="694"/>
                </a:lnTo>
                <a:lnTo>
                  <a:pt x="787" y="688"/>
                </a:lnTo>
                <a:lnTo>
                  <a:pt x="782" y="680"/>
                </a:lnTo>
                <a:lnTo>
                  <a:pt x="776" y="675"/>
                </a:lnTo>
                <a:lnTo>
                  <a:pt x="770" y="667"/>
                </a:lnTo>
                <a:lnTo>
                  <a:pt x="764" y="661"/>
                </a:lnTo>
                <a:lnTo>
                  <a:pt x="761" y="657"/>
                </a:lnTo>
                <a:lnTo>
                  <a:pt x="753" y="650"/>
                </a:lnTo>
                <a:lnTo>
                  <a:pt x="747" y="646"/>
                </a:lnTo>
                <a:lnTo>
                  <a:pt x="742" y="640"/>
                </a:lnTo>
                <a:lnTo>
                  <a:pt x="736" y="635"/>
                </a:lnTo>
                <a:lnTo>
                  <a:pt x="728" y="629"/>
                </a:lnTo>
                <a:lnTo>
                  <a:pt x="723" y="625"/>
                </a:lnTo>
                <a:lnTo>
                  <a:pt x="717" y="621"/>
                </a:lnTo>
                <a:lnTo>
                  <a:pt x="711" y="618"/>
                </a:lnTo>
                <a:lnTo>
                  <a:pt x="706" y="612"/>
                </a:lnTo>
                <a:lnTo>
                  <a:pt x="698" y="608"/>
                </a:lnTo>
                <a:lnTo>
                  <a:pt x="692" y="604"/>
                </a:lnTo>
                <a:lnTo>
                  <a:pt x="687" y="600"/>
                </a:lnTo>
                <a:lnTo>
                  <a:pt x="679" y="597"/>
                </a:lnTo>
                <a:lnTo>
                  <a:pt x="673" y="593"/>
                </a:lnTo>
                <a:lnTo>
                  <a:pt x="668" y="589"/>
                </a:lnTo>
                <a:lnTo>
                  <a:pt x="662" y="587"/>
                </a:lnTo>
                <a:lnTo>
                  <a:pt x="656" y="583"/>
                </a:lnTo>
                <a:lnTo>
                  <a:pt x="649" y="579"/>
                </a:lnTo>
                <a:lnTo>
                  <a:pt x="643" y="576"/>
                </a:lnTo>
                <a:lnTo>
                  <a:pt x="637" y="574"/>
                </a:lnTo>
                <a:lnTo>
                  <a:pt x="629" y="572"/>
                </a:lnTo>
                <a:lnTo>
                  <a:pt x="626" y="570"/>
                </a:lnTo>
                <a:lnTo>
                  <a:pt x="620" y="566"/>
                </a:lnTo>
                <a:lnTo>
                  <a:pt x="614" y="564"/>
                </a:lnTo>
                <a:lnTo>
                  <a:pt x="609" y="562"/>
                </a:lnTo>
                <a:lnTo>
                  <a:pt x="603" y="560"/>
                </a:lnTo>
                <a:lnTo>
                  <a:pt x="597" y="559"/>
                </a:lnTo>
                <a:lnTo>
                  <a:pt x="593" y="557"/>
                </a:lnTo>
                <a:lnTo>
                  <a:pt x="588" y="555"/>
                </a:lnTo>
                <a:lnTo>
                  <a:pt x="584" y="553"/>
                </a:lnTo>
                <a:lnTo>
                  <a:pt x="578" y="553"/>
                </a:lnTo>
                <a:lnTo>
                  <a:pt x="576" y="551"/>
                </a:lnTo>
                <a:lnTo>
                  <a:pt x="571" y="549"/>
                </a:lnTo>
                <a:lnTo>
                  <a:pt x="567" y="549"/>
                </a:lnTo>
                <a:lnTo>
                  <a:pt x="563" y="547"/>
                </a:lnTo>
                <a:lnTo>
                  <a:pt x="559" y="545"/>
                </a:lnTo>
                <a:lnTo>
                  <a:pt x="553" y="545"/>
                </a:lnTo>
                <a:lnTo>
                  <a:pt x="548" y="543"/>
                </a:lnTo>
                <a:lnTo>
                  <a:pt x="544" y="543"/>
                </a:lnTo>
                <a:lnTo>
                  <a:pt x="540" y="543"/>
                </a:lnTo>
                <a:lnTo>
                  <a:pt x="538" y="543"/>
                </a:lnTo>
                <a:lnTo>
                  <a:pt x="538" y="540"/>
                </a:lnTo>
                <a:lnTo>
                  <a:pt x="538" y="536"/>
                </a:lnTo>
                <a:lnTo>
                  <a:pt x="538" y="532"/>
                </a:lnTo>
                <a:lnTo>
                  <a:pt x="540" y="528"/>
                </a:lnTo>
                <a:lnTo>
                  <a:pt x="540" y="524"/>
                </a:lnTo>
                <a:lnTo>
                  <a:pt x="540" y="521"/>
                </a:lnTo>
                <a:lnTo>
                  <a:pt x="540" y="513"/>
                </a:lnTo>
                <a:lnTo>
                  <a:pt x="540" y="507"/>
                </a:lnTo>
                <a:lnTo>
                  <a:pt x="540" y="502"/>
                </a:lnTo>
                <a:lnTo>
                  <a:pt x="540" y="494"/>
                </a:lnTo>
                <a:lnTo>
                  <a:pt x="540" y="490"/>
                </a:lnTo>
                <a:lnTo>
                  <a:pt x="540" y="486"/>
                </a:lnTo>
                <a:lnTo>
                  <a:pt x="540" y="483"/>
                </a:lnTo>
                <a:lnTo>
                  <a:pt x="540" y="479"/>
                </a:lnTo>
                <a:lnTo>
                  <a:pt x="540" y="475"/>
                </a:lnTo>
                <a:lnTo>
                  <a:pt x="540" y="469"/>
                </a:lnTo>
                <a:lnTo>
                  <a:pt x="540" y="465"/>
                </a:lnTo>
                <a:lnTo>
                  <a:pt x="540" y="462"/>
                </a:lnTo>
                <a:lnTo>
                  <a:pt x="540" y="456"/>
                </a:lnTo>
                <a:lnTo>
                  <a:pt x="540" y="452"/>
                </a:lnTo>
                <a:lnTo>
                  <a:pt x="538" y="446"/>
                </a:lnTo>
                <a:lnTo>
                  <a:pt x="538" y="443"/>
                </a:lnTo>
                <a:lnTo>
                  <a:pt x="538" y="437"/>
                </a:lnTo>
                <a:lnTo>
                  <a:pt x="538" y="431"/>
                </a:lnTo>
                <a:lnTo>
                  <a:pt x="538" y="426"/>
                </a:lnTo>
                <a:lnTo>
                  <a:pt x="538" y="422"/>
                </a:lnTo>
                <a:lnTo>
                  <a:pt x="536" y="416"/>
                </a:lnTo>
                <a:lnTo>
                  <a:pt x="536" y="410"/>
                </a:lnTo>
                <a:lnTo>
                  <a:pt x="534" y="405"/>
                </a:lnTo>
                <a:lnTo>
                  <a:pt x="534" y="401"/>
                </a:lnTo>
                <a:lnTo>
                  <a:pt x="533" y="395"/>
                </a:lnTo>
                <a:lnTo>
                  <a:pt x="533" y="389"/>
                </a:lnTo>
                <a:lnTo>
                  <a:pt x="531" y="384"/>
                </a:lnTo>
                <a:lnTo>
                  <a:pt x="531" y="378"/>
                </a:lnTo>
                <a:lnTo>
                  <a:pt x="529" y="372"/>
                </a:lnTo>
                <a:lnTo>
                  <a:pt x="527" y="367"/>
                </a:lnTo>
                <a:lnTo>
                  <a:pt x="527" y="361"/>
                </a:lnTo>
                <a:lnTo>
                  <a:pt x="525" y="353"/>
                </a:lnTo>
                <a:lnTo>
                  <a:pt x="523" y="348"/>
                </a:lnTo>
                <a:lnTo>
                  <a:pt x="521" y="342"/>
                </a:lnTo>
                <a:lnTo>
                  <a:pt x="521" y="336"/>
                </a:lnTo>
                <a:lnTo>
                  <a:pt x="519" y="330"/>
                </a:lnTo>
                <a:lnTo>
                  <a:pt x="517" y="325"/>
                </a:lnTo>
                <a:lnTo>
                  <a:pt x="514" y="317"/>
                </a:lnTo>
                <a:lnTo>
                  <a:pt x="512" y="311"/>
                </a:lnTo>
                <a:lnTo>
                  <a:pt x="510" y="306"/>
                </a:lnTo>
                <a:lnTo>
                  <a:pt x="508" y="300"/>
                </a:lnTo>
                <a:lnTo>
                  <a:pt x="506" y="292"/>
                </a:lnTo>
                <a:lnTo>
                  <a:pt x="502" y="287"/>
                </a:lnTo>
                <a:lnTo>
                  <a:pt x="500" y="281"/>
                </a:lnTo>
                <a:lnTo>
                  <a:pt x="502" y="277"/>
                </a:lnTo>
                <a:lnTo>
                  <a:pt x="506" y="273"/>
                </a:lnTo>
                <a:lnTo>
                  <a:pt x="508" y="268"/>
                </a:lnTo>
                <a:lnTo>
                  <a:pt x="512" y="264"/>
                </a:lnTo>
                <a:lnTo>
                  <a:pt x="514" y="258"/>
                </a:lnTo>
                <a:lnTo>
                  <a:pt x="515" y="253"/>
                </a:lnTo>
                <a:lnTo>
                  <a:pt x="519" y="247"/>
                </a:lnTo>
                <a:lnTo>
                  <a:pt x="521" y="241"/>
                </a:lnTo>
                <a:lnTo>
                  <a:pt x="523" y="234"/>
                </a:lnTo>
                <a:lnTo>
                  <a:pt x="525" y="226"/>
                </a:lnTo>
                <a:lnTo>
                  <a:pt x="527" y="218"/>
                </a:lnTo>
                <a:lnTo>
                  <a:pt x="529" y="213"/>
                </a:lnTo>
                <a:lnTo>
                  <a:pt x="529" y="207"/>
                </a:lnTo>
                <a:lnTo>
                  <a:pt x="531" y="203"/>
                </a:lnTo>
                <a:lnTo>
                  <a:pt x="531" y="199"/>
                </a:lnTo>
                <a:lnTo>
                  <a:pt x="533" y="196"/>
                </a:lnTo>
                <a:lnTo>
                  <a:pt x="533" y="188"/>
                </a:lnTo>
                <a:lnTo>
                  <a:pt x="534" y="180"/>
                </a:lnTo>
                <a:lnTo>
                  <a:pt x="534" y="177"/>
                </a:lnTo>
                <a:lnTo>
                  <a:pt x="534" y="173"/>
                </a:lnTo>
                <a:lnTo>
                  <a:pt x="534" y="169"/>
                </a:lnTo>
                <a:lnTo>
                  <a:pt x="534" y="163"/>
                </a:lnTo>
                <a:lnTo>
                  <a:pt x="534" y="159"/>
                </a:lnTo>
                <a:lnTo>
                  <a:pt x="534" y="156"/>
                </a:lnTo>
                <a:lnTo>
                  <a:pt x="534" y="150"/>
                </a:lnTo>
                <a:lnTo>
                  <a:pt x="534" y="148"/>
                </a:lnTo>
                <a:lnTo>
                  <a:pt x="533" y="142"/>
                </a:lnTo>
                <a:lnTo>
                  <a:pt x="533" y="138"/>
                </a:lnTo>
                <a:lnTo>
                  <a:pt x="531" y="135"/>
                </a:lnTo>
                <a:lnTo>
                  <a:pt x="531" y="131"/>
                </a:lnTo>
                <a:lnTo>
                  <a:pt x="529" y="127"/>
                </a:lnTo>
                <a:lnTo>
                  <a:pt x="529" y="121"/>
                </a:lnTo>
                <a:lnTo>
                  <a:pt x="527" y="118"/>
                </a:lnTo>
                <a:lnTo>
                  <a:pt x="527" y="114"/>
                </a:lnTo>
                <a:lnTo>
                  <a:pt x="525" y="110"/>
                </a:lnTo>
                <a:lnTo>
                  <a:pt x="523" y="106"/>
                </a:lnTo>
                <a:lnTo>
                  <a:pt x="521" y="100"/>
                </a:lnTo>
                <a:lnTo>
                  <a:pt x="521" y="97"/>
                </a:lnTo>
                <a:lnTo>
                  <a:pt x="515" y="89"/>
                </a:lnTo>
                <a:lnTo>
                  <a:pt x="512" y="83"/>
                </a:lnTo>
                <a:lnTo>
                  <a:pt x="506" y="74"/>
                </a:lnTo>
                <a:lnTo>
                  <a:pt x="500" y="68"/>
                </a:lnTo>
                <a:lnTo>
                  <a:pt x="495" y="61"/>
                </a:lnTo>
                <a:lnTo>
                  <a:pt x="487" y="55"/>
                </a:lnTo>
                <a:lnTo>
                  <a:pt x="481" y="49"/>
                </a:lnTo>
                <a:lnTo>
                  <a:pt x="476" y="45"/>
                </a:lnTo>
                <a:lnTo>
                  <a:pt x="472" y="42"/>
                </a:lnTo>
                <a:lnTo>
                  <a:pt x="464" y="38"/>
                </a:lnTo>
                <a:lnTo>
                  <a:pt x="458" y="36"/>
                </a:lnTo>
                <a:lnTo>
                  <a:pt x="453" y="32"/>
                </a:lnTo>
                <a:lnTo>
                  <a:pt x="445" y="30"/>
                </a:lnTo>
                <a:lnTo>
                  <a:pt x="439" y="28"/>
                </a:lnTo>
                <a:lnTo>
                  <a:pt x="432" y="24"/>
                </a:lnTo>
                <a:lnTo>
                  <a:pt x="424" y="23"/>
                </a:lnTo>
                <a:lnTo>
                  <a:pt x="419" y="21"/>
                </a:lnTo>
                <a:lnTo>
                  <a:pt x="411" y="21"/>
                </a:lnTo>
                <a:lnTo>
                  <a:pt x="403" y="19"/>
                </a:lnTo>
                <a:lnTo>
                  <a:pt x="396" y="17"/>
                </a:lnTo>
                <a:lnTo>
                  <a:pt x="388" y="15"/>
                </a:lnTo>
                <a:lnTo>
                  <a:pt x="380" y="15"/>
                </a:lnTo>
                <a:lnTo>
                  <a:pt x="377" y="15"/>
                </a:lnTo>
                <a:lnTo>
                  <a:pt x="373" y="15"/>
                </a:lnTo>
                <a:lnTo>
                  <a:pt x="369" y="13"/>
                </a:lnTo>
                <a:lnTo>
                  <a:pt x="365" y="13"/>
                </a:lnTo>
                <a:lnTo>
                  <a:pt x="361" y="13"/>
                </a:lnTo>
                <a:lnTo>
                  <a:pt x="356" y="13"/>
                </a:lnTo>
                <a:lnTo>
                  <a:pt x="354" y="13"/>
                </a:lnTo>
                <a:lnTo>
                  <a:pt x="350" y="13"/>
                </a:lnTo>
                <a:lnTo>
                  <a:pt x="342" y="13"/>
                </a:lnTo>
                <a:lnTo>
                  <a:pt x="335" y="13"/>
                </a:lnTo>
                <a:lnTo>
                  <a:pt x="327" y="13"/>
                </a:lnTo>
                <a:lnTo>
                  <a:pt x="320" y="15"/>
                </a:lnTo>
                <a:lnTo>
                  <a:pt x="312" y="15"/>
                </a:lnTo>
                <a:lnTo>
                  <a:pt x="304" y="15"/>
                </a:lnTo>
                <a:lnTo>
                  <a:pt x="297" y="15"/>
                </a:lnTo>
                <a:lnTo>
                  <a:pt x="291" y="17"/>
                </a:lnTo>
                <a:lnTo>
                  <a:pt x="284" y="19"/>
                </a:lnTo>
                <a:lnTo>
                  <a:pt x="278" y="19"/>
                </a:lnTo>
                <a:lnTo>
                  <a:pt x="270" y="21"/>
                </a:lnTo>
                <a:lnTo>
                  <a:pt x="265" y="23"/>
                </a:lnTo>
                <a:lnTo>
                  <a:pt x="441" y="102"/>
                </a:lnTo>
                <a:lnTo>
                  <a:pt x="436" y="110"/>
                </a:lnTo>
                <a:lnTo>
                  <a:pt x="434" y="118"/>
                </a:lnTo>
                <a:lnTo>
                  <a:pt x="430" y="125"/>
                </a:lnTo>
                <a:lnTo>
                  <a:pt x="428" y="133"/>
                </a:lnTo>
                <a:lnTo>
                  <a:pt x="424" y="140"/>
                </a:lnTo>
                <a:lnTo>
                  <a:pt x="424" y="148"/>
                </a:lnTo>
                <a:lnTo>
                  <a:pt x="422" y="152"/>
                </a:lnTo>
                <a:lnTo>
                  <a:pt x="420" y="156"/>
                </a:lnTo>
                <a:lnTo>
                  <a:pt x="420" y="159"/>
                </a:lnTo>
                <a:lnTo>
                  <a:pt x="420" y="163"/>
                </a:lnTo>
                <a:lnTo>
                  <a:pt x="420" y="171"/>
                </a:lnTo>
                <a:lnTo>
                  <a:pt x="420" y="177"/>
                </a:lnTo>
                <a:lnTo>
                  <a:pt x="420" y="184"/>
                </a:lnTo>
                <a:lnTo>
                  <a:pt x="420" y="192"/>
                </a:lnTo>
                <a:lnTo>
                  <a:pt x="420" y="197"/>
                </a:lnTo>
                <a:lnTo>
                  <a:pt x="422" y="203"/>
                </a:lnTo>
                <a:lnTo>
                  <a:pt x="424" y="209"/>
                </a:lnTo>
                <a:lnTo>
                  <a:pt x="426" y="215"/>
                </a:lnTo>
                <a:lnTo>
                  <a:pt x="308" y="253"/>
                </a:lnTo>
                <a:lnTo>
                  <a:pt x="303" y="245"/>
                </a:lnTo>
                <a:lnTo>
                  <a:pt x="297" y="239"/>
                </a:lnTo>
                <a:lnTo>
                  <a:pt x="291" y="234"/>
                </a:lnTo>
                <a:lnTo>
                  <a:pt x="285" y="230"/>
                </a:lnTo>
                <a:lnTo>
                  <a:pt x="280" y="224"/>
                </a:lnTo>
                <a:lnTo>
                  <a:pt x="274" y="220"/>
                </a:lnTo>
                <a:lnTo>
                  <a:pt x="268" y="216"/>
                </a:lnTo>
                <a:lnTo>
                  <a:pt x="263" y="213"/>
                </a:lnTo>
                <a:lnTo>
                  <a:pt x="257" y="209"/>
                </a:lnTo>
                <a:lnTo>
                  <a:pt x="251" y="207"/>
                </a:lnTo>
                <a:lnTo>
                  <a:pt x="244" y="203"/>
                </a:lnTo>
                <a:lnTo>
                  <a:pt x="238" y="201"/>
                </a:lnTo>
                <a:lnTo>
                  <a:pt x="232" y="199"/>
                </a:lnTo>
                <a:lnTo>
                  <a:pt x="227" y="197"/>
                </a:lnTo>
                <a:lnTo>
                  <a:pt x="221" y="196"/>
                </a:lnTo>
                <a:lnTo>
                  <a:pt x="215" y="194"/>
                </a:lnTo>
                <a:lnTo>
                  <a:pt x="209" y="192"/>
                </a:lnTo>
                <a:lnTo>
                  <a:pt x="204" y="190"/>
                </a:lnTo>
                <a:lnTo>
                  <a:pt x="198" y="188"/>
                </a:lnTo>
                <a:lnTo>
                  <a:pt x="192" y="188"/>
                </a:lnTo>
                <a:lnTo>
                  <a:pt x="189" y="188"/>
                </a:lnTo>
                <a:lnTo>
                  <a:pt x="183" y="186"/>
                </a:lnTo>
                <a:lnTo>
                  <a:pt x="179" y="186"/>
                </a:lnTo>
                <a:lnTo>
                  <a:pt x="175" y="186"/>
                </a:lnTo>
                <a:lnTo>
                  <a:pt x="168" y="186"/>
                </a:lnTo>
                <a:lnTo>
                  <a:pt x="164" y="186"/>
                </a:lnTo>
                <a:lnTo>
                  <a:pt x="162" y="186"/>
                </a:lnTo>
                <a:lnTo>
                  <a:pt x="160" y="186"/>
                </a:lnTo>
                <a:lnTo>
                  <a:pt x="173" y="0"/>
                </a:lnTo>
                <a:lnTo>
                  <a:pt x="171" y="2"/>
                </a:lnTo>
                <a:lnTo>
                  <a:pt x="168" y="5"/>
                </a:lnTo>
                <a:lnTo>
                  <a:pt x="166" y="9"/>
                </a:lnTo>
                <a:lnTo>
                  <a:pt x="162" y="13"/>
                </a:lnTo>
                <a:lnTo>
                  <a:pt x="160" y="17"/>
                </a:lnTo>
                <a:lnTo>
                  <a:pt x="156" y="23"/>
                </a:lnTo>
                <a:lnTo>
                  <a:pt x="152" y="28"/>
                </a:lnTo>
                <a:lnTo>
                  <a:pt x="149" y="34"/>
                </a:lnTo>
                <a:lnTo>
                  <a:pt x="145" y="42"/>
                </a:lnTo>
                <a:lnTo>
                  <a:pt x="141" y="47"/>
                </a:lnTo>
                <a:lnTo>
                  <a:pt x="135" y="55"/>
                </a:lnTo>
                <a:lnTo>
                  <a:pt x="132" y="62"/>
                </a:lnTo>
                <a:lnTo>
                  <a:pt x="130" y="66"/>
                </a:lnTo>
                <a:lnTo>
                  <a:pt x="128" y="72"/>
                </a:lnTo>
                <a:lnTo>
                  <a:pt x="126" y="76"/>
                </a:lnTo>
                <a:lnTo>
                  <a:pt x="124" y="80"/>
                </a:lnTo>
                <a:lnTo>
                  <a:pt x="122" y="83"/>
                </a:lnTo>
                <a:lnTo>
                  <a:pt x="120" y="87"/>
                </a:lnTo>
                <a:lnTo>
                  <a:pt x="118" y="91"/>
                </a:lnTo>
                <a:lnTo>
                  <a:pt x="116" y="97"/>
                </a:lnTo>
                <a:lnTo>
                  <a:pt x="112" y="100"/>
                </a:lnTo>
                <a:lnTo>
                  <a:pt x="112" y="106"/>
                </a:lnTo>
                <a:lnTo>
                  <a:pt x="111" y="110"/>
                </a:lnTo>
                <a:lnTo>
                  <a:pt x="109" y="116"/>
                </a:lnTo>
                <a:lnTo>
                  <a:pt x="107" y="119"/>
                </a:lnTo>
                <a:lnTo>
                  <a:pt x="105" y="123"/>
                </a:lnTo>
                <a:lnTo>
                  <a:pt x="103" y="127"/>
                </a:lnTo>
                <a:lnTo>
                  <a:pt x="103" y="133"/>
                </a:lnTo>
                <a:lnTo>
                  <a:pt x="101" y="137"/>
                </a:lnTo>
                <a:lnTo>
                  <a:pt x="99" y="142"/>
                </a:lnTo>
                <a:lnTo>
                  <a:pt x="97" y="148"/>
                </a:lnTo>
                <a:lnTo>
                  <a:pt x="97" y="152"/>
                </a:lnTo>
                <a:lnTo>
                  <a:pt x="97" y="158"/>
                </a:lnTo>
                <a:lnTo>
                  <a:pt x="95" y="161"/>
                </a:lnTo>
                <a:lnTo>
                  <a:pt x="95" y="165"/>
                </a:lnTo>
                <a:lnTo>
                  <a:pt x="95" y="171"/>
                </a:lnTo>
                <a:lnTo>
                  <a:pt x="95" y="175"/>
                </a:lnTo>
                <a:lnTo>
                  <a:pt x="95" y="178"/>
                </a:lnTo>
                <a:lnTo>
                  <a:pt x="95" y="184"/>
                </a:lnTo>
                <a:lnTo>
                  <a:pt x="95" y="188"/>
                </a:lnTo>
                <a:lnTo>
                  <a:pt x="95" y="192"/>
                </a:lnTo>
                <a:lnTo>
                  <a:pt x="95" y="197"/>
                </a:lnTo>
                <a:lnTo>
                  <a:pt x="95" y="201"/>
                </a:lnTo>
                <a:lnTo>
                  <a:pt x="97" y="205"/>
                </a:lnTo>
                <a:lnTo>
                  <a:pt x="97" y="211"/>
                </a:lnTo>
                <a:lnTo>
                  <a:pt x="99" y="215"/>
                </a:lnTo>
                <a:lnTo>
                  <a:pt x="101" y="218"/>
                </a:lnTo>
                <a:lnTo>
                  <a:pt x="103" y="222"/>
                </a:lnTo>
                <a:lnTo>
                  <a:pt x="103" y="2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24080" y="1666800"/>
            <a:ext cx="88920" cy="112680"/>
          </a:xfrm>
          <a:custGeom>
            <a:avLst/>
            <a:gdLst/>
            <a:ahLst/>
            <a:rect l="l" t="t" r="r" b="b"/>
            <a:pathLst>
              <a:path w="110" h="141">
                <a:moveTo>
                  <a:pt x="13" y="141"/>
                </a:moveTo>
                <a:lnTo>
                  <a:pt x="40" y="65"/>
                </a:lnTo>
                <a:lnTo>
                  <a:pt x="23" y="69"/>
                </a:lnTo>
                <a:lnTo>
                  <a:pt x="23" y="65"/>
                </a:lnTo>
                <a:lnTo>
                  <a:pt x="23" y="63"/>
                </a:lnTo>
                <a:lnTo>
                  <a:pt x="23" y="59"/>
                </a:lnTo>
                <a:lnTo>
                  <a:pt x="26" y="58"/>
                </a:lnTo>
                <a:lnTo>
                  <a:pt x="28" y="54"/>
                </a:lnTo>
                <a:lnTo>
                  <a:pt x="34" y="50"/>
                </a:lnTo>
                <a:lnTo>
                  <a:pt x="4" y="59"/>
                </a:lnTo>
                <a:lnTo>
                  <a:pt x="6" y="54"/>
                </a:lnTo>
                <a:lnTo>
                  <a:pt x="9" y="46"/>
                </a:lnTo>
                <a:lnTo>
                  <a:pt x="11" y="42"/>
                </a:lnTo>
                <a:lnTo>
                  <a:pt x="17" y="39"/>
                </a:lnTo>
                <a:lnTo>
                  <a:pt x="21" y="37"/>
                </a:lnTo>
                <a:lnTo>
                  <a:pt x="28" y="33"/>
                </a:lnTo>
                <a:lnTo>
                  <a:pt x="0" y="44"/>
                </a:lnTo>
                <a:lnTo>
                  <a:pt x="0" y="39"/>
                </a:lnTo>
                <a:lnTo>
                  <a:pt x="4" y="33"/>
                </a:lnTo>
                <a:lnTo>
                  <a:pt x="9" y="27"/>
                </a:lnTo>
                <a:lnTo>
                  <a:pt x="17" y="21"/>
                </a:lnTo>
                <a:lnTo>
                  <a:pt x="19" y="20"/>
                </a:lnTo>
                <a:lnTo>
                  <a:pt x="23" y="16"/>
                </a:lnTo>
                <a:lnTo>
                  <a:pt x="28" y="14"/>
                </a:lnTo>
                <a:lnTo>
                  <a:pt x="32" y="12"/>
                </a:lnTo>
                <a:lnTo>
                  <a:pt x="36" y="10"/>
                </a:lnTo>
                <a:lnTo>
                  <a:pt x="42" y="10"/>
                </a:lnTo>
                <a:lnTo>
                  <a:pt x="45" y="10"/>
                </a:lnTo>
                <a:lnTo>
                  <a:pt x="51" y="10"/>
                </a:lnTo>
                <a:lnTo>
                  <a:pt x="55" y="6"/>
                </a:lnTo>
                <a:lnTo>
                  <a:pt x="61" y="4"/>
                </a:lnTo>
                <a:lnTo>
                  <a:pt x="64" y="0"/>
                </a:lnTo>
                <a:lnTo>
                  <a:pt x="70" y="0"/>
                </a:lnTo>
                <a:lnTo>
                  <a:pt x="76" y="0"/>
                </a:lnTo>
                <a:lnTo>
                  <a:pt x="82" y="2"/>
                </a:lnTo>
                <a:lnTo>
                  <a:pt x="83" y="4"/>
                </a:lnTo>
                <a:lnTo>
                  <a:pt x="87" y="6"/>
                </a:lnTo>
                <a:lnTo>
                  <a:pt x="83" y="18"/>
                </a:lnTo>
                <a:lnTo>
                  <a:pt x="104" y="50"/>
                </a:lnTo>
                <a:lnTo>
                  <a:pt x="95" y="54"/>
                </a:lnTo>
                <a:lnTo>
                  <a:pt x="102" y="73"/>
                </a:lnTo>
                <a:lnTo>
                  <a:pt x="89" y="77"/>
                </a:lnTo>
                <a:lnTo>
                  <a:pt x="110" y="139"/>
                </a:lnTo>
                <a:lnTo>
                  <a:pt x="13" y="141"/>
                </a:lnTo>
                <a:lnTo>
                  <a:pt x="13" y="1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09800" y="1482840"/>
            <a:ext cx="314280" cy="161640"/>
          </a:xfrm>
          <a:custGeom>
            <a:avLst/>
            <a:gdLst/>
            <a:ahLst/>
            <a:rect l="l" t="t" r="r" b="b"/>
            <a:pathLst>
              <a:path w="397" h="203">
                <a:moveTo>
                  <a:pt x="112" y="66"/>
                </a:moveTo>
                <a:lnTo>
                  <a:pt x="116" y="22"/>
                </a:lnTo>
                <a:lnTo>
                  <a:pt x="32" y="0"/>
                </a:lnTo>
                <a:lnTo>
                  <a:pt x="0" y="59"/>
                </a:lnTo>
                <a:lnTo>
                  <a:pt x="40" y="155"/>
                </a:lnTo>
                <a:lnTo>
                  <a:pt x="95" y="203"/>
                </a:lnTo>
                <a:lnTo>
                  <a:pt x="108" y="142"/>
                </a:lnTo>
                <a:lnTo>
                  <a:pt x="112" y="98"/>
                </a:lnTo>
                <a:lnTo>
                  <a:pt x="384" y="131"/>
                </a:lnTo>
                <a:lnTo>
                  <a:pt x="397" y="110"/>
                </a:lnTo>
                <a:lnTo>
                  <a:pt x="387" y="100"/>
                </a:lnTo>
                <a:lnTo>
                  <a:pt x="112" y="66"/>
                </a:lnTo>
                <a:lnTo>
                  <a:pt x="112" y="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04920" y="1541520"/>
            <a:ext cx="57240" cy="47520"/>
          </a:xfrm>
          <a:custGeom>
            <a:avLst/>
            <a:gdLst/>
            <a:ahLst/>
            <a:rect l="l" t="t" r="r" b="b"/>
            <a:pathLst>
              <a:path w="70" h="59">
                <a:moveTo>
                  <a:pt x="5" y="15"/>
                </a:moveTo>
                <a:lnTo>
                  <a:pt x="0" y="43"/>
                </a:lnTo>
                <a:lnTo>
                  <a:pt x="28" y="59"/>
                </a:lnTo>
                <a:lnTo>
                  <a:pt x="51" y="47"/>
                </a:lnTo>
                <a:lnTo>
                  <a:pt x="70" y="21"/>
                </a:lnTo>
                <a:lnTo>
                  <a:pt x="68" y="19"/>
                </a:lnTo>
                <a:lnTo>
                  <a:pt x="66" y="17"/>
                </a:lnTo>
                <a:lnTo>
                  <a:pt x="64" y="13"/>
                </a:lnTo>
                <a:lnTo>
                  <a:pt x="61" y="9"/>
                </a:lnTo>
                <a:lnTo>
                  <a:pt x="55" y="5"/>
                </a:lnTo>
                <a:lnTo>
                  <a:pt x="49" y="2"/>
                </a:lnTo>
                <a:lnTo>
                  <a:pt x="45" y="2"/>
                </a:lnTo>
                <a:lnTo>
                  <a:pt x="43" y="2"/>
                </a:lnTo>
                <a:lnTo>
                  <a:pt x="40" y="0"/>
                </a:lnTo>
                <a:lnTo>
                  <a:pt x="36" y="2"/>
                </a:lnTo>
                <a:lnTo>
                  <a:pt x="32" y="2"/>
                </a:lnTo>
                <a:lnTo>
                  <a:pt x="26" y="4"/>
                </a:lnTo>
                <a:lnTo>
                  <a:pt x="23" y="4"/>
                </a:lnTo>
                <a:lnTo>
                  <a:pt x="21" y="5"/>
                </a:lnTo>
                <a:lnTo>
                  <a:pt x="15" y="7"/>
                </a:lnTo>
                <a:lnTo>
                  <a:pt x="11" y="11"/>
                </a:lnTo>
                <a:lnTo>
                  <a:pt x="5" y="13"/>
                </a:lnTo>
                <a:lnTo>
                  <a:pt x="5" y="15"/>
                </a:lnTo>
                <a:lnTo>
                  <a:pt x="5" y="15"/>
                </a:lnTo>
                <a:close/>
              </a:path>
            </a:pathLst>
          </a:custGeom>
          <a:solidFill>
            <a:srgbClr val="1a1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92400" y="1547640"/>
            <a:ext cx="60120" cy="49320"/>
          </a:xfrm>
          <a:custGeom>
            <a:avLst/>
            <a:gdLst/>
            <a:ahLst/>
            <a:rect l="l" t="t" r="r" b="b"/>
            <a:pathLst>
              <a:path w="76" h="61">
                <a:moveTo>
                  <a:pt x="66" y="27"/>
                </a:moveTo>
                <a:lnTo>
                  <a:pt x="46" y="0"/>
                </a:lnTo>
                <a:lnTo>
                  <a:pt x="19" y="2"/>
                </a:lnTo>
                <a:lnTo>
                  <a:pt x="0" y="31"/>
                </a:lnTo>
                <a:lnTo>
                  <a:pt x="42" y="61"/>
                </a:lnTo>
                <a:lnTo>
                  <a:pt x="76" y="44"/>
                </a:lnTo>
                <a:lnTo>
                  <a:pt x="66" y="27"/>
                </a:lnTo>
                <a:lnTo>
                  <a:pt x="66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50960" y="2441520"/>
            <a:ext cx="81000" cy="30240"/>
          </a:xfrm>
          <a:custGeom>
            <a:avLst/>
            <a:gdLst/>
            <a:ahLst/>
            <a:rect l="l" t="t" r="r" b="b"/>
            <a:pathLst>
              <a:path w="103" h="38">
                <a:moveTo>
                  <a:pt x="14" y="0"/>
                </a:moveTo>
                <a:lnTo>
                  <a:pt x="0" y="36"/>
                </a:lnTo>
                <a:lnTo>
                  <a:pt x="103" y="38"/>
                </a:lnTo>
                <a:lnTo>
                  <a:pt x="35" y="0"/>
                </a:lnTo>
                <a:lnTo>
                  <a:pt x="14" y="0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81120" y="900000"/>
            <a:ext cx="247680" cy="792360"/>
          </a:xfrm>
          <a:custGeom>
            <a:avLst/>
            <a:gdLst/>
            <a:ahLst/>
            <a:rect l="l" t="t" r="r" b="b"/>
            <a:pathLst>
              <a:path w="312" h="998">
                <a:moveTo>
                  <a:pt x="255" y="0"/>
                </a:moveTo>
                <a:lnTo>
                  <a:pt x="209" y="629"/>
                </a:lnTo>
                <a:lnTo>
                  <a:pt x="281" y="774"/>
                </a:lnTo>
                <a:lnTo>
                  <a:pt x="312" y="950"/>
                </a:lnTo>
                <a:lnTo>
                  <a:pt x="281" y="998"/>
                </a:lnTo>
                <a:lnTo>
                  <a:pt x="260" y="794"/>
                </a:lnTo>
                <a:lnTo>
                  <a:pt x="192" y="629"/>
                </a:lnTo>
                <a:lnTo>
                  <a:pt x="165" y="409"/>
                </a:lnTo>
                <a:lnTo>
                  <a:pt x="0" y="298"/>
                </a:lnTo>
                <a:lnTo>
                  <a:pt x="198" y="414"/>
                </a:lnTo>
                <a:lnTo>
                  <a:pt x="239" y="101"/>
                </a:lnTo>
                <a:lnTo>
                  <a:pt x="255" y="0"/>
                </a:lnTo>
                <a:lnTo>
                  <a:pt x="25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55800" y="1217520"/>
            <a:ext cx="758880" cy="468360"/>
          </a:xfrm>
          <a:custGeom>
            <a:avLst/>
            <a:gdLst/>
            <a:ahLst/>
            <a:rect l="l" t="t" r="r" b="b"/>
            <a:pathLst>
              <a:path w="956" h="589">
                <a:moveTo>
                  <a:pt x="0" y="551"/>
                </a:moveTo>
                <a:lnTo>
                  <a:pt x="264" y="365"/>
                </a:lnTo>
                <a:lnTo>
                  <a:pt x="576" y="321"/>
                </a:lnTo>
                <a:lnTo>
                  <a:pt x="903" y="0"/>
                </a:lnTo>
                <a:lnTo>
                  <a:pt x="903" y="30"/>
                </a:lnTo>
                <a:lnTo>
                  <a:pt x="648" y="264"/>
                </a:lnTo>
                <a:lnTo>
                  <a:pt x="956" y="589"/>
                </a:lnTo>
                <a:lnTo>
                  <a:pt x="922" y="586"/>
                </a:lnTo>
                <a:lnTo>
                  <a:pt x="642" y="281"/>
                </a:lnTo>
                <a:lnTo>
                  <a:pt x="576" y="333"/>
                </a:lnTo>
                <a:lnTo>
                  <a:pt x="696" y="395"/>
                </a:lnTo>
                <a:lnTo>
                  <a:pt x="528" y="342"/>
                </a:lnTo>
                <a:lnTo>
                  <a:pt x="277" y="380"/>
                </a:lnTo>
                <a:lnTo>
                  <a:pt x="34" y="561"/>
                </a:lnTo>
                <a:lnTo>
                  <a:pt x="0" y="551"/>
                </a:lnTo>
                <a:lnTo>
                  <a:pt x="0" y="5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870200" y="1658880"/>
            <a:ext cx="600120" cy="812880"/>
          </a:xfrm>
          <a:custGeom>
            <a:avLst/>
            <a:gdLst/>
            <a:ahLst/>
            <a:rect l="l" t="t" r="r" b="b"/>
            <a:pathLst>
              <a:path w="755" h="1023">
                <a:moveTo>
                  <a:pt x="25" y="32"/>
                </a:moveTo>
                <a:lnTo>
                  <a:pt x="0" y="40"/>
                </a:lnTo>
                <a:lnTo>
                  <a:pt x="410" y="251"/>
                </a:lnTo>
                <a:lnTo>
                  <a:pt x="515" y="521"/>
                </a:lnTo>
                <a:lnTo>
                  <a:pt x="509" y="1023"/>
                </a:lnTo>
                <a:lnTo>
                  <a:pt x="540" y="990"/>
                </a:lnTo>
                <a:lnTo>
                  <a:pt x="530" y="527"/>
                </a:lnTo>
                <a:lnTo>
                  <a:pt x="755" y="542"/>
                </a:lnTo>
                <a:lnTo>
                  <a:pt x="530" y="500"/>
                </a:lnTo>
                <a:lnTo>
                  <a:pt x="420" y="236"/>
                </a:lnTo>
                <a:lnTo>
                  <a:pt x="177" y="74"/>
                </a:lnTo>
                <a:lnTo>
                  <a:pt x="291" y="0"/>
                </a:lnTo>
                <a:lnTo>
                  <a:pt x="120" y="78"/>
                </a:lnTo>
                <a:lnTo>
                  <a:pt x="25" y="32"/>
                </a:lnTo>
                <a:lnTo>
                  <a:pt x="2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876320" y="1685880"/>
            <a:ext cx="262080" cy="399960"/>
          </a:xfrm>
          <a:custGeom>
            <a:avLst/>
            <a:gdLst/>
            <a:ahLst/>
            <a:rect l="l" t="t" r="r" b="b"/>
            <a:pathLst>
              <a:path w="328" h="506">
                <a:moveTo>
                  <a:pt x="0" y="0"/>
                </a:moveTo>
                <a:lnTo>
                  <a:pt x="121" y="506"/>
                </a:lnTo>
                <a:lnTo>
                  <a:pt x="328" y="171"/>
                </a:lnTo>
                <a:lnTo>
                  <a:pt x="134" y="42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28880" y="2057400"/>
            <a:ext cx="301680" cy="469800"/>
          </a:xfrm>
          <a:custGeom>
            <a:avLst/>
            <a:gdLst/>
            <a:ahLst/>
            <a:rect l="l" t="t" r="r" b="b"/>
            <a:pathLst>
              <a:path w="380" h="591">
                <a:moveTo>
                  <a:pt x="61" y="19"/>
                </a:moveTo>
                <a:lnTo>
                  <a:pt x="48" y="422"/>
                </a:lnTo>
                <a:lnTo>
                  <a:pt x="0" y="559"/>
                </a:lnTo>
                <a:lnTo>
                  <a:pt x="76" y="376"/>
                </a:lnTo>
                <a:lnTo>
                  <a:pt x="380" y="591"/>
                </a:lnTo>
                <a:lnTo>
                  <a:pt x="304" y="521"/>
                </a:lnTo>
                <a:lnTo>
                  <a:pt x="86" y="351"/>
                </a:lnTo>
                <a:lnTo>
                  <a:pt x="76" y="0"/>
                </a:lnTo>
                <a:lnTo>
                  <a:pt x="61" y="19"/>
                </a:lnTo>
                <a:lnTo>
                  <a:pt x="61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2320" y="1690560"/>
            <a:ext cx="55800" cy="398520"/>
          </a:xfrm>
          <a:custGeom>
            <a:avLst/>
            <a:gdLst/>
            <a:ahLst/>
            <a:rect l="l" t="t" r="r" b="b"/>
            <a:pathLst>
              <a:path w="70" h="502">
                <a:moveTo>
                  <a:pt x="40" y="49"/>
                </a:moveTo>
                <a:lnTo>
                  <a:pt x="44" y="323"/>
                </a:lnTo>
                <a:lnTo>
                  <a:pt x="0" y="502"/>
                </a:lnTo>
                <a:lnTo>
                  <a:pt x="31" y="431"/>
                </a:lnTo>
                <a:lnTo>
                  <a:pt x="63" y="315"/>
                </a:lnTo>
                <a:lnTo>
                  <a:pt x="70" y="0"/>
                </a:lnTo>
                <a:lnTo>
                  <a:pt x="40" y="49"/>
                </a:lnTo>
                <a:lnTo>
                  <a:pt x="40" y="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866960" y="1604880"/>
            <a:ext cx="150840" cy="92160"/>
          </a:xfrm>
          <a:custGeom>
            <a:avLst/>
            <a:gdLst/>
            <a:ahLst/>
            <a:rect l="l" t="t" r="r" b="b"/>
            <a:pathLst>
              <a:path w="190" h="116">
                <a:moveTo>
                  <a:pt x="42" y="116"/>
                </a:moveTo>
                <a:lnTo>
                  <a:pt x="190" y="0"/>
                </a:lnTo>
                <a:lnTo>
                  <a:pt x="0" y="58"/>
                </a:lnTo>
                <a:lnTo>
                  <a:pt x="116" y="38"/>
                </a:lnTo>
                <a:lnTo>
                  <a:pt x="14" y="108"/>
                </a:lnTo>
                <a:lnTo>
                  <a:pt x="42" y="116"/>
                </a:lnTo>
                <a:lnTo>
                  <a:pt x="42" y="1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22320" y="865080"/>
            <a:ext cx="230400" cy="819360"/>
          </a:xfrm>
          <a:custGeom>
            <a:avLst/>
            <a:gdLst/>
            <a:ahLst/>
            <a:rect l="l" t="t" r="r" b="b"/>
            <a:pathLst>
              <a:path w="289" h="1032">
                <a:moveTo>
                  <a:pt x="0" y="996"/>
                </a:moveTo>
                <a:lnTo>
                  <a:pt x="268" y="287"/>
                </a:lnTo>
                <a:lnTo>
                  <a:pt x="259" y="0"/>
                </a:lnTo>
                <a:lnTo>
                  <a:pt x="289" y="272"/>
                </a:lnTo>
                <a:lnTo>
                  <a:pt x="8" y="1032"/>
                </a:lnTo>
                <a:lnTo>
                  <a:pt x="0" y="996"/>
                </a:lnTo>
                <a:lnTo>
                  <a:pt x="0" y="9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19040" y="1317600"/>
            <a:ext cx="497160" cy="401760"/>
          </a:xfrm>
          <a:custGeom>
            <a:avLst/>
            <a:gdLst/>
            <a:ahLst/>
            <a:rect l="l" t="t" r="r" b="b"/>
            <a:pathLst>
              <a:path w="627" h="505">
                <a:moveTo>
                  <a:pt x="612" y="458"/>
                </a:moveTo>
                <a:lnTo>
                  <a:pt x="472" y="404"/>
                </a:lnTo>
                <a:lnTo>
                  <a:pt x="388" y="77"/>
                </a:lnTo>
                <a:lnTo>
                  <a:pt x="0" y="0"/>
                </a:lnTo>
                <a:lnTo>
                  <a:pt x="367" y="104"/>
                </a:lnTo>
                <a:lnTo>
                  <a:pt x="451" y="395"/>
                </a:lnTo>
                <a:lnTo>
                  <a:pt x="283" y="416"/>
                </a:lnTo>
                <a:lnTo>
                  <a:pt x="445" y="410"/>
                </a:lnTo>
                <a:lnTo>
                  <a:pt x="627" y="505"/>
                </a:lnTo>
                <a:lnTo>
                  <a:pt x="612" y="458"/>
                </a:lnTo>
                <a:lnTo>
                  <a:pt x="612" y="4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57360" y="1708200"/>
            <a:ext cx="279360" cy="68040"/>
          </a:xfrm>
          <a:custGeom>
            <a:avLst/>
            <a:gdLst/>
            <a:ahLst/>
            <a:rect l="l" t="t" r="r" b="b"/>
            <a:pathLst>
              <a:path w="351" h="85">
                <a:moveTo>
                  <a:pt x="321" y="0"/>
                </a:moveTo>
                <a:lnTo>
                  <a:pt x="131" y="61"/>
                </a:lnTo>
                <a:lnTo>
                  <a:pt x="0" y="2"/>
                </a:lnTo>
                <a:lnTo>
                  <a:pt x="104" y="85"/>
                </a:lnTo>
                <a:lnTo>
                  <a:pt x="351" y="26"/>
                </a:lnTo>
                <a:lnTo>
                  <a:pt x="321" y="0"/>
                </a:lnTo>
                <a:lnTo>
                  <a:pt x="32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52640" y="800280"/>
            <a:ext cx="466560" cy="547560"/>
          </a:xfrm>
          <a:custGeom>
            <a:avLst/>
            <a:gdLst/>
            <a:ahLst/>
            <a:rect l="l" t="t" r="r" b="b"/>
            <a:pathLst>
              <a:path w="589" h="690">
                <a:moveTo>
                  <a:pt x="420" y="77"/>
                </a:moveTo>
                <a:lnTo>
                  <a:pt x="344" y="473"/>
                </a:lnTo>
                <a:lnTo>
                  <a:pt x="13" y="646"/>
                </a:lnTo>
                <a:lnTo>
                  <a:pt x="0" y="690"/>
                </a:lnTo>
                <a:lnTo>
                  <a:pt x="365" y="473"/>
                </a:lnTo>
                <a:lnTo>
                  <a:pt x="589" y="104"/>
                </a:lnTo>
                <a:lnTo>
                  <a:pt x="560" y="76"/>
                </a:lnTo>
                <a:lnTo>
                  <a:pt x="365" y="446"/>
                </a:lnTo>
                <a:lnTo>
                  <a:pt x="437" y="0"/>
                </a:lnTo>
                <a:lnTo>
                  <a:pt x="420" y="77"/>
                </a:lnTo>
                <a:lnTo>
                  <a:pt x="420" y="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39800" y="1727280"/>
            <a:ext cx="187560" cy="135000"/>
          </a:xfrm>
          <a:custGeom>
            <a:avLst/>
            <a:gdLst/>
            <a:ahLst/>
            <a:rect l="l" t="t" r="r" b="b"/>
            <a:pathLst>
              <a:path w="236" h="169">
                <a:moveTo>
                  <a:pt x="160" y="0"/>
                </a:moveTo>
                <a:lnTo>
                  <a:pt x="0" y="169"/>
                </a:lnTo>
                <a:lnTo>
                  <a:pt x="236" y="79"/>
                </a:lnTo>
                <a:lnTo>
                  <a:pt x="93" y="102"/>
                </a:lnTo>
                <a:lnTo>
                  <a:pt x="188" y="3"/>
                </a:lnTo>
                <a:lnTo>
                  <a:pt x="160" y="0"/>
                </a:lnTo>
                <a:lnTo>
                  <a:pt x="16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19160" y="1490760"/>
            <a:ext cx="66600" cy="58680"/>
          </a:xfrm>
          <a:custGeom>
            <a:avLst/>
            <a:gdLst/>
            <a:ahLst/>
            <a:rect l="l" t="t" r="r" b="b"/>
            <a:pathLst>
              <a:path w="84" h="74">
                <a:moveTo>
                  <a:pt x="27" y="0"/>
                </a:moveTo>
                <a:lnTo>
                  <a:pt x="0" y="46"/>
                </a:lnTo>
                <a:lnTo>
                  <a:pt x="72" y="74"/>
                </a:lnTo>
                <a:lnTo>
                  <a:pt x="84" y="19"/>
                </a:lnTo>
                <a:lnTo>
                  <a:pt x="27" y="0"/>
                </a:lnTo>
                <a:lnTo>
                  <a:pt x="27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76320" y="1530360"/>
            <a:ext cx="146160" cy="17280"/>
          </a:xfrm>
          <a:custGeom>
            <a:avLst/>
            <a:gdLst/>
            <a:ahLst/>
            <a:rect l="l" t="t" r="r" b="b"/>
            <a:pathLst>
              <a:path w="184" h="22">
                <a:moveTo>
                  <a:pt x="5" y="0"/>
                </a:moveTo>
                <a:lnTo>
                  <a:pt x="184" y="19"/>
                </a:lnTo>
                <a:lnTo>
                  <a:pt x="172" y="22"/>
                </a:lnTo>
                <a:lnTo>
                  <a:pt x="0" y="19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49280" y="1744560"/>
            <a:ext cx="114480" cy="120600"/>
          </a:xfrm>
          <a:custGeom>
            <a:avLst/>
            <a:gdLst/>
            <a:ahLst/>
            <a:rect l="l" t="t" r="r" b="b"/>
            <a:pathLst>
              <a:path w="145" h="153">
                <a:moveTo>
                  <a:pt x="0" y="23"/>
                </a:moveTo>
                <a:lnTo>
                  <a:pt x="111" y="147"/>
                </a:lnTo>
                <a:lnTo>
                  <a:pt x="145" y="153"/>
                </a:lnTo>
                <a:lnTo>
                  <a:pt x="74" y="0"/>
                </a:lnTo>
                <a:lnTo>
                  <a:pt x="63" y="14"/>
                </a:lnTo>
                <a:lnTo>
                  <a:pt x="0" y="23"/>
                </a:lnTo>
                <a:lnTo>
                  <a:pt x="0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93920" y="1758960"/>
            <a:ext cx="95040" cy="177840"/>
          </a:xfrm>
          <a:custGeom>
            <a:avLst/>
            <a:gdLst/>
            <a:ahLst/>
            <a:rect l="l" t="t" r="r" b="b"/>
            <a:pathLst>
              <a:path w="120" h="225">
                <a:moveTo>
                  <a:pt x="0" y="0"/>
                </a:moveTo>
                <a:lnTo>
                  <a:pt x="4" y="31"/>
                </a:lnTo>
                <a:lnTo>
                  <a:pt x="17" y="37"/>
                </a:lnTo>
                <a:lnTo>
                  <a:pt x="54" y="128"/>
                </a:lnTo>
                <a:lnTo>
                  <a:pt x="120" y="225"/>
                </a:lnTo>
                <a:lnTo>
                  <a:pt x="88" y="134"/>
                </a:lnTo>
                <a:lnTo>
                  <a:pt x="27" y="35"/>
                </a:lnTo>
                <a:lnTo>
                  <a:pt x="23" y="16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65360" y="961920"/>
            <a:ext cx="102960" cy="96840"/>
          </a:xfrm>
          <a:custGeom>
            <a:avLst/>
            <a:gdLst/>
            <a:ahLst/>
            <a:rect l="l" t="t" r="r" b="b"/>
            <a:pathLst>
              <a:path w="130" h="121">
                <a:moveTo>
                  <a:pt x="23" y="4"/>
                </a:moveTo>
                <a:lnTo>
                  <a:pt x="130" y="101"/>
                </a:lnTo>
                <a:lnTo>
                  <a:pt x="124" y="121"/>
                </a:lnTo>
                <a:lnTo>
                  <a:pt x="0" y="0"/>
                </a:lnTo>
                <a:lnTo>
                  <a:pt x="23" y="4"/>
                </a:lnTo>
                <a:lnTo>
                  <a:pt x="23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30520" y="1625760"/>
            <a:ext cx="237960" cy="99720"/>
          </a:xfrm>
          <a:custGeom>
            <a:avLst/>
            <a:gdLst/>
            <a:ahLst/>
            <a:rect l="l" t="t" r="r" b="b"/>
            <a:pathLst>
              <a:path w="300" h="128">
                <a:moveTo>
                  <a:pt x="95" y="73"/>
                </a:moveTo>
                <a:lnTo>
                  <a:pt x="118" y="33"/>
                </a:lnTo>
                <a:lnTo>
                  <a:pt x="169" y="38"/>
                </a:lnTo>
                <a:lnTo>
                  <a:pt x="232" y="17"/>
                </a:lnTo>
                <a:lnTo>
                  <a:pt x="300" y="0"/>
                </a:lnTo>
                <a:lnTo>
                  <a:pt x="240" y="57"/>
                </a:lnTo>
                <a:lnTo>
                  <a:pt x="183" y="90"/>
                </a:lnTo>
                <a:lnTo>
                  <a:pt x="166" y="126"/>
                </a:lnTo>
                <a:lnTo>
                  <a:pt x="122" y="128"/>
                </a:lnTo>
                <a:lnTo>
                  <a:pt x="0" y="109"/>
                </a:lnTo>
                <a:lnTo>
                  <a:pt x="107" y="103"/>
                </a:lnTo>
                <a:lnTo>
                  <a:pt x="95" y="73"/>
                </a:lnTo>
                <a:lnTo>
                  <a:pt x="95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860480" y="1690560"/>
            <a:ext cx="174600" cy="147600"/>
          </a:xfrm>
          <a:custGeom>
            <a:avLst/>
            <a:gdLst/>
            <a:ahLst/>
            <a:rect l="l" t="t" r="r" b="b"/>
            <a:pathLst>
              <a:path w="220" h="184">
                <a:moveTo>
                  <a:pt x="22" y="0"/>
                </a:moveTo>
                <a:lnTo>
                  <a:pt x="220" y="184"/>
                </a:lnTo>
                <a:lnTo>
                  <a:pt x="0" y="15"/>
                </a:lnTo>
                <a:lnTo>
                  <a:pt x="22" y="0"/>
                </a:lnTo>
                <a:lnTo>
                  <a:pt x="2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6"/>
          <a:stretch/>
        </p:blipFill>
        <p:spPr>
          <a:xfrm flipH="1" rot="10800000">
            <a:off x="9296280" y="4419360"/>
            <a:ext cx="7632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0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500"/>
                            </p:stCondLst>
                            <p:childTnLst>
                              <p:par>
                                <p:cTn id="7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2000"/>
                            </p:stCondLst>
                            <p:childTnLst>
                              <p:par>
                                <p:cTn id="7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2500"/>
                            </p:stCondLst>
                            <p:childTnLst>
                              <p:par>
                                <p:cTn id="8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3000"/>
                            </p:stCondLst>
                            <p:childTnLst>
                              <p:par>
                                <p:cTn id="8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3500"/>
                            </p:stCondLst>
                            <p:childTnLst>
                              <p:par>
                                <p:cTn id="8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5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4000"/>
                            </p:stCondLst>
                            <p:childTnLst>
                              <p:par>
                                <p:cTn id="8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4500"/>
                            </p:stCondLst>
                            <p:childTnLst>
                              <p:par>
                                <p:cTn id="8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4" dur="48353" fill="hold"/>
                                        <p:tgtEl>
                                          <p:spTgt spid="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1249200" y="228600"/>
            <a:ext cx="7513560" cy="1023480"/>
            <a:chOff x="1249200" y="228600"/>
            <a:chExt cx="7513560" cy="1023480"/>
          </a:xfrm>
        </p:grpSpPr>
        <p:sp>
          <p:nvSpPr>
            <p:cNvPr id="316" name=""/>
            <p:cNvSpPr/>
            <p:nvPr/>
          </p:nvSpPr>
          <p:spPr>
            <a:xfrm>
              <a:off x="1249200" y="228600"/>
              <a:ext cx="7513560" cy="83988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839880"/>
                <a:gd name="textAreaBottom" fmla="*/ 73008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fefefe"/>
                </a:gs>
                <a:gs pos="100000">
                  <a:srgbClr val="003399"/>
                </a:gs>
              </a:gsLst>
              <a:lin ang="10800000"/>
            </a:grad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92280" y="321840"/>
              <a:ext cx="50198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644920" y="304920"/>
            <a:ext cx="467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 rtl="1">
              <a:spcBef>
                <a:spcPts val="206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مهـارات التحدث والإقناع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19520" y="1523880"/>
            <a:ext cx="4419360" cy="79236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لا تدّعي امتلاك الحقيقة المطلقة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05720" y="163188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3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68360" y="5332320"/>
            <a:ext cx="7623360" cy="1007640"/>
          </a:xfrm>
          <a:prstGeom prst="rect">
            <a:avLst/>
          </a:prstGeom>
          <a:solidFill>
            <a:srgbClr val="bdd7e5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800000"/>
                </a:solidFill>
                <a:latin typeface="Arial"/>
                <a:cs typeface="Simplified Arabic"/>
              </a:rPr>
              <a:t>كثير من الآراء والأفكار تبين أنها خطأ بعد ما كانت في مرتبة الحقائق</a:t>
            </a:r>
            <a:r>
              <a:rPr b="1" lang="ar-SA" sz="3000" spc="-1" strike="noStrike">
                <a:solidFill>
                  <a:srgbClr val="800000"/>
                </a:solidFill>
                <a:latin typeface="Arial"/>
                <a:ea typeface="Simplified Arabic"/>
              </a:rPr>
              <a:t>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9134640" y="41911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9134640" y="558324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1368360" y="2986200"/>
            <a:ext cx="7623360" cy="550800"/>
          </a:xfrm>
          <a:prstGeom prst="rect">
            <a:avLst/>
          </a:prstGeom>
          <a:solidFill>
            <a:srgbClr val="bdd7e5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800000"/>
                </a:solidFill>
                <a:latin typeface="Arial"/>
                <a:cs typeface="Simplified Arabic"/>
              </a:rPr>
              <a:t>لا تحول آراءك إلى قوانين ومقدسات</a:t>
            </a:r>
            <a:r>
              <a:rPr b="1" lang="ar-SA" sz="2800" spc="-1" strike="noStrike">
                <a:solidFill>
                  <a:srgbClr val="800000"/>
                </a:solidFill>
                <a:latin typeface="Arial"/>
                <a:ea typeface="Simplified Arabic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5"/>
          <a:stretch/>
        </p:blipFill>
        <p:spPr>
          <a:xfrm>
            <a:off x="9144000" y="311472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371600" y="4114800"/>
            <a:ext cx="7623000" cy="1007640"/>
          </a:xfrm>
          <a:prstGeom prst="rect">
            <a:avLst/>
          </a:prstGeom>
          <a:solidFill>
            <a:srgbClr val="bdd7e5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800000"/>
                </a:solidFill>
                <a:latin typeface="Arial"/>
                <a:cs typeface="Simplified Arabic"/>
              </a:rPr>
              <a:t>حتى لو كانت الفكرة صحيحة فقد تخطئ في توصيلها</a:t>
            </a:r>
            <a:r>
              <a:rPr b="1" lang="ar-SA" sz="3000" spc="-1" strike="noStrike">
                <a:solidFill>
                  <a:srgbClr val="800000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6"/>
          <a:stretch/>
        </p:blipFill>
        <p:spPr>
          <a:xfrm flipH="1" rot="10800000">
            <a:off x="9296280" y="4419360"/>
            <a:ext cx="7632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0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500"/>
                            </p:stCondLst>
                            <p:childTnLst>
                              <p:par>
                                <p:cTn id="8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000"/>
                            </p:stCondLst>
                            <p:childTnLst>
                              <p:par>
                                <p:cTn id="8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500"/>
                            </p:stCondLst>
                            <p:childTnLst>
                              <p:par>
                                <p:cTn id="8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4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6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2000"/>
                            </p:stCondLst>
                            <p:childTnLst>
                              <p:par>
                                <p:cTn id="8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2500"/>
                            </p:stCondLst>
                            <p:childTnLst>
                              <p:par>
                                <p:cTn id="8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0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3000"/>
                            </p:stCondLst>
                            <p:childTnLst>
                              <p:par>
                                <p:cTn id="8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3500"/>
                            </p:stCondLst>
                            <p:childTnLst>
                              <p:par>
                                <p:cTn id="8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4000"/>
                            </p:stCondLst>
                            <p:childTnLst>
                              <p:par>
                                <p:cTn id="8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4500"/>
                            </p:stCondLst>
                            <p:childTnLst>
                              <p:par>
                                <p:cTn id="8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8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4" dur="81398" fill="hold"/>
                                        <p:tgtEl>
                                          <p:spTgt spid="3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1249200" y="228600"/>
            <a:ext cx="7513560" cy="1023480"/>
            <a:chOff x="1249200" y="228600"/>
            <a:chExt cx="7513560" cy="1023480"/>
          </a:xfrm>
        </p:grpSpPr>
        <p:sp>
          <p:nvSpPr>
            <p:cNvPr id="329" name=""/>
            <p:cNvSpPr/>
            <p:nvPr/>
          </p:nvSpPr>
          <p:spPr>
            <a:xfrm>
              <a:off x="1249200" y="228600"/>
              <a:ext cx="7513560" cy="83988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839880"/>
                <a:gd name="textAreaBottom" fmla="*/ 73008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fefefe"/>
                </a:gs>
                <a:gs pos="100000">
                  <a:srgbClr val="003399"/>
                </a:gs>
              </a:gsLst>
              <a:lin ang="10800000"/>
            </a:grad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92280" y="321840"/>
              <a:ext cx="50198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644920" y="304920"/>
            <a:ext cx="467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 rtl="1">
              <a:spcBef>
                <a:spcPts val="206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مهـارات التحدث والإقناع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19520" y="1523880"/>
            <a:ext cx="4419360" cy="79236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استخدم العبارات الرقيقة</a:t>
            </a:r>
            <a:r>
              <a:rPr b="1" lang="ar-SA" sz="30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543800" y="163188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4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201680" y="2925720"/>
            <a:ext cx="7623360" cy="14644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d8b2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عبارات الشكر والامتنان والتهنئة والمواساة والاعتذار لها تأثير إيجابي بطبيعتها</a:t>
            </a:r>
            <a:r>
              <a:rPr b="1" lang="ar-SA" sz="3000" spc="-1" strike="noStrike">
                <a:solidFill>
                  <a:srgbClr val="000066"/>
                </a:solidFill>
                <a:latin typeface="Arial"/>
                <a:ea typeface="Simplified Arabic"/>
              </a:rPr>
              <a:t> 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9134640" y="51055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4"/>
          <a:stretch/>
        </p:blipFill>
        <p:spPr>
          <a:xfrm>
            <a:off x="9144000" y="32670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1201680" y="4191120"/>
            <a:ext cx="7623360" cy="2336760"/>
          </a:xfrm>
          <a:prstGeom prst="foldedCorner">
            <a:avLst>
              <a:gd name="adj" fmla="val 12500"/>
            </a:avLst>
          </a:prstGeom>
          <a:solidFill>
            <a:srgbClr val="33cccc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14400" y="4327560"/>
            <a:ext cx="7623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يمكن زيادة تأثير هذه العبارات من خلال إضافات بسيطة</a:t>
            </a:r>
            <a:r>
              <a:rPr b="0" lang="ar-SA" sz="30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r>
              <a:rPr b="0" lang="ar-SA" sz="3000" spc="-1" strike="noStrike">
                <a:solidFill>
                  <a:srgbClr val="000066"/>
                </a:solidFill>
                <a:latin typeface="Arial"/>
                <a:ea typeface="Simplified Arabic"/>
              </a:rPr>
              <a:t>.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048120" y="5013360"/>
            <a:ext cx="556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عبارة رقيقة                   شكراً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249200" y="5653080"/>
            <a:ext cx="736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Arial"/>
                <a:cs typeface="Simplified Arabic"/>
              </a:rPr>
              <a:t>عبارة رقيقة ومؤثرة            شكراً لقد قدمت لي خدمة كبير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5105160" y="5943600"/>
            <a:ext cx="990360" cy="0"/>
          </a:xfrm>
          <a:prstGeom prst="line">
            <a:avLst/>
          </a:prstGeom>
          <a:ln w="127080">
            <a:solidFill>
              <a:srgbClr val="8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5105160" y="5334120"/>
            <a:ext cx="990360" cy="0"/>
          </a:xfrm>
          <a:prstGeom prst="line">
            <a:avLst/>
          </a:prstGeom>
          <a:ln w="127080">
            <a:solidFill>
              <a:srgbClr val="8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5"/>
          <a:stretch/>
        </p:blipFill>
        <p:spPr>
          <a:xfrm flipH="1" rot="10800000">
            <a:off x="9296280" y="5257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0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1000"/>
                            </p:stCondLst>
                            <p:childTnLst>
                              <p:par>
                                <p:cTn id="8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1500"/>
                            </p:stCondLst>
                            <p:childTnLst>
                              <p:par>
                                <p:cTn id="9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3000"/>
                            </p:stCondLst>
                            <p:childTnLst>
                              <p:par>
                                <p:cTn id="9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8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7" dur="8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8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8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3500"/>
                            </p:stCondLst>
                            <p:childTnLst>
                              <p:par>
                                <p:cTn id="9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4000"/>
                            </p:stCondLst>
                            <p:childTnLst>
                              <p:par>
                                <p:cTn id="9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4500"/>
                            </p:stCondLst>
                            <p:childTnLst>
                              <p:par>
                                <p:cTn id="9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77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1" dur="770" fill="hold"/>
                                        <p:tgtEl>
                                          <p:spTgt spid="3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3" dur="77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5" dur="77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5000"/>
                            </p:stCondLst>
                            <p:childTnLst>
                              <p:par>
                                <p:cTn id="9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5500"/>
                            </p:stCondLst>
                            <p:childTnLst>
                              <p:par>
                                <p:cTn id="9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6000"/>
                            </p:stCondLst>
                            <p:childTnLst>
                              <p:par>
                                <p:cTn id="9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3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6500"/>
                            </p:stCondLst>
                            <p:childTnLst>
                              <p:par>
                                <p:cTn id="9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6" dur="127478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84680" y="1995480"/>
            <a:ext cx="12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600" bIns="30600" anchor="t">
            <a:spAutoFit/>
          </a:bodyPr>
          <a:p>
            <a:pPr algn="r" rtl="1"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4495680"/>
            <a:ext cx="6476760" cy="792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fed3a8"/>
              </a:gs>
            </a:gsLst>
            <a:lin ang="5400000"/>
          </a:gra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19240" y="4648320"/>
            <a:ext cx="572292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ar-SA" sz="2900" spc="-1" strike="noStrike">
                <a:solidFill>
                  <a:srgbClr val="000066"/>
                </a:solidFill>
                <a:latin typeface="Arial"/>
                <a:cs typeface="Simplified Arabic"/>
              </a:rPr>
              <a:t>إذا أردت أن تكسب الناس يجب أن تفهمهم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43000" y="304920"/>
            <a:ext cx="5653080" cy="95868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89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66920" y="458640"/>
            <a:ext cx="5129280" cy="15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علاقات الجيدة تعني</a:t>
            </a:r>
            <a:r>
              <a:rPr b="1" lang="ar-SA" sz="48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70040" y="5638680"/>
            <a:ext cx="6477120" cy="792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fed3a8"/>
              </a:gs>
            </a:gsLst>
            <a:lin ang="5400000"/>
          </a:gra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74960" y="5813280"/>
            <a:ext cx="572292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ar-SA" sz="2900" spc="-1" strike="noStrike">
                <a:solidFill>
                  <a:srgbClr val="000066"/>
                </a:solidFill>
                <a:latin typeface="Arial"/>
                <a:cs typeface="Simplified Arabic"/>
              </a:rPr>
              <a:t>تذكر أن الإنسان كائن عاطفي أكثر منه منطقي</a:t>
            </a:r>
            <a:r>
              <a:rPr b="1" lang="ar-SA" sz="29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1981080"/>
            <a:ext cx="2660760" cy="1052640"/>
          </a:xfrm>
          <a:prstGeom prst="flowChartDecision">
            <a:avLst/>
          </a:prstGeom>
          <a:solidFill>
            <a:srgbClr val="ee56ee"/>
          </a:solidFill>
          <a:ln w="9360">
            <a:solidFill>
              <a:srgbClr val="333333"/>
            </a:solidFill>
            <a:miter/>
          </a:ln>
          <a:effectLst>
            <a:outerShdw dist="102298" dir="4975500" blurRad="0" rotWithShape="0">
              <a:srgbClr val="7f0d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1981080"/>
            <a:ext cx="2660760" cy="1052640"/>
          </a:xfrm>
          <a:prstGeom prst="flowChartDecision">
            <a:avLst/>
          </a:prstGeom>
          <a:solidFill>
            <a:srgbClr val="ee56ee"/>
          </a:solidFill>
          <a:ln w="9360">
            <a:solidFill>
              <a:srgbClr val="333333"/>
            </a:solidFill>
            <a:miter/>
          </a:ln>
          <a:effectLst>
            <a:outerShdw dist="77353" dir="4837521" blurRad="0" rotWithShape="0">
              <a:srgbClr val="7f0d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3048120"/>
            <a:ext cx="2660760" cy="1052280"/>
          </a:xfrm>
          <a:prstGeom prst="flowChartDecision">
            <a:avLst/>
          </a:prstGeom>
          <a:solidFill>
            <a:srgbClr val="ee56ee"/>
          </a:solidFill>
          <a:ln w="9360">
            <a:solidFill>
              <a:srgbClr val="333333"/>
            </a:solidFill>
            <a:miter/>
          </a:ln>
          <a:effectLst>
            <a:outerShdw dist="152800" dir="5116199" blurRad="0" rotWithShape="0">
              <a:srgbClr val="7f0d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3033720"/>
            <a:ext cx="2660760" cy="1052640"/>
          </a:xfrm>
          <a:prstGeom prst="flowChartDecision">
            <a:avLst/>
          </a:prstGeom>
          <a:solidFill>
            <a:srgbClr val="ee56ee"/>
          </a:solidFill>
          <a:ln w="9360">
            <a:solidFill>
              <a:srgbClr val="333333"/>
            </a:solidFill>
            <a:miter/>
          </a:ln>
          <a:effectLst>
            <a:outerShdw dist="115171" dir="5023148" blurRad="0" rotWithShape="0">
              <a:srgbClr val="7f0d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81800" y="2209680"/>
            <a:ext cx="144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Simplified Arabic"/>
              </a:rPr>
              <a:t>انسجا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86480" y="228600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Simplified Arabic"/>
              </a:rPr>
              <a:t>تفـاهـ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70720" y="3290760"/>
            <a:ext cx="12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Simplified Arabic"/>
              </a:rPr>
              <a:t>تسامح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44080" y="3276720"/>
            <a:ext cx="12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Simplified Arabic"/>
              </a:rPr>
              <a:t>تجاوب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75160" y="2529000"/>
            <a:ext cx="2660400" cy="1052280"/>
          </a:xfrm>
          <a:prstGeom prst="flowChartDecision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85360" y="2655720"/>
            <a:ext cx="145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33"/>
                </a:solidFill>
                <a:latin typeface="Arial"/>
                <a:cs typeface="Simplified Arabic"/>
              </a:rPr>
              <a:t>تعاون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613640" y="1117440"/>
            <a:ext cx="146160" cy="1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56448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"/>
          <p:cNvGrpSpPr/>
          <p:nvPr/>
        </p:nvGrpSpPr>
        <p:grpSpPr>
          <a:xfrm>
            <a:off x="1249200" y="228600"/>
            <a:ext cx="7513560" cy="1023480"/>
            <a:chOff x="1249200" y="228600"/>
            <a:chExt cx="7513560" cy="1023480"/>
          </a:xfrm>
        </p:grpSpPr>
        <p:sp>
          <p:nvSpPr>
            <p:cNvPr id="345" name=""/>
            <p:cNvSpPr/>
            <p:nvPr/>
          </p:nvSpPr>
          <p:spPr>
            <a:xfrm>
              <a:off x="1249200" y="228600"/>
              <a:ext cx="7513560" cy="83988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839880"/>
                <a:gd name="textAreaBottom" fmla="*/ 73008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fefefe"/>
                </a:gs>
                <a:gs pos="100000">
                  <a:srgbClr val="003399"/>
                </a:gs>
              </a:gsLst>
              <a:lin ang="10800000"/>
            </a:grad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492280" y="321840"/>
              <a:ext cx="50198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644920" y="304920"/>
            <a:ext cx="467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 rtl="1">
              <a:spcBef>
                <a:spcPts val="206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مهـارات التحدث والإقناع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0" y="1676520"/>
            <a:ext cx="5410080" cy="792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  <a:cs typeface="Simplified Arabic"/>
              </a:rPr>
              <a:t>اسمح للآخرين أن ينتحلوا أفكارك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062920" y="178452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5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9134640" y="524844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9144000" y="37242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278000" y="5019840"/>
            <a:ext cx="7623000" cy="771480"/>
          </a:xfrm>
          <a:prstGeom prst="rect">
            <a:avLst/>
          </a:prstGeom>
          <a:solidFill>
            <a:srgbClr val="33cccc"/>
          </a:solid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278000" y="5172120"/>
            <a:ext cx="7335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قدم عناصر الفكرة واترك الصياغة النهائية للشخص الآخر</a:t>
            </a:r>
            <a:r>
              <a:rPr b="1" lang="ar-SA" sz="26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1249200" y="3276720"/>
            <a:ext cx="7623360" cy="1494720"/>
            <a:chOff x="1249200" y="3276720"/>
            <a:chExt cx="7623360" cy="1494720"/>
          </a:xfrm>
        </p:grpSpPr>
        <p:sp>
          <p:nvSpPr>
            <p:cNvPr id="355" name=""/>
            <p:cNvSpPr/>
            <p:nvPr/>
          </p:nvSpPr>
          <p:spPr>
            <a:xfrm>
              <a:off x="1249200" y="3276720"/>
              <a:ext cx="7623360" cy="114300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333333"/>
              </a:solidFill>
              <a:miter/>
            </a:ln>
            <a:effectLst>
              <a:outerShdw dist="107932" dir="13500000" blurRad="0" rotWithShape="0">
                <a:srgbClr val="57896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249200" y="3367440"/>
              <a:ext cx="7623360" cy="14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66"/>
                  </a:solidFill>
                  <a:latin typeface="Arial"/>
                  <a:cs typeface="Simplified Arabic"/>
                </a:rPr>
                <a:t>إذا أردت لفكرتك أن تعيش ازرعها في ذهن الشخص الآخر بشكل عابر واجعله يشعر أنه صاحبها</a:t>
              </a:r>
              <a:r>
                <a:rPr b="1" lang="ar-SA" sz="2800" spc="-1" strike="noStrike">
                  <a:solidFill>
                    <a:srgbClr val="000066"/>
                  </a:solidFill>
                  <a:latin typeface="Arial"/>
                  <a:ea typeface="Simplified Arabic"/>
                </a:rPr>
                <a:t> </a:t>
              </a:r>
              <a:r>
                <a:rPr b="1" lang="ar-SA" sz="3000" spc="-1" strike="noStrike">
                  <a:solidFill>
                    <a:srgbClr val="000066"/>
                  </a:solidFill>
                  <a:latin typeface="Arial"/>
                  <a:ea typeface="Simplified Arabic"/>
                </a:rPr>
                <a:t>     </a:t>
              </a:r>
              <a:endParaRPr b="0" lang="en-US" sz="3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357" name="" descr=""/>
          <p:cNvPicPr/>
          <p:nvPr/>
        </p:nvPicPr>
        <p:blipFill>
          <a:blip r:embed="rId5"/>
          <a:stretch/>
        </p:blipFill>
        <p:spPr>
          <a:xfrm>
            <a:off x="9296280" y="38862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0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3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9" dur="111125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"/>
          <p:cNvGrpSpPr/>
          <p:nvPr/>
        </p:nvGrpSpPr>
        <p:grpSpPr>
          <a:xfrm>
            <a:off x="1249200" y="228600"/>
            <a:ext cx="7513560" cy="1023480"/>
            <a:chOff x="1249200" y="228600"/>
            <a:chExt cx="7513560" cy="1023480"/>
          </a:xfrm>
        </p:grpSpPr>
        <p:sp>
          <p:nvSpPr>
            <p:cNvPr id="359" name=""/>
            <p:cNvSpPr/>
            <p:nvPr/>
          </p:nvSpPr>
          <p:spPr>
            <a:xfrm>
              <a:off x="1249200" y="228600"/>
              <a:ext cx="7513560" cy="83988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839880"/>
                <a:gd name="textAreaBottom" fmla="*/ 73008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fefefe"/>
                </a:gs>
                <a:gs pos="100000">
                  <a:srgbClr val="003399"/>
                </a:gs>
              </a:gsLst>
              <a:lin ang="10800000"/>
            </a:grad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92280" y="321840"/>
              <a:ext cx="50198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2644920" y="304920"/>
            <a:ext cx="467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 rtl="1">
              <a:spcBef>
                <a:spcPts val="206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مهـارات التحدث والإقناع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752480"/>
            <a:ext cx="5965920" cy="79236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اعترف بأخطائك ولا تحاول التبرير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313840" y="186048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6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8677440" y="3657600"/>
            <a:ext cx="314280" cy="31428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1362240" y="3505320"/>
            <a:ext cx="7043400" cy="1054800"/>
            <a:chOff x="1362240" y="3505320"/>
            <a:chExt cx="7043400" cy="1054800"/>
          </a:xfrm>
        </p:grpSpPr>
        <p:sp>
          <p:nvSpPr>
            <p:cNvPr id="366" name=""/>
            <p:cNvSpPr/>
            <p:nvPr/>
          </p:nvSpPr>
          <p:spPr>
            <a:xfrm>
              <a:off x="1362240" y="3505320"/>
              <a:ext cx="7043400" cy="6094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333333"/>
              </a:solidFill>
              <a:miter/>
            </a:ln>
            <a:effectLst>
              <a:outerShdw dist="107932" dir="13500000" blurRad="0" rotWithShape="0">
                <a:srgbClr val="57896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62240" y="3552480"/>
              <a:ext cx="70434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0" spc="-1" strike="noStrike">
                  <a:solidFill>
                    <a:srgbClr val="000066"/>
                  </a:solidFill>
                  <a:latin typeface="Arial"/>
                  <a:ea typeface="Simplified Arabic"/>
                </a:rPr>
                <a:t>     </a:t>
              </a:r>
              <a:r>
                <a:rPr b="1" lang="ar-SA" sz="3000" spc="-1" strike="noStrike">
                  <a:solidFill>
                    <a:srgbClr val="000066"/>
                  </a:solidFill>
                  <a:latin typeface="Arial"/>
                  <a:cs typeface="Simplified Arabic"/>
                </a:rPr>
                <a:t>أفضل تبرير للخطأ الاعتراف به</a:t>
              </a:r>
              <a:r>
                <a:rPr b="1" lang="ar-SA" sz="3000" spc="-1" strike="noStrike">
                  <a:solidFill>
                    <a:srgbClr val="000066"/>
                  </a:solidFill>
                  <a:latin typeface="Arial"/>
                  <a:ea typeface="Simplified Arabic"/>
                </a:rPr>
                <a:t>       </a:t>
              </a:r>
              <a:endParaRPr b="0" lang="en-US" sz="3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8677440" y="5181480"/>
            <a:ext cx="314280" cy="314280"/>
          </a:xfrm>
          <a:prstGeom prst="rect">
            <a:avLst/>
          </a:prstGeom>
          <a:ln w="0">
            <a:noFill/>
          </a:ln>
        </p:spPr>
      </p:pic>
      <p:grpSp>
        <p:nvGrpSpPr>
          <p:cNvPr id="369" name=""/>
          <p:cNvGrpSpPr/>
          <p:nvPr/>
        </p:nvGrpSpPr>
        <p:grpSpPr>
          <a:xfrm>
            <a:off x="1362240" y="5029200"/>
            <a:ext cx="7043400" cy="994320"/>
            <a:chOff x="1362240" y="5029200"/>
            <a:chExt cx="7043400" cy="994320"/>
          </a:xfrm>
        </p:grpSpPr>
        <p:sp>
          <p:nvSpPr>
            <p:cNvPr id="370" name=""/>
            <p:cNvSpPr/>
            <p:nvPr/>
          </p:nvSpPr>
          <p:spPr>
            <a:xfrm>
              <a:off x="1362240" y="5029200"/>
              <a:ext cx="7043400" cy="6094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333333"/>
              </a:solidFill>
              <a:miter/>
            </a:ln>
            <a:effectLst>
              <a:outerShdw dist="107932" dir="13500000" blurRad="0" rotWithShape="0">
                <a:srgbClr val="57896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362240" y="5076360"/>
              <a:ext cx="7043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66"/>
                  </a:solidFill>
                  <a:latin typeface="Arial"/>
                  <a:cs typeface="Simplified Arabic"/>
                </a:rPr>
                <a:t>اعترافك بالخطأ دليل قوة والناس يتسامحون مع الأقوياء</a:t>
              </a:r>
              <a:r>
                <a:rPr b="1" lang="ar-SA" sz="2800" spc="-1" strike="noStrike">
                  <a:solidFill>
                    <a:srgbClr val="000066"/>
                  </a:solidFill>
                  <a:latin typeface="Arial"/>
                  <a:ea typeface="Simplified Arabic"/>
                </a:rPr>
                <a:t> 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372" name="" descr=""/>
          <p:cNvPicPr/>
          <p:nvPr/>
        </p:nvPicPr>
        <p:blipFill>
          <a:blip r:embed="rId5"/>
          <a:stretch/>
        </p:blipFill>
        <p:spPr>
          <a:xfrm flipH="1" rot="10800000">
            <a:off x="9296280" y="38862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0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500"/>
                            </p:stCondLst>
                            <p:childTnLst>
                              <p:par>
                                <p:cTn id="10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58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3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7" dur="86231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"/>
          <p:cNvGrpSpPr/>
          <p:nvPr/>
        </p:nvGrpSpPr>
        <p:grpSpPr>
          <a:xfrm>
            <a:off x="1249200" y="228600"/>
            <a:ext cx="7513560" cy="1023480"/>
            <a:chOff x="1249200" y="228600"/>
            <a:chExt cx="7513560" cy="1023480"/>
          </a:xfrm>
        </p:grpSpPr>
        <p:sp>
          <p:nvSpPr>
            <p:cNvPr id="374" name=""/>
            <p:cNvSpPr/>
            <p:nvPr/>
          </p:nvSpPr>
          <p:spPr>
            <a:xfrm>
              <a:off x="1249200" y="228600"/>
              <a:ext cx="7513560" cy="83988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839880"/>
                <a:gd name="textAreaBottom" fmla="*/ 73008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fefefe"/>
                </a:gs>
                <a:gs pos="100000">
                  <a:srgbClr val="003399"/>
                </a:gs>
              </a:gsLst>
              <a:lin ang="10800000"/>
            </a:grad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92280" y="321840"/>
              <a:ext cx="50198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2644920" y="304920"/>
            <a:ext cx="467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 rtl="1">
              <a:spcBef>
                <a:spcPts val="206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مهـارات التحدث والإقناع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981080" y="1752480"/>
            <a:ext cx="5965920" cy="79236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استدرج الطرف الآخر لكلمة ” نعم</a:t>
            </a:r>
            <a:r>
              <a:rPr b="1" lang="ar-SA" sz="3200" spc="-1" strike="noStrike">
                <a:solidFill>
                  <a:srgbClr val="000066"/>
                </a:solidFill>
                <a:latin typeface="Arial"/>
                <a:ea typeface="Simplified Arabic"/>
              </a:rPr>
              <a:t> 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13840" y="186048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7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3"/>
          <a:stretch/>
        </p:blipFill>
        <p:spPr>
          <a:xfrm>
            <a:off x="8610480" y="3648240"/>
            <a:ext cx="314280" cy="314280"/>
          </a:xfrm>
          <a:prstGeom prst="rect">
            <a:avLst/>
          </a:prstGeom>
          <a:ln w="0">
            <a:noFill/>
          </a:ln>
        </p:spPr>
      </p:pic>
      <p:grpSp>
        <p:nvGrpSpPr>
          <p:cNvPr id="380" name=""/>
          <p:cNvGrpSpPr/>
          <p:nvPr/>
        </p:nvGrpSpPr>
        <p:grpSpPr>
          <a:xfrm>
            <a:off x="1295280" y="3505320"/>
            <a:ext cx="7043760" cy="1054800"/>
            <a:chOff x="1295280" y="3505320"/>
            <a:chExt cx="7043760" cy="1054800"/>
          </a:xfrm>
        </p:grpSpPr>
        <p:sp>
          <p:nvSpPr>
            <p:cNvPr id="381" name=""/>
            <p:cNvSpPr/>
            <p:nvPr/>
          </p:nvSpPr>
          <p:spPr>
            <a:xfrm>
              <a:off x="1295280" y="3505320"/>
              <a:ext cx="7043760" cy="6094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333333"/>
              </a:solidFill>
              <a:miter/>
            </a:ln>
            <a:effectLst>
              <a:outerShdw dist="107932" dir="13500000" blurRad="0" rotWithShape="0">
                <a:srgbClr val="57896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295280" y="3552480"/>
              <a:ext cx="70437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0" spc="-1" strike="noStrike">
                  <a:solidFill>
                    <a:srgbClr val="000066"/>
                  </a:solidFill>
                  <a:latin typeface="Arial"/>
                  <a:ea typeface="Simplified Arabic"/>
                </a:rPr>
                <a:t>     </a:t>
              </a:r>
              <a:r>
                <a:rPr b="1" lang="ar-SA" sz="3000" spc="-1" strike="noStrike">
                  <a:solidFill>
                    <a:srgbClr val="000066"/>
                  </a:solidFill>
                  <a:latin typeface="Arial"/>
                  <a:cs typeface="Simplified Arabic"/>
                </a:rPr>
                <a:t>اطرح الموضوع على شكل أسئلة جوابها نعم</a:t>
              </a:r>
              <a:r>
                <a:rPr b="1" lang="ar-SA" sz="3000" spc="-1" strike="noStrike">
                  <a:solidFill>
                    <a:srgbClr val="000066"/>
                  </a:solidFill>
                  <a:latin typeface="Arial"/>
                  <a:ea typeface="Simplified Arabic"/>
                </a:rPr>
                <a:t>        </a:t>
              </a:r>
              <a:endParaRPr b="0" lang="en-US" sz="3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8610480" y="5400720"/>
            <a:ext cx="314280" cy="314280"/>
          </a:xfrm>
          <a:prstGeom prst="rect">
            <a:avLst/>
          </a:prstGeom>
          <a:ln w="0">
            <a:noFill/>
          </a:ln>
        </p:spPr>
      </p:pic>
      <p:grpSp>
        <p:nvGrpSpPr>
          <p:cNvPr id="384" name=""/>
          <p:cNvGrpSpPr/>
          <p:nvPr/>
        </p:nvGrpSpPr>
        <p:grpSpPr>
          <a:xfrm>
            <a:off x="1295280" y="5029200"/>
            <a:ext cx="7043760" cy="1122480"/>
            <a:chOff x="1295280" y="5029200"/>
            <a:chExt cx="7043760" cy="1122480"/>
          </a:xfrm>
        </p:grpSpPr>
        <p:sp>
          <p:nvSpPr>
            <p:cNvPr id="385" name=""/>
            <p:cNvSpPr/>
            <p:nvPr/>
          </p:nvSpPr>
          <p:spPr>
            <a:xfrm>
              <a:off x="1295280" y="5029200"/>
              <a:ext cx="7043760" cy="11224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333333"/>
              </a:solidFill>
              <a:miter/>
            </a:ln>
            <a:effectLst>
              <a:outerShdw dist="107932" dir="13500000" blurRad="0" rotWithShape="0">
                <a:srgbClr val="57896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295280" y="5116320"/>
              <a:ext cx="7043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66"/>
                  </a:solidFill>
                  <a:latin typeface="Arial"/>
                  <a:cs typeface="Simplified Arabic"/>
                </a:rPr>
                <a:t>عندما يكرر الطرف الآخر ” نعم ” عدة مرات يشعر بالاتفاق التام معك</a:t>
              </a:r>
              <a:r>
                <a:rPr b="1" lang="ar-SA" sz="2800" spc="-1" strike="noStrike">
                  <a:solidFill>
                    <a:srgbClr val="000066"/>
                  </a:solidFill>
                  <a:latin typeface="Arial"/>
                  <a:ea typeface="Simplified Arabic"/>
                </a:rPr>
                <a:t> 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387" name="" descr=""/>
          <p:cNvPicPr/>
          <p:nvPr/>
        </p:nvPicPr>
        <p:blipFill>
          <a:blip r:embed="rId5"/>
          <a:stretch/>
        </p:blipFill>
        <p:spPr>
          <a:xfrm rot="10800000">
            <a:off x="9296280" y="38098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0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7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8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9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3" dur="8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4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1" dur="71001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5219640" y="2927520"/>
            <a:ext cx="34671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04840" y="3357720"/>
            <a:ext cx="7848720" cy="103824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أكد على المنافع التي تتحقق من وراء العمل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62320" y="2057400"/>
            <a:ext cx="5303880" cy="7621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اجعل الشخص الآخر يرغب في العمل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1219320" y="343080"/>
            <a:ext cx="7513560" cy="1143000"/>
            <a:chOff x="1219320" y="343080"/>
            <a:chExt cx="7513560" cy="1143000"/>
          </a:xfrm>
        </p:grpSpPr>
        <p:sp>
          <p:nvSpPr>
            <p:cNvPr id="392" name=""/>
            <p:cNvSpPr/>
            <p:nvPr/>
          </p:nvSpPr>
          <p:spPr>
            <a:xfrm>
              <a:off x="1219320" y="343080"/>
              <a:ext cx="7513560" cy="114300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1143000"/>
                <a:gd name="textAreaBottom" fmla="*/ 99360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849760" y="533520"/>
              <a:ext cx="4282920" cy="64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320" rIns="94320" tIns="47160" bIns="4716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42840"/>
                  <a:tab algn="l" pos="1886040"/>
                  <a:tab algn="l" pos="2828880"/>
                  <a:tab algn="l" pos="3772080"/>
                  <a:tab algn="l" pos="4714920"/>
                  <a:tab algn="l" pos="5657760"/>
                  <a:tab algn="l" pos="6600960"/>
                  <a:tab algn="l" pos="7543800"/>
                  <a:tab algn="l" pos="8486640"/>
                  <a:tab algn="l" pos="9429840"/>
                  <a:tab algn="l" pos="1037268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7986600" y="213372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1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5"/>
          <a:stretch/>
        </p:blipFill>
        <p:spPr>
          <a:xfrm>
            <a:off x="9144000" y="34956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2392200" y="533520"/>
            <a:ext cx="515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كيف تقنع الآخرين أن يفعلوا ما تريد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143000" y="4449600"/>
            <a:ext cx="7848720" cy="5814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اجعل العمل ممتعاً قدر الإمكان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6"/>
          <a:stretch/>
        </p:blipFill>
        <p:spPr>
          <a:xfrm>
            <a:off x="9182160" y="458784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1143000" y="5562720"/>
            <a:ext cx="7848720" cy="5814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اجعل للعمل الصغير أهمية كبيرة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7"/>
          <a:stretch/>
        </p:blipFill>
        <p:spPr>
          <a:xfrm>
            <a:off x="9182160" y="570060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8"/>
          <a:stretch/>
        </p:blipFill>
        <p:spPr>
          <a:xfrm>
            <a:off x="647640" y="1882800"/>
            <a:ext cx="1714680" cy="116532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9"/>
          <a:stretch/>
        </p:blipFill>
        <p:spPr>
          <a:xfrm flipH="1" rot="10800000">
            <a:off x="9296280" y="47242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0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1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1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7" dur="4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4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3" nodeType="after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9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2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3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5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6" dur="95165" fill="hold"/>
                                        <p:tgtEl>
                                          <p:spTgt spid="4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5219640" y="2927520"/>
            <a:ext cx="34671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104840" y="3357720"/>
            <a:ext cx="7848720" cy="5814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لا أحد يحب أن يتلقى الأوامر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362320" y="2057400"/>
            <a:ext cx="5303880" cy="7621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تجنب الأوامر المباشرة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990720" y="343080"/>
            <a:ext cx="7513560" cy="1143000"/>
            <a:chOff x="990720" y="343080"/>
            <a:chExt cx="7513560" cy="1143000"/>
          </a:xfrm>
        </p:grpSpPr>
        <p:sp>
          <p:nvSpPr>
            <p:cNvPr id="407" name=""/>
            <p:cNvSpPr/>
            <p:nvPr/>
          </p:nvSpPr>
          <p:spPr>
            <a:xfrm>
              <a:off x="990720" y="343080"/>
              <a:ext cx="7513560" cy="114300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1143000"/>
                <a:gd name="textAreaBottom" fmla="*/ 99360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621160" y="533520"/>
              <a:ext cx="4282920" cy="64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320" rIns="94320" tIns="47160" bIns="4716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42840"/>
                  <a:tab algn="l" pos="1886040"/>
                  <a:tab algn="l" pos="2828880"/>
                  <a:tab algn="l" pos="3772080"/>
                  <a:tab algn="l" pos="4714920"/>
                  <a:tab algn="l" pos="5657760"/>
                  <a:tab algn="l" pos="6600960"/>
                  <a:tab algn="l" pos="7543800"/>
                  <a:tab algn="l" pos="8486640"/>
                  <a:tab algn="l" pos="9429840"/>
                  <a:tab algn="l" pos="1037268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7924680" y="213372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2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5"/>
          <a:stretch/>
        </p:blipFill>
        <p:spPr>
          <a:xfrm>
            <a:off x="9144000" y="34956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2133720" y="533520"/>
            <a:ext cx="515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كيف تقنع الآخرين أن يفعلوا ما تريد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43000" y="4449600"/>
            <a:ext cx="7848720" cy="100764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بدل أن تقول : افعل ، قل : ما رأيك لو نفعل ؟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6"/>
          <a:stretch/>
        </p:blipFill>
        <p:spPr>
          <a:xfrm>
            <a:off x="9182160" y="458784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1143000" y="5562720"/>
            <a:ext cx="7848720" cy="5814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بدل أن تأمر الشخص اجعله يأمر نفسه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7"/>
          <a:stretch/>
        </p:blipFill>
        <p:spPr>
          <a:xfrm>
            <a:off x="9182160" y="570060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8"/>
          <a:stretch/>
        </p:blipFill>
        <p:spPr>
          <a:xfrm>
            <a:off x="1281240" y="2057400"/>
            <a:ext cx="1703160" cy="12114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9"/>
          <a:stretch/>
        </p:blipFill>
        <p:spPr>
          <a:xfrm flipH="1" rot="10800000">
            <a:off x="9372600" y="48006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0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1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5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6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7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9" nodeType="after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8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6" dur="55772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5219640" y="2927520"/>
            <a:ext cx="34671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104840" y="3357720"/>
            <a:ext cx="7848720" cy="5814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أطلق شرارة المنافسة بين العاملين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362320" y="2057400"/>
            <a:ext cx="5303880" cy="7621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اجعل الأمر موضع تحدي</a:t>
            </a:r>
            <a:r>
              <a:rPr b="1" lang="ar-SA" sz="30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990720" y="343080"/>
            <a:ext cx="7513560" cy="1143000"/>
            <a:chOff x="990720" y="343080"/>
            <a:chExt cx="7513560" cy="1143000"/>
          </a:xfrm>
        </p:grpSpPr>
        <p:sp>
          <p:nvSpPr>
            <p:cNvPr id="422" name=""/>
            <p:cNvSpPr/>
            <p:nvPr/>
          </p:nvSpPr>
          <p:spPr>
            <a:xfrm>
              <a:off x="990720" y="343080"/>
              <a:ext cx="7513560" cy="114300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1143000"/>
                <a:gd name="textAreaBottom" fmla="*/ 99360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21160" y="533520"/>
              <a:ext cx="4282920" cy="64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320" rIns="94320" tIns="47160" bIns="4716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42840"/>
                  <a:tab algn="l" pos="1886040"/>
                  <a:tab algn="l" pos="2828880"/>
                  <a:tab algn="l" pos="3772080"/>
                  <a:tab algn="l" pos="4714920"/>
                  <a:tab algn="l" pos="5657760"/>
                  <a:tab algn="l" pos="6600960"/>
                  <a:tab algn="l" pos="7543800"/>
                  <a:tab algn="l" pos="8486640"/>
                  <a:tab algn="l" pos="9429840"/>
                  <a:tab algn="l" pos="1037268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7986600" y="213372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3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5"/>
          <a:stretch/>
        </p:blipFill>
        <p:spPr>
          <a:xfrm>
            <a:off x="9144000" y="34956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2133720" y="533520"/>
            <a:ext cx="515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كيف تقنع الآخرين أن يفعلوا ما تريد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43000" y="4449600"/>
            <a:ext cx="7848720" cy="5814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ارفع سقف الطموح بالتدريج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6"/>
          <a:stretch/>
        </p:blipFill>
        <p:spPr>
          <a:xfrm>
            <a:off x="9182160" y="458784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1143000" y="5562720"/>
            <a:ext cx="7848720" cy="5508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علّق لوحة الإنجاز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7"/>
          <a:stretch/>
        </p:blipFill>
        <p:spPr>
          <a:xfrm>
            <a:off x="9182160" y="570060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8"/>
          <a:stretch/>
        </p:blipFill>
        <p:spPr>
          <a:xfrm>
            <a:off x="1916280" y="1600200"/>
            <a:ext cx="1589040" cy="15541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9"/>
          <a:stretch/>
        </p:blipFill>
        <p:spPr>
          <a:xfrm>
            <a:off x="1104840" y="1978200"/>
            <a:ext cx="951120" cy="137952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10"/>
          <a:stretch/>
        </p:blipFill>
        <p:spPr>
          <a:xfrm flipH="1" rot="10800000">
            <a:off x="9296280" y="47242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0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5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"/>
                            </p:stCondLst>
                            <p:childTnLst>
                              <p:par>
                                <p:cTn id="12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5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7" nodeType="after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1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84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9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4500"/>
                            </p:stCondLst>
                            <p:childTnLst>
                              <p:par>
                                <p:cTn id="13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3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4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8" dur="79543" fill="hold"/>
                                        <p:tgtEl>
                                          <p:spTgt spid="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5219640" y="2927520"/>
            <a:ext cx="34671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104840" y="3078000"/>
            <a:ext cx="7848720" cy="100764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من اجتهد فأخطأ فله أجر ومن اجتهد فأصاب فله أجران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286000" y="1905120"/>
            <a:ext cx="5532480" cy="76176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  <a:cs typeface="Simplified Arabic"/>
              </a:rPr>
              <a:t>لا تعاقب على الخطأ وكافئ المجته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990720" y="343080"/>
            <a:ext cx="7513560" cy="1143000"/>
            <a:chOff x="990720" y="343080"/>
            <a:chExt cx="7513560" cy="1143000"/>
          </a:xfrm>
        </p:grpSpPr>
        <p:sp>
          <p:nvSpPr>
            <p:cNvPr id="438" name=""/>
            <p:cNvSpPr/>
            <p:nvPr/>
          </p:nvSpPr>
          <p:spPr>
            <a:xfrm>
              <a:off x="990720" y="343080"/>
              <a:ext cx="7513560" cy="114300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1143000"/>
                <a:gd name="textAreaBottom" fmla="*/ 99360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21160" y="533520"/>
              <a:ext cx="4282920" cy="64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320" rIns="94320" tIns="47160" bIns="4716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42840"/>
                  <a:tab algn="l" pos="1886040"/>
                  <a:tab algn="l" pos="2828880"/>
                  <a:tab algn="l" pos="3772080"/>
                  <a:tab algn="l" pos="4714920"/>
                  <a:tab algn="l" pos="5657760"/>
                  <a:tab algn="l" pos="6600960"/>
                  <a:tab algn="l" pos="7543800"/>
                  <a:tab algn="l" pos="8486640"/>
                  <a:tab algn="l" pos="9429840"/>
                  <a:tab algn="l" pos="1037268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8139240" y="198108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4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5"/>
          <a:stretch/>
        </p:blipFill>
        <p:spPr>
          <a:xfrm>
            <a:off x="9144000" y="321624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2133720" y="533520"/>
            <a:ext cx="51512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100" spc="-1" strike="noStrike">
                <a:solidFill>
                  <a:srgbClr val="000066"/>
                </a:solidFill>
                <a:latin typeface="Arial"/>
                <a:cs typeface="Simplified Arabic"/>
              </a:rPr>
              <a:t>كيف تقنع الآخرين أن يفعلوا ما تريد ؟</a:t>
            </a:r>
            <a:endParaRPr b="0" lang="en-US" sz="3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143000" y="3962520"/>
            <a:ext cx="7848720" cy="5508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خطأ أثناء المحاولة يستحق التكريم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6"/>
          <a:stretch/>
        </p:blipFill>
        <p:spPr>
          <a:xfrm>
            <a:off x="9182160" y="41004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1143000" y="4830840"/>
            <a:ext cx="7848720" cy="5814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أسوأ نظام في العمل نظام العقوبات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7"/>
          <a:stretch/>
        </p:blipFill>
        <p:spPr>
          <a:xfrm>
            <a:off x="9182160" y="4968720"/>
            <a:ext cx="314280" cy="3146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1143000" y="5745240"/>
            <a:ext cx="7848720" cy="5814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اجعل تصحيح الخطأ يبدو سهلاً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8"/>
          <a:stretch/>
        </p:blipFill>
        <p:spPr>
          <a:xfrm>
            <a:off x="9182160" y="5883120"/>
            <a:ext cx="314280" cy="31464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9"/>
          <a:stretch/>
        </p:blipFill>
        <p:spPr>
          <a:xfrm>
            <a:off x="906480" y="1695600"/>
            <a:ext cx="1714320" cy="125712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10"/>
          <a:stretch/>
        </p:blipFill>
        <p:spPr>
          <a:xfrm flipH="1">
            <a:off x="9296280" y="42670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9" dur="indefinite" restart="never" nodeType="tmRoot">
          <p:childTnLst>
            <p:seq>
              <p:cTn id="1310" dur="indefinite" nodeType="mainSeq">
                <p:childTnLst>
                  <p:par>
                    <p:cTn id="1311" fill="hold">
                      <p:stCondLst>
                        <p:cond delay="0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500"/>
                            </p:stCondLst>
                            <p:childTnLst>
                              <p:par>
                                <p:cTn id="13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0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3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3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9" nodeType="after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0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4500"/>
                            </p:stCondLst>
                            <p:childTnLst>
                              <p:par>
                                <p:cTn id="13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5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5500"/>
                            </p:stCondLst>
                            <p:childTnLst>
                              <p:par>
                                <p:cTn id="13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1" dur="8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2" dur="8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8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8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9" dur="95896" fill="hold"/>
                                        <p:tgtEl>
                                          <p:spTgt spid="4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886040" y="407880"/>
            <a:ext cx="6286320" cy="8766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41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ارفع شعار ” أنت أنا ” </a:t>
            </a:r>
            <a:endParaRPr b="0" lang="en-US" sz="3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371600" y="2590920"/>
            <a:ext cx="74548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ترى نفسك عندما تنظر للآخرين</a:t>
            </a:r>
            <a:r>
              <a:rPr b="1" lang="ar-SA" sz="36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371600" y="3473280"/>
            <a:ext cx="74548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تفرح بإنجازاتهم لأنها لك</a:t>
            </a:r>
            <a:r>
              <a:rPr b="1" lang="ar-SA" sz="36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371600" y="4373640"/>
            <a:ext cx="7454880" cy="5814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تغفر أخطاؤهم لأنها أخطاؤك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371600" y="5211720"/>
            <a:ext cx="7454880" cy="5814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تستطيع أن تفهم الناس لأنهم أنت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2884320" y="1447920"/>
            <a:ext cx="4289400" cy="1359720"/>
            <a:chOff x="2884320" y="1447920"/>
            <a:chExt cx="4289400" cy="1359720"/>
          </a:xfrm>
        </p:grpSpPr>
        <p:sp>
          <p:nvSpPr>
            <p:cNvPr id="457" name=""/>
            <p:cNvSpPr/>
            <p:nvPr/>
          </p:nvSpPr>
          <p:spPr>
            <a:xfrm>
              <a:off x="2884320" y="1447920"/>
              <a:ext cx="4289400" cy="914400"/>
            </a:xfrm>
            <a:prstGeom prst="bevel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125520" y="1616400"/>
              <a:ext cx="4025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333333"/>
                  </a:solidFill>
                  <a:latin typeface="Arial"/>
                  <a:cs typeface="Simplified Arabic"/>
                </a:rPr>
                <a:t>من خلال ” أنت أنا</a:t>
              </a:r>
              <a:r>
                <a:rPr b="1" lang="ar-SA" sz="3600" spc="-1" strike="noStrike">
                  <a:solidFill>
                    <a:srgbClr val="333333"/>
                  </a:solidFill>
                  <a:latin typeface="Arial"/>
                  <a:ea typeface="Simplified Arabic"/>
                </a:rPr>
                <a:t> ”</a:t>
              </a:r>
              <a:r>
                <a:rPr b="1" lang="ar-SA" sz="3200" spc="-1" strike="noStrike">
                  <a:solidFill>
                    <a:srgbClr val="333333"/>
                  </a:solidFill>
                  <a:latin typeface="Arial"/>
                  <a:ea typeface="Simplified Arabic"/>
                </a:rPr>
                <a:t> 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1371600" y="6049800"/>
            <a:ext cx="7454880" cy="5814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تكسب حب الناس واحترامه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83160" y="4710240"/>
            <a:ext cx="12600" cy="14040"/>
          </a:xfrm>
          <a:custGeom>
            <a:avLst/>
            <a:gdLst/>
            <a:ahLst/>
            <a:rect l="l" t="t" r="r" b="b"/>
            <a:pathLst>
              <a:path w="17" h="18">
                <a:moveTo>
                  <a:pt x="0" y="18"/>
                </a:moveTo>
                <a:lnTo>
                  <a:pt x="0" y="14"/>
                </a:lnTo>
                <a:lnTo>
                  <a:pt x="4" y="8"/>
                </a:lnTo>
                <a:lnTo>
                  <a:pt x="6" y="0"/>
                </a:lnTo>
                <a:lnTo>
                  <a:pt x="13" y="2"/>
                </a:lnTo>
                <a:lnTo>
                  <a:pt x="15" y="4"/>
                </a:lnTo>
                <a:lnTo>
                  <a:pt x="17" y="12"/>
                </a:lnTo>
                <a:lnTo>
                  <a:pt x="12" y="18"/>
                </a:lnTo>
                <a:lnTo>
                  <a:pt x="4" y="18"/>
                </a:lnTo>
                <a:lnTo>
                  <a:pt x="0" y="18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477040" y="4687920"/>
            <a:ext cx="10800" cy="12600"/>
          </a:xfrm>
          <a:custGeom>
            <a:avLst/>
            <a:gdLst/>
            <a:ahLst/>
            <a:rect l="l" t="t" r="r" b="b"/>
            <a:pathLst>
              <a:path w="15" h="15">
                <a:moveTo>
                  <a:pt x="0" y="15"/>
                </a:moveTo>
                <a:lnTo>
                  <a:pt x="0" y="9"/>
                </a:lnTo>
                <a:lnTo>
                  <a:pt x="1" y="4"/>
                </a:lnTo>
                <a:lnTo>
                  <a:pt x="3" y="0"/>
                </a:lnTo>
                <a:lnTo>
                  <a:pt x="11" y="0"/>
                </a:lnTo>
                <a:lnTo>
                  <a:pt x="13" y="0"/>
                </a:lnTo>
                <a:lnTo>
                  <a:pt x="15" y="2"/>
                </a:lnTo>
                <a:lnTo>
                  <a:pt x="15" y="8"/>
                </a:lnTo>
                <a:lnTo>
                  <a:pt x="11" y="11"/>
                </a:lnTo>
                <a:lnTo>
                  <a:pt x="3" y="13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378400" y="4657680"/>
            <a:ext cx="14400" cy="14400"/>
          </a:xfrm>
          <a:custGeom>
            <a:avLst/>
            <a:gdLst/>
            <a:ahLst/>
            <a:rect l="l" t="t" r="r" b="b"/>
            <a:pathLst>
              <a:path w="17" h="19">
                <a:moveTo>
                  <a:pt x="0" y="19"/>
                </a:moveTo>
                <a:lnTo>
                  <a:pt x="0" y="13"/>
                </a:lnTo>
                <a:lnTo>
                  <a:pt x="2" y="6"/>
                </a:lnTo>
                <a:lnTo>
                  <a:pt x="6" y="0"/>
                </a:lnTo>
                <a:lnTo>
                  <a:pt x="13" y="2"/>
                </a:lnTo>
                <a:lnTo>
                  <a:pt x="13" y="2"/>
                </a:lnTo>
                <a:lnTo>
                  <a:pt x="17" y="9"/>
                </a:lnTo>
                <a:lnTo>
                  <a:pt x="13" y="15"/>
                </a:lnTo>
                <a:lnTo>
                  <a:pt x="4" y="17"/>
                </a:lnTo>
                <a:lnTo>
                  <a:pt x="0" y="19"/>
                </a:lnTo>
                <a:lnTo>
                  <a:pt x="0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533920" y="4716360"/>
            <a:ext cx="11160" cy="14400"/>
          </a:xfrm>
          <a:custGeom>
            <a:avLst/>
            <a:gdLst/>
            <a:ahLst/>
            <a:rect l="l" t="t" r="r" b="b"/>
            <a:pathLst>
              <a:path w="15" h="17">
                <a:moveTo>
                  <a:pt x="0" y="17"/>
                </a:moveTo>
                <a:lnTo>
                  <a:pt x="0" y="11"/>
                </a:lnTo>
                <a:lnTo>
                  <a:pt x="2" y="6"/>
                </a:lnTo>
                <a:lnTo>
                  <a:pt x="4" y="0"/>
                </a:lnTo>
                <a:lnTo>
                  <a:pt x="11" y="0"/>
                </a:lnTo>
                <a:lnTo>
                  <a:pt x="11" y="0"/>
                </a:lnTo>
                <a:lnTo>
                  <a:pt x="13" y="2"/>
                </a:lnTo>
                <a:lnTo>
                  <a:pt x="15" y="10"/>
                </a:lnTo>
                <a:lnTo>
                  <a:pt x="11" y="15"/>
                </a:lnTo>
                <a:lnTo>
                  <a:pt x="4" y="15"/>
                </a:lnTo>
                <a:lnTo>
                  <a:pt x="0" y="17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586480" y="4751280"/>
            <a:ext cx="12600" cy="12960"/>
          </a:xfrm>
          <a:custGeom>
            <a:avLst/>
            <a:gdLst/>
            <a:ahLst/>
            <a:rect l="l" t="t" r="r" b="b"/>
            <a:pathLst>
              <a:path w="16" h="17">
                <a:moveTo>
                  <a:pt x="4" y="17"/>
                </a:moveTo>
                <a:lnTo>
                  <a:pt x="2" y="15"/>
                </a:lnTo>
                <a:lnTo>
                  <a:pt x="2" y="9"/>
                </a:lnTo>
                <a:lnTo>
                  <a:pt x="0" y="4"/>
                </a:lnTo>
                <a:lnTo>
                  <a:pt x="2" y="0"/>
                </a:lnTo>
                <a:lnTo>
                  <a:pt x="4" y="0"/>
                </a:lnTo>
                <a:lnTo>
                  <a:pt x="10" y="2"/>
                </a:lnTo>
                <a:lnTo>
                  <a:pt x="16" y="7"/>
                </a:lnTo>
                <a:lnTo>
                  <a:pt x="14" y="13"/>
                </a:lnTo>
                <a:lnTo>
                  <a:pt x="6" y="15"/>
                </a:lnTo>
                <a:lnTo>
                  <a:pt x="4" y="17"/>
                </a:lnTo>
                <a:lnTo>
                  <a:pt x="4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607000" y="4746600"/>
            <a:ext cx="12600" cy="144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17"/>
                </a:moveTo>
                <a:lnTo>
                  <a:pt x="4" y="13"/>
                </a:lnTo>
                <a:lnTo>
                  <a:pt x="4" y="8"/>
                </a:lnTo>
                <a:lnTo>
                  <a:pt x="0" y="4"/>
                </a:lnTo>
                <a:lnTo>
                  <a:pt x="2" y="2"/>
                </a:lnTo>
                <a:lnTo>
                  <a:pt x="4" y="0"/>
                </a:lnTo>
                <a:lnTo>
                  <a:pt x="11" y="2"/>
                </a:lnTo>
                <a:lnTo>
                  <a:pt x="17" y="8"/>
                </a:lnTo>
                <a:lnTo>
                  <a:pt x="15" y="13"/>
                </a:lnTo>
                <a:lnTo>
                  <a:pt x="8" y="15"/>
                </a:lnTo>
                <a:lnTo>
                  <a:pt x="6" y="17"/>
                </a:lnTo>
                <a:lnTo>
                  <a:pt x="6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619600" y="4761000"/>
            <a:ext cx="14400" cy="14040"/>
          </a:xfrm>
          <a:custGeom>
            <a:avLst/>
            <a:gdLst/>
            <a:ahLst/>
            <a:rect l="l" t="t" r="r" b="b"/>
            <a:pathLst>
              <a:path w="17" h="19">
                <a:moveTo>
                  <a:pt x="4" y="19"/>
                </a:moveTo>
                <a:lnTo>
                  <a:pt x="2" y="15"/>
                </a:lnTo>
                <a:lnTo>
                  <a:pt x="2" y="12"/>
                </a:lnTo>
                <a:lnTo>
                  <a:pt x="0" y="6"/>
                </a:lnTo>
                <a:lnTo>
                  <a:pt x="2" y="2"/>
                </a:lnTo>
                <a:lnTo>
                  <a:pt x="4" y="0"/>
                </a:lnTo>
                <a:lnTo>
                  <a:pt x="10" y="4"/>
                </a:lnTo>
                <a:lnTo>
                  <a:pt x="17" y="8"/>
                </a:lnTo>
                <a:lnTo>
                  <a:pt x="13" y="13"/>
                </a:lnTo>
                <a:lnTo>
                  <a:pt x="6" y="15"/>
                </a:lnTo>
                <a:lnTo>
                  <a:pt x="4" y="19"/>
                </a:lnTo>
                <a:lnTo>
                  <a:pt x="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614920" y="4730760"/>
            <a:ext cx="12600" cy="11160"/>
          </a:xfrm>
          <a:custGeom>
            <a:avLst/>
            <a:gdLst/>
            <a:ahLst/>
            <a:rect l="l" t="t" r="r" b="b"/>
            <a:pathLst>
              <a:path w="16" h="15">
                <a:moveTo>
                  <a:pt x="4" y="15"/>
                </a:moveTo>
                <a:lnTo>
                  <a:pt x="2" y="12"/>
                </a:lnTo>
                <a:lnTo>
                  <a:pt x="0" y="4"/>
                </a:lnTo>
                <a:lnTo>
                  <a:pt x="0" y="0"/>
                </a:lnTo>
                <a:lnTo>
                  <a:pt x="10" y="2"/>
                </a:lnTo>
                <a:lnTo>
                  <a:pt x="12" y="2"/>
                </a:lnTo>
                <a:lnTo>
                  <a:pt x="16" y="6"/>
                </a:lnTo>
                <a:lnTo>
                  <a:pt x="16" y="8"/>
                </a:lnTo>
                <a:lnTo>
                  <a:pt x="12" y="12"/>
                </a:lnTo>
                <a:lnTo>
                  <a:pt x="6" y="15"/>
                </a:lnTo>
                <a:lnTo>
                  <a:pt x="4" y="15"/>
                </a:lnTo>
                <a:lnTo>
                  <a:pt x="4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592600" y="4735440"/>
            <a:ext cx="12960" cy="12600"/>
          </a:xfrm>
          <a:custGeom>
            <a:avLst/>
            <a:gdLst/>
            <a:ahLst/>
            <a:rect l="l" t="t" r="r" b="b"/>
            <a:pathLst>
              <a:path w="15" h="15">
                <a:moveTo>
                  <a:pt x="4" y="15"/>
                </a:moveTo>
                <a:lnTo>
                  <a:pt x="2" y="11"/>
                </a:lnTo>
                <a:lnTo>
                  <a:pt x="0" y="4"/>
                </a:lnTo>
                <a:lnTo>
                  <a:pt x="2" y="0"/>
                </a:lnTo>
                <a:lnTo>
                  <a:pt x="9" y="2"/>
                </a:lnTo>
                <a:lnTo>
                  <a:pt x="13" y="4"/>
                </a:lnTo>
                <a:lnTo>
                  <a:pt x="13" y="4"/>
                </a:lnTo>
                <a:lnTo>
                  <a:pt x="15" y="7"/>
                </a:lnTo>
                <a:lnTo>
                  <a:pt x="11" y="11"/>
                </a:lnTo>
                <a:lnTo>
                  <a:pt x="6" y="15"/>
                </a:lnTo>
                <a:lnTo>
                  <a:pt x="4" y="15"/>
                </a:lnTo>
                <a:lnTo>
                  <a:pt x="4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51600" y="4562640"/>
            <a:ext cx="11160" cy="14040"/>
          </a:xfrm>
          <a:custGeom>
            <a:avLst/>
            <a:gdLst/>
            <a:ahLst/>
            <a:rect l="l" t="t" r="r" b="b"/>
            <a:pathLst>
              <a:path w="15" h="17">
                <a:moveTo>
                  <a:pt x="15" y="17"/>
                </a:moveTo>
                <a:lnTo>
                  <a:pt x="11" y="15"/>
                </a:lnTo>
                <a:lnTo>
                  <a:pt x="5" y="12"/>
                </a:lnTo>
                <a:lnTo>
                  <a:pt x="0" y="8"/>
                </a:lnTo>
                <a:lnTo>
                  <a:pt x="2" y="4"/>
                </a:lnTo>
                <a:lnTo>
                  <a:pt x="4" y="0"/>
                </a:lnTo>
                <a:lnTo>
                  <a:pt x="5" y="0"/>
                </a:lnTo>
                <a:lnTo>
                  <a:pt x="9" y="0"/>
                </a:lnTo>
                <a:lnTo>
                  <a:pt x="15" y="8"/>
                </a:lnTo>
                <a:lnTo>
                  <a:pt x="15" y="14"/>
                </a:lnTo>
                <a:lnTo>
                  <a:pt x="15" y="17"/>
                </a:lnTo>
                <a:lnTo>
                  <a:pt x="15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73920" y="4548240"/>
            <a:ext cx="12600" cy="14400"/>
          </a:xfrm>
          <a:custGeom>
            <a:avLst/>
            <a:gdLst/>
            <a:ahLst/>
            <a:rect l="l" t="t" r="r" b="b"/>
            <a:pathLst>
              <a:path w="15" h="19">
                <a:moveTo>
                  <a:pt x="15" y="19"/>
                </a:moveTo>
                <a:lnTo>
                  <a:pt x="12" y="15"/>
                </a:lnTo>
                <a:lnTo>
                  <a:pt x="4" y="14"/>
                </a:lnTo>
                <a:lnTo>
                  <a:pt x="0" y="8"/>
                </a:lnTo>
                <a:lnTo>
                  <a:pt x="2" y="4"/>
                </a:lnTo>
                <a:lnTo>
                  <a:pt x="4" y="2"/>
                </a:lnTo>
                <a:lnTo>
                  <a:pt x="4" y="2"/>
                </a:lnTo>
                <a:lnTo>
                  <a:pt x="12" y="0"/>
                </a:lnTo>
                <a:lnTo>
                  <a:pt x="15" y="8"/>
                </a:lnTo>
                <a:lnTo>
                  <a:pt x="15" y="15"/>
                </a:lnTo>
                <a:lnTo>
                  <a:pt x="15" y="19"/>
                </a:lnTo>
                <a:lnTo>
                  <a:pt x="15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87960" y="4559400"/>
            <a:ext cx="11160" cy="14040"/>
          </a:xfrm>
          <a:custGeom>
            <a:avLst/>
            <a:gdLst/>
            <a:ahLst/>
            <a:rect l="l" t="t" r="r" b="b"/>
            <a:pathLst>
              <a:path w="16" h="18">
                <a:moveTo>
                  <a:pt x="16" y="18"/>
                </a:moveTo>
                <a:lnTo>
                  <a:pt x="12" y="16"/>
                </a:lnTo>
                <a:lnTo>
                  <a:pt x="6" y="12"/>
                </a:lnTo>
                <a:lnTo>
                  <a:pt x="0" y="8"/>
                </a:lnTo>
                <a:lnTo>
                  <a:pt x="4" y="4"/>
                </a:lnTo>
                <a:lnTo>
                  <a:pt x="4" y="0"/>
                </a:lnTo>
                <a:lnTo>
                  <a:pt x="6" y="0"/>
                </a:lnTo>
                <a:lnTo>
                  <a:pt x="14" y="0"/>
                </a:lnTo>
                <a:lnTo>
                  <a:pt x="16" y="8"/>
                </a:lnTo>
                <a:lnTo>
                  <a:pt x="16" y="14"/>
                </a:lnTo>
                <a:lnTo>
                  <a:pt x="16" y="18"/>
                </a:lnTo>
                <a:lnTo>
                  <a:pt x="1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102360" y="4532400"/>
            <a:ext cx="14400" cy="14040"/>
          </a:xfrm>
          <a:custGeom>
            <a:avLst/>
            <a:gdLst/>
            <a:ahLst/>
            <a:rect l="l" t="t" r="r" b="b"/>
            <a:pathLst>
              <a:path w="18" h="17">
                <a:moveTo>
                  <a:pt x="16" y="17"/>
                </a:moveTo>
                <a:lnTo>
                  <a:pt x="12" y="15"/>
                </a:lnTo>
                <a:lnTo>
                  <a:pt x="6" y="12"/>
                </a:lnTo>
                <a:lnTo>
                  <a:pt x="0" y="8"/>
                </a:lnTo>
                <a:lnTo>
                  <a:pt x="2" y="2"/>
                </a:lnTo>
                <a:lnTo>
                  <a:pt x="6" y="0"/>
                </a:lnTo>
                <a:lnTo>
                  <a:pt x="6" y="0"/>
                </a:lnTo>
                <a:lnTo>
                  <a:pt x="14" y="0"/>
                </a:lnTo>
                <a:lnTo>
                  <a:pt x="18" y="8"/>
                </a:lnTo>
                <a:lnTo>
                  <a:pt x="16" y="14"/>
                </a:lnTo>
                <a:lnTo>
                  <a:pt x="16" y="17"/>
                </a:lnTo>
                <a:lnTo>
                  <a:pt x="16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3"/>
          <a:stretch/>
        </p:blipFill>
        <p:spPr>
          <a:xfrm flipH="1" rot="10800000">
            <a:off x="8077320" y="1218960"/>
            <a:ext cx="7596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0" dur="indefinite" restart="never" nodeType="tmRoot">
          <p:childTnLst>
            <p:seq>
              <p:cTn id="1401" dur="indefinite" nodeType="mainSeq">
                <p:childTnLst>
                  <p:par>
                    <p:cTn id="1402" fill="hold">
                      <p:stCondLst>
                        <p:cond delay="0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8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fill="hold">
                            <p:stCondLst>
                              <p:cond delay="500"/>
                            </p:stCondLst>
                            <p:childTnLst>
                              <p:par>
                                <p:cTn id="14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2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5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7" dur="85499" fill="hold"/>
                                        <p:tgtEl>
                                          <p:spTgt spid="4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"/>
          <p:cNvGrpSpPr/>
          <p:nvPr/>
        </p:nvGrpSpPr>
        <p:grpSpPr>
          <a:xfrm>
            <a:off x="8443800" y="5018040"/>
            <a:ext cx="1461960" cy="1211040"/>
            <a:chOff x="8443800" y="5018040"/>
            <a:chExt cx="1461960" cy="1211040"/>
          </a:xfrm>
        </p:grpSpPr>
        <p:sp>
          <p:nvSpPr>
            <p:cNvPr id="475" name=""/>
            <p:cNvSpPr/>
            <p:nvPr/>
          </p:nvSpPr>
          <p:spPr>
            <a:xfrm>
              <a:off x="8443800" y="5332680"/>
              <a:ext cx="1461960" cy="896400"/>
            </a:xfrm>
            <a:custGeom>
              <a:avLst/>
              <a:gdLst/>
              <a:ahLst/>
              <a:rect l="l" t="t" r="r" b="b"/>
              <a:pathLst>
                <a:path w="531" h="691">
                  <a:moveTo>
                    <a:pt x="183" y="36"/>
                  </a:moveTo>
                  <a:lnTo>
                    <a:pt x="131" y="267"/>
                  </a:lnTo>
                  <a:lnTo>
                    <a:pt x="70" y="465"/>
                  </a:lnTo>
                  <a:lnTo>
                    <a:pt x="0" y="691"/>
                  </a:lnTo>
                  <a:lnTo>
                    <a:pt x="59" y="646"/>
                  </a:lnTo>
                  <a:lnTo>
                    <a:pt x="127" y="596"/>
                  </a:lnTo>
                  <a:lnTo>
                    <a:pt x="165" y="572"/>
                  </a:lnTo>
                  <a:lnTo>
                    <a:pt x="195" y="557"/>
                  </a:lnTo>
                  <a:lnTo>
                    <a:pt x="225" y="548"/>
                  </a:lnTo>
                  <a:lnTo>
                    <a:pt x="253" y="545"/>
                  </a:lnTo>
                  <a:lnTo>
                    <a:pt x="292" y="536"/>
                  </a:lnTo>
                  <a:lnTo>
                    <a:pt x="268" y="460"/>
                  </a:lnTo>
                  <a:lnTo>
                    <a:pt x="298" y="456"/>
                  </a:lnTo>
                  <a:lnTo>
                    <a:pt x="334" y="465"/>
                  </a:lnTo>
                  <a:lnTo>
                    <a:pt x="370" y="486"/>
                  </a:lnTo>
                  <a:lnTo>
                    <a:pt x="398" y="506"/>
                  </a:lnTo>
                  <a:lnTo>
                    <a:pt x="422" y="530"/>
                  </a:lnTo>
                  <a:lnTo>
                    <a:pt x="447" y="553"/>
                  </a:lnTo>
                  <a:lnTo>
                    <a:pt x="486" y="596"/>
                  </a:lnTo>
                  <a:lnTo>
                    <a:pt x="531" y="637"/>
                  </a:lnTo>
                  <a:lnTo>
                    <a:pt x="521" y="490"/>
                  </a:lnTo>
                  <a:lnTo>
                    <a:pt x="497" y="372"/>
                  </a:lnTo>
                  <a:lnTo>
                    <a:pt x="472" y="236"/>
                  </a:lnTo>
                  <a:lnTo>
                    <a:pt x="451" y="136"/>
                  </a:lnTo>
                  <a:lnTo>
                    <a:pt x="437" y="57"/>
                  </a:lnTo>
                  <a:lnTo>
                    <a:pt x="431" y="0"/>
                  </a:lnTo>
                  <a:lnTo>
                    <a:pt x="183" y="3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835120" y="5018040"/>
              <a:ext cx="886320" cy="460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845560" y="5023080"/>
              <a:ext cx="850680" cy="457200"/>
            </a:xfrm>
            <a:custGeom>
              <a:avLst/>
              <a:gdLst/>
              <a:ahLst/>
              <a:rect l="l" t="t" r="r" b="b"/>
              <a:pathLst>
                <a:path w="309" h="352">
                  <a:moveTo>
                    <a:pt x="152" y="0"/>
                  </a:moveTo>
                  <a:lnTo>
                    <a:pt x="141" y="65"/>
                  </a:lnTo>
                  <a:lnTo>
                    <a:pt x="109" y="8"/>
                  </a:lnTo>
                  <a:lnTo>
                    <a:pt x="116" y="71"/>
                  </a:lnTo>
                  <a:lnTo>
                    <a:pt x="77" y="24"/>
                  </a:lnTo>
                  <a:lnTo>
                    <a:pt x="92" y="86"/>
                  </a:lnTo>
                  <a:lnTo>
                    <a:pt x="50" y="48"/>
                  </a:lnTo>
                  <a:lnTo>
                    <a:pt x="74" y="107"/>
                  </a:lnTo>
                  <a:lnTo>
                    <a:pt x="22" y="85"/>
                  </a:lnTo>
                  <a:lnTo>
                    <a:pt x="59" y="133"/>
                  </a:lnTo>
                  <a:lnTo>
                    <a:pt x="5" y="126"/>
                  </a:lnTo>
                  <a:lnTo>
                    <a:pt x="56" y="158"/>
                  </a:lnTo>
                  <a:lnTo>
                    <a:pt x="0" y="174"/>
                  </a:lnTo>
                  <a:lnTo>
                    <a:pt x="56" y="189"/>
                  </a:lnTo>
                  <a:lnTo>
                    <a:pt x="5" y="218"/>
                  </a:lnTo>
                  <a:lnTo>
                    <a:pt x="60" y="219"/>
                  </a:lnTo>
                  <a:lnTo>
                    <a:pt x="20" y="263"/>
                  </a:lnTo>
                  <a:lnTo>
                    <a:pt x="73" y="245"/>
                  </a:lnTo>
                  <a:lnTo>
                    <a:pt x="44" y="299"/>
                  </a:lnTo>
                  <a:lnTo>
                    <a:pt x="92" y="267"/>
                  </a:lnTo>
                  <a:lnTo>
                    <a:pt x="77" y="327"/>
                  </a:lnTo>
                  <a:lnTo>
                    <a:pt x="111" y="283"/>
                  </a:lnTo>
                  <a:lnTo>
                    <a:pt x="110" y="346"/>
                  </a:lnTo>
                  <a:lnTo>
                    <a:pt x="135" y="288"/>
                  </a:lnTo>
                  <a:lnTo>
                    <a:pt x="152" y="352"/>
                  </a:lnTo>
                  <a:lnTo>
                    <a:pt x="165" y="290"/>
                  </a:lnTo>
                  <a:lnTo>
                    <a:pt x="182" y="348"/>
                  </a:lnTo>
                  <a:lnTo>
                    <a:pt x="192" y="285"/>
                  </a:lnTo>
                  <a:lnTo>
                    <a:pt x="220" y="334"/>
                  </a:lnTo>
                  <a:lnTo>
                    <a:pt x="213" y="270"/>
                  </a:lnTo>
                  <a:lnTo>
                    <a:pt x="252" y="307"/>
                  </a:lnTo>
                  <a:lnTo>
                    <a:pt x="233" y="248"/>
                  </a:lnTo>
                  <a:lnTo>
                    <a:pt x="283" y="269"/>
                  </a:lnTo>
                  <a:lnTo>
                    <a:pt x="249" y="223"/>
                  </a:lnTo>
                  <a:lnTo>
                    <a:pt x="302" y="222"/>
                  </a:lnTo>
                  <a:lnTo>
                    <a:pt x="255" y="196"/>
                  </a:lnTo>
                  <a:lnTo>
                    <a:pt x="309" y="174"/>
                  </a:lnTo>
                  <a:lnTo>
                    <a:pt x="253" y="159"/>
                  </a:lnTo>
                  <a:lnTo>
                    <a:pt x="305" y="134"/>
                  </a:lnTo>
                  <a:lnTo>
                    <a:pt x="247" y="131"/>
                  </a:lnTo>
                  <a:lnTo>
                    <a:pt x="293" y="95"/>
                  </a:lnTo>
                  <a:lnTo>
                    <a:pt x="238" y="105"/>
                  </a:lnTo>
                  <a:lnTo>
                    <a:pt x="271" y="58"/>
                  </a:lnTo>
                  <a:lnTo>
                    <a:pt x="221" y="85"/>
                  </a:lnTo>
                  <a:lnTo>
                    <a:pt x="240" y="32"/>
                  </a:lnTo>
                  <a:lnTo>
                    <a:pt x="199" y="71"/>
                  </a:lnTo>
                  <a:lnTo>
                    <a:pt x="206" y="11"/>
                  </a:lnTo>
                  <a:lnTo>
                    <a:pt x="173" y="61"/>
                  </a:lnTo>
                  <a:lnTo>
                    <a:pt x="152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9000000" y="5095800"/>
              <a:ext cx="556200" cy="303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052200" y="5472720"/>
              <a:ext cx="132120" cy="490680"/>
            </a:xfrm>
            <a:custGeom>
              <a:avLst/>
              <a:gdLst/>
              <a:ahLst/>
              <a:rect l="l" t="t" r="r" b="b"/>
              <a:pathLst>
                <a:path w="48" h="377">
                  <a:moveTo>
                    <a:pt x="48" y="347"/>
                  </a:moveTo>
                  <a:lnTo>
                    <a:pt x="21" y="362"/>
                  </a:lnTo>
                  <a:lnTo>
                    <a:pt x="0" y="377"/>
                  </a:lnTo>
                  <a:lnTo>
                    <a:pt x="46" y="0"/>
                  </a:lnTo>
                  <a:lnTo>
                    <a:pt x="4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2797200" y="4530600"/>
            <a:ext cx="4973760" cy="644760"/>
          </a:xfrm>
          <a:prstGeom prst="flowChartPunchedTap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2797200" y="2276640"/>
            <a:ext cx="4622760" cy="1221120"/>
            <a:chOff x="2797200" y="2276640"/>
            <a:chExt cx="4622760" cy="1221120"/>
          </a:xfrm>
        </p:grpSpPr>
        <p:sp>
          <p:nvSpPr>
            <p:cNvPr id="482" name=""/>
            <p:cNvSpPr/>
            <p:nvPr/>
          </p:nvSpPr>
          <p:spPr>
            <a:xfrm>
              <a:off x="2907360" y="2276640"/>
              <a:ext cx="4412160" cy="761760"/>
            </a:xfrm>
            <a:prstGeom prst="rect">
              <a:avLst/>
            </a:prstGeom>
            <a:solidFill>
              <a:srgbClr val="b01221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797200" y="2428920"/>
              <a:ext cx="4622760" cy="1068840"/>
            </a:xfrm>
            <a:prstGeom prst="rect">
              <a:avLst/>
            </a:prstGeom>
            <a:solidFill>
              <a:srgbClr val="b01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a9bda9"/>
                  </a:solidFill>
                  <a:latin typeface="Arial"/>
                  <a:cs typeface="Simplified Arabic"/>
                </a:rPr>
                <a:t>معكم على طريق الإبداع</a:t>
              </a:r>
              <a:r>
                <a:rPr b="1" lang="ar-SA" sz="3200" spc="-1" strike="noStrike">
                  <a:solidFill>
                    <a:srgbClr val="a9bda9"/>
                  </a:solidFill>
                  <a:latin typeface="Arial"/>
                  <a:ea typeface="Simplified Arabic"/>
                </a:rPr>
                <a:t> 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743040" y="4530600"/>
            <a:ext cx="8667720" cy="990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fed3a8"/>
              </a:gs>
            </a:gsLst>
            <a:lin ang="5400000"/>
          </a:gra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نسعى إلى اعداد الإنسان الخبير</a:t>
            </a:r>
            <a:r>
              <a:rPr b="1" lang="ar-SA" sz="32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3219480" y="76320"/>
            <a:ext cx="3467160" cy="1101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448" dur="indefinite" restart="never" nodeType="tmRoot">
          <p:childTnLst>
            <p:seq>
              <p:cTn id="1449" dur="indefinite" nodeType="mainSeq">
                <p:childTnLst>
                  <p:par>
                    <p:cTn id="1450" fill="hold">
                      <p:stCondLst>
                        <p:cond delay="0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500"/>
                            </p:stCondLst>
                            <p:childTnLst>
                              <p:par>
                                <p:cTn id="14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60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4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9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81080" y="380880"/>
            <a:ext cx="5943600" cy="83520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70200" y="533520"/>
            <a:ext cx="431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33"/>
                </a:solidFill>
                <a:latin typeface="Arial"/>
                <a:cs typeface="Simplified Arabic"/>
              </a:rPr>
              <a:t>لكي تفهم الناس افهم نفسك</a:t>
            </a:r>
            <a:r>
              <a:rPr b="1" lang="ar-SA" sz="3200" spc="-1" strike="noStrike">
                <a:solidFill>
                  <a:srgbClr val="333333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486400" y="2895480"/>
            <a:ext cx="2666520" cy="1069560"/>
            <a:chOff x="5486400" y="2895480"/>
            <a:chExt cx="2666520" cy="1069560"/>
          </a:xfrm>
        </p:grpSpPr>
        <p:grpSp>
          <p:nvGrpSpPr>
            <p:cNvPr id="111" name=""/>
            <p:cNvGrpSpPr/>
            <p:nvPr/>
          </p:nvGrpSpPr>
          <p:grpSpPr>
            <a:xfrm>
              <a:off x="5486400" y="2895480"/>
              <a:ext cx="2666520" cy="793800"/>
              <a:chOff x="5486400" y="2895480"/>
              <a:chExt cx="2666520" cy="793800"/>
            </a:xfrm>
          </p:grpSpPr>
          <p:sp>
            <p:nvSpPr>
              <p:cNvPr id="112" name=""/>
              <p:cNvSpPr/>
              <p:nvPr/>
            </p:nvSpPr>
            <p:spPr>
              <a:xfrm>
                <a:off x="5486400" y="2895480"/>
                <a:ext cx="2666520" cy="79380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ed3a8"/>
                  </a:gs>
                </a:gsLst>
                <a:lin ang="5400000"/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586480" y="3070080"/>
                <a:ext cx="2410200" cy="50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5695200" y="3017880"/>
              <a:ext cx="2342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10101"/>
                  </a:solidFill>
                  <a:latin typeface="Arial"/>
                  <a:cs typeface="Simplified Arabic"/>
                </a:rPr>
                <a:t>ما الذي يرضيك ؟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676520" y="2895480"/>
            <a:ext cx="2666520" cy="1069560"/>
            <a:chOff x="1676520" y="2895480"/>
            <a:chExt cx="2666520" cy="1069560"/>
          </a:xfrm>
        </p:grpSpPr>
        <p:grpSp>
          <p:nvGrpSpPr>
            <p:cNvPr id="116" name=""/>
            <p:cNvGrpSpPr/>
            <p:nvPr/>
          </p:nvGrpSpPr>
          <p:grpSpPr>
            <a:xfrm>
              <a:off x="1676520" y="2895480"/>
              <a:ext cx="2666520" cy="793800"/>
              <a:chOff x="1676520" y="2895480"/>
              <a:chExt cx="2666520" cy="793800"/>
            </a:xfrm>
          </p:grpSpPr>
          <p:sp>
            <p:nvSpPr>
              <p:cNvPr id="117" name=""/>
              <p:cNvSpPr/>
              <p:nvPr/>
            </p:nvSpPr>
            <p:spPr>
              <a:xfrm>
                <a:off x="1676520" y="2895480"/>
                <a:ext cx="2666520" cy="79380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ed3a8"/>
                  </a:gs>
                </a:gsLst>
                <a:lin ang="5400000"/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76600" y="3070080"/>
                <a:ext cx="2410200" cy="50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885320" y="3017880"/>
              <a:ext cx="2342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10101"/>
                  </a:solidFill>
                  <a:latin typeface="Arial"/>
                  <a:cs typeface="Simplified Arabic"/>
                </a:rPr>
                <a:t>ما الذي يغضبك ؟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676520" y="1655640"/>
            <a:ext cx="2666520" cy="1130040"/>
            <a:chOff x="1676520" y="1655640"/>
            <a:chExt cx="2666520" cy="1130040"/>
          </a:xfrm>
        </p:grpSpPr>
        <p:grpSp>
          <p:nvGrpSpPr>
            <p:cNvPr id="121" name=""/>
            <p:cNvGrpSpPr/>
            <p:nvPr/>
          </p:nvGrpSpPr>
          <p:grpSpPr>
            <a:xfrm>
              <a:off x="1676520" y="1655640"/>
              <a:ext cx="2666520" cy="793800"/>
              <a:chOff x="1676520" y="1655640"/>
              <a:chExt cx="2666520" cy="793800"/>
            </a:xfrm>
          </p:grpSpPr>
          <p:sp>
            <p:nvSpPr>
              <p:cNvPr id="122" name=""/>
              <p:cNvSpPr/>
              <p:nvPr/>
            </p:nvSpPr>
            <p:spPr>
              <a:xfrm>
                <a:off x="1676520" y="1655640"/>
                <a:ext cx="2666520" cy="79380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ed3a8"/>
                  </a:gs>
                </a:gsLst>
                <a:lin ang="5400000"/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76600" y="1830240"/>
                <a:ext cx="2410200" cy="50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1885320" y="1778040"/>
              <a:ext cx="23425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0" spc="-1" strike="noStrike">
                  <a:solidFill>
                    <a:srgbClr val="010101"/>
                  </a:solidFill>
                  <a:latin typeface="Arial"/>
                  <a:cs typeface="Simplified Arabic"/>
                </a:rPr>
                <a:t>بماذا تهتم ؟</a:t>
              </a:r>
              <a:endParaRPr b="0" lang="en-US" sz="3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486400" y="1644480"/>
            <a:ext cx="2666520" cy="793800"/>
            <a:chOff x="5486400" y="1644480"/>
            <a:chExt cx="2666520" cy="793800"/>
          </a:xfrm>
        </p:grpSpPr>
        <p:grpSp>
          <p:nvGrpSpPr>
            <p:cNvPr id="126" name=""/>
            <p:cNvGrpSpPr/>
            <p:nvPr/>
          </p:nvGrpSpPr>
          <p:grpSpPr>
            <a:xfrm>
              <a:off x="5486400" y="1644480"/>
              <a:ext cx="2666520" cy="793800"/>
              <a:chOff x="5486400" y="1644480"/>
              <a:chExt cx="2666520" cy="793800"/>
            </a:xfrm>
          </p:grpSpPr>
          <p:sp>
            <p:nvSpPr>
              <p:cNvPr id="127" name=""/>
              <p:cNvSpPr/>
              <p:nvPr/>
            </p:nvSpPr>
            <p:spPr>
              <a:xfrm>
                <a:off x="5486400" y="1644480"/>
                <a:ext cx="2666520" cy="79380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ed3a8"/>
                  </a:gs>
                </a:gsLst>
                <a:lin ang="5400000"/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586480" y="1819080"/>
                <a:ext cx="2410200" cy="50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5695200" y="1766880"/>
              <a:ext cx="2342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0" spc="-1" strike="noStrike">
                  <a:solidFill>
                    <a:srgbClr val="010101"/>
                  </a:solidFill>
                  <a:latin typeface="Arial"/>
                  <a:cs typeface="Simplified Arabic"/>
                </a:rPr>
                <a:t>ماذا تريد  ؟</a:t>
              </a:r>
              <a:endParaRPr b="0" lang="en-US" sz="3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990720" y="5470560"/>
            <a:ext cx="7848360" cy="10076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0033"/>
                </a:solidFill>
                <a:latin typeface="Arial"/>
                <a:cs typeface="Simplified Arabic"/>
              </a:rPr>
              <a:t>أنت واحد من الناس وما يؤثر فيك يؤثر فيهم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819520" y="4114800"/>
            <a:ext cx="4266360" cy="793800"/>
            <a:chOff x="2819520" y="4114800"/>
            <a:chExt cx="4266360" cy="793800"/>
          </a:xfrm>
        </p:grpSpPr>
        <p:grpSp>
          <p:nvGrpSpPr>
            <p:cNvPr id="132" name=""/>
            <p:cNvGrpSpPr/>
            <p:nvPr/>
          </p:nvGrpSpPr>
          <p:grpSpPr>
            <a:xfrm>
              <a:off x="2819520" y="4114800"/>
              <a:ext cx="4266360" cy="793800"/>
              <a:chOff x="2819520" y="4114800"/>
              <a:chExt cx="4266360" cy="793800"/>
            </a:xfrm>
          </p:grpSpPr>
          <p:sp>
            <p:nvSpPr>
              <p:cNvPr id="133" name=""/>
              <p:cNvSpPr/>
              <p:nvPr/>
            </p:nvSpPr>
            <p:spPr>
              <a:xfrm>
                <a:off x="2819520" y="4114800"/>
                <a:ext cx="4266360" cy="79380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ed3a8"/>
                  </a:gs>
                </a:gsLst>
                <a:lin ang="5400000"/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79360" y="4289400"/>
                <a:ext cx="3855960" cy="50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3153600" y="4237200"/>
              <a:ext cx="3747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788840" y="4221000"/>
            <a:ext cx="617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10101"/>
                </a:solidFill>
                <a:latin typeface="Arial"/>
                <a:cs typeface="Simplified Arabic"/>
              </a:rPr>
              <a:t>متى تقول نعم ومتى  تقول لا ؟</a:t>
            </a:r>
            <a:r>
              <a:rPr b="1" lang="ar-SA" sz="3200" spc="-1" strike="noStrike">
                <a:solidFill>
                  <a:srgbClr val="010101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 rot="10800000">
            <a:off x="5638680" y="54100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33855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111640" y="1525680"/>
            <a:ext cx="4032360" cy="106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63360">
            <a:solidFill>
              <a:srgbClr val="800080"/>
            </a:solidFill>
            <a:prstDash val="sysDot"/>
            <a:miter/>
          </a:ln>
          <a:effectLst>
            <a:outerShdw dist="107932" dir="135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ماذا تريد من الآخرين ؟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81360" y="2909880"/>
            <a:ext cx="4305240" cy="52056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ff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أن يعـاملـوك باحتـرا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8280" y="457200"/>
            <a:ext cx="495324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66"/>
                </a:solidFill>
                <a:latin typeface="Arial"/>
                <a:cs typeface="Simplified Arabic"/>
              </a:rPr>
              <a:t>افهـم نفسك</a:t>
            </a:r>
            <a:r>
              <a:rPr b="1" lang="ar-SA" sz="34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81360" y="3747960"/>
            <a:ext cx="4305240" cy="52056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ff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أن يشعروا بأهميتك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81360" y="4586400"/>
            <a:ext cx="4305240" cy="52056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ff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أن يفهموا وجهة نظرك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43200" y="5500800"/>
            <a:ext cx="4305240" cy="94716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ff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أن يراعوا مصالحك ورغباتك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 flipH="1">
            <a:off x="5035320" y="2305080"/>
            <a:ext cx="7596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62825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048120" y="1935720"/>
            <a:ext cx="392436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63360">
            <a:solidFill>
              <a:srgbClr val="800080"/>
            </a:solidFill>
            <a:prstDash val="sysDot"/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بماذا تهتم ؟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3672000"/>
            <a:ext cx="4305600" cy="94716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مصالحك المادية والمعنوي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38280" y="533520"/>
            <a:ext cx="4953240" cy="76176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66"/>
                </a:solidFill>
                <a:latin typeface="Arial"/>
                <a:cs typeface="Simplified Arabic"/>
              </a:rPr>
              <a:t>افهـم نفسك</a:t>
            </a:r>
            <a:r>
              <a:rPr b="1" lang="ar-SA" sz="34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4662360"/>
            <a:ext cx="4305600" cy="52056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رغبــات والهــوايات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 flipH="1" rot="10800000">
            <a:off x="6896160" y="247176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77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770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71759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438280" y="622440"/>
            <a:ext cx="5181840" cy="67284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ff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ff"/>
                </a:solidFill>
                <a:latin typeface="Arial"/>
                <a:cs typeface="Simplified Arabic"/>
              </a:rPr>
              <a:t>بدايـة التـواصـل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1981080"/>
            <a:ext cx="8381880" cy="42516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50000">
                <a:srgbClr val="fef3e9"/>
              </a:gs>
              <a:gs pos="100000">
                <a:srgbClr val="ffcc99"/>
              </a:gs>
            </a:gsLst>
            <a:lin ang="5400000"/>
          </a:gradFill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2971800"/>
            <a:ext cx="6553080" cy="1007640"/>
          </a:xfrm>
          <a:prstGeom prst="rect">
            <a:avLst/>
          </a:prstGeom>
          <a:noFill/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333333"/>
                </a:solidFill>
                <a:latin typeface="Arial"/>
                <a:cs typeface="Simplified Arabic"/>
              </a:rPr>
              <a:t>اخرج من حدود ذاتك ومصالحك ورغباتك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4041720"/>
            <a:ext cx="6553080" cy="1007640"/>
          </a:xfrm>
          <a:prstGeom prst="rect">
            <a:avLst/>
          </a:prstGeom>
          <a:noFill/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333333"/>
                </a:solidFill>
                <a:latin typeface="Arial"/>
                <a:cs typeface="Simplified Arabic"/>
              </a:rPr>
              <a:t>عندما تقول : أنا أولاً يكون الرد : بل أنا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5032440"/>
            <a:ext cx="6553080" cy="1007640"/>
          </a:xfrm>
          <a:prstGeom prst="rect">
            <a:avLst/>
          </a:prstGeom>
          <a:noFill/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333333"/>
                </a:solidFill>
                <a:latin typeface="Arial"/>
                <a:cs typeface="Simplified Arabic"/>
              </a:rPr>
              <a:t>عندما تقول : أنت أولاً يكون الرد : وأنت أيضاً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206960" y="1284120"/>
            <a:ext cx="1888920" cy="16876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 flipH="1" rot="10800000">
            <a:off x="4876920" y="1981080"/>
            <a:ext cx="7596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53917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257480" y="304920"/>
            <a:ext cx="7429320" cy="761760"/>
          </a:xfrm>
          <a:prstGeom prst="plus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مداخل السهلة إلى العقول والقلوب</a:t>
            </a:r>
            <a:endParaRPr b="0" lang="en-US" sz="3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2832120"/>
            <a:ext cx="7391520" cy="8254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نحن نحترم الكبير وصاحب المنصب لأنه مهـ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4038480"/>
            <a:ext cx="7391520" cy="82548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هل تعرف شخصاً واحداً في العالم يعتقد أنه غير مهم ؟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8991720" y="31273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9058320" y="425448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295280" y="5270400"/>
            <a:ext cx="7391520" cy="82548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Arial"/>
                <a:cs typeface="Simplified Arabic"/>
              </a:rPr>
              <a:t>أتفق مع الشخص الآخر أنه مهم وسوف يتفق معك في كل شيء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9058320" y="54864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377120" y="144792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8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1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71800" y="1371600"/>
            <a:ext cx="4005360" cy="79200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66"/>
                </a:solidFill>
                <a:latin typeface="Arial"/>
                <a:cs typeface="Simplified Arabic"/>
              </a:rPr>
              <a:t>الاحترام والتقدير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9"/>
          <a:stretch/>
        </p:blipFill>
        <p:spPr>
          <a:xfrm flipH="1" rot="10800000">
            <a:off x="9058320" y="3365280"/>
            <a:ext cx="7632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500"/>
                            </p:stCondLst>
                            <p:childTnLst>
                              <p:par>
                                <p:cTn id="2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162769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57480" y="304920"/>
            <a:ext cx="7429320" cy="761760"/>
          </a:xfrm>
          <a:prstGeom prst="plus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مداخل السهلة إلى العقول والقلوب</a:t>
            </a:r>
            <a:endParaRPr b="0" lang="en-US" sz="3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2590920"/>
            <a:ext cx="7391520" cy="8254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كيف تلوم الناس على أخطاء يمكن أن تقع أنت فيها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3568680"/>
            <a:ext cx="7391520" cy="153684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نحن نرى أخطاءنا صغيرة ونجد لها أعذار أما أخطاء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آخرين فهي كبيرة ولا تغتفر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8991720" y="28861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9058320" y="41814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295280" y="5270400"/>
            <a:ext cx="7391520" cy="82548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اجعل تصحيح الخطأ يبدو سهلاً وجدد الثقة بالمخطئ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7"/>
          <a:stretch/>
        </p:blipFill>
        <p:spPr>
          <a:xfrm>
            <a:off x="9058320" y="55530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453440" y="147960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8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bdd7e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2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1403280"/>
            <a:ext cx="4005000" cy="79236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التسامح والبحث عن العذر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9"/>
          <a:stretch/>
        </p:blipFill>
        <p:spPr>
          <a:xfrm rot="10800000">
            <a:off x="9058320" y="31240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77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770" fill="hold"/>
                                        <p:tgtEl>
                                          <p:spTgt spid="1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1" dur="77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500"/>
                            </p:stCondLst>
                            <p:childTnLst>
                              <p:par>
                                <p:cTn id="2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500"/>
                            </p:stCondLst>
                            <p:childTnLst>
                              <p:par>
                                <p:cTn id="2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9" dur="104804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57480" y="304920"/>
            <a:ext cx="7429320" cy="761760"/>
          </a:xfrm>
          <a:prstGeom prst="plus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مداخل السهلة إلى العقول والقلوب</a:t>
            </a:r>
            <a:endParaRPr b="0" lang="en-US" sz="3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95280" y="2590920"/>
            <a:ext cx="7391520" cy="8254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ffffff"/>
                </a:solidFill>
                <a:latin typeface="Arial"/>
                <a:cs typeface="Simplified Arabic"/>
              </a:rPr>
              <a:t>كل شخص يعتقد دائماً أنه على حق وأن آراءه منطقية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3568680"/>
            <a:ext cx="7391520" cy="153684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حتى لو اختلفت مع الآخر في الرأي وتأكدت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أنه على خطأ حاول أن تفهم وجهة نظره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8991720" y="28861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9058320" y="41814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295280" y="5270400"/>
            <a:ext cx="7391520" cy="82548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استخفاف بآراء الآخرين يدفعهم إلى المقاومة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>
            <a:off x="9058320" y="55530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7453440" y="147960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8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3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8120" y="1403280"/>
            <a:ext cx="4005000" cy="79236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  <a:cs typeface="Simplified Arabic"/>
              </a:rPr>
              <a:t>افهم وجهة نظر الشخص الآخ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9"/>
          <a:stretch/>
        </p:blipFill>
        <p:spPr>
          <a:xfrm flipH="1" rot="10800000">
            <a:off x="9058320" y="31240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500"/>
                            </p:stCondLst>
                            <p:childTnLst>
                              <p:par>
                                <p:cTn id="3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000"/>
                            </p:stCondLst>
                            <p:childTnLst>
                              <p:par>
                                <p:cTn id="3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500"/>
                            </p:stCondLst>
                            <p:childTnLst>
                              <p:par>
                                <p:cTn id="3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8" dur="50574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10T05:35:38Z</dcterms:created>
  <dc:creator>Hussein Yaghi</dc:creator>
  <dc:description/>
  <dc:language>en-US</dc:language>
  <cp:lastModifiedBy>memar</cp:lastModifiedBy>
  <cp:lastPrinted>1997-07-29T15:57:20Z</cp:lastPrinted>
  <dcterms:modified xsi:type="dcterms:W3CDTF">2004-12-02T18:15:28Z</dcterms:modified>
  <cp:revision>619</cp:revision>
  <dc:subject/>
  <dc:title>No Slide Title</dc:title>
</cp:coreProperties>
</file>